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0E5-8EB1-4158-ACD5-80B9D2AD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1360-8BD7-4C8F-9C4E-BB9708B8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78A-31D2-441A-BE18-BF5F2085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AEF8-440B-4830-A7E5-15BBF0CC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1ABF-BA8E-448B-A656-F35DE1C7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8ACB-48C1-454A-8CEE-E3042DA5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B970-1252-436F-AD82-BA8DDAA4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D854-92BB-463E-B7F7-CF77F49F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FC72-2CD2-418A-B31F-469833B5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D3A7-7FA8-4A2D-8DB4-F4BFF39A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FA27-E2A5-492F-92A2-D90037F7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C1EE-18CA-4F27-8556-70368912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BCDA-B150-4579-BF6E-AB9036E1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7D22-5FCA-4691-9367-82832667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2D40-538D-44CF-A0CA-AC17B552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4E56-32BE-497D-A447-2422DFC0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C846-A429-4644-BEAD-9AEF9929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DC3F-ED6A-43E4-B2C4-FEE1DABC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E9D9-5787-4A37-96C8-2FF612EA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A888-3A53-4DB1-97FB-0C94E6E2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9523-1984-40B0-AE6B-1F2336E3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71B-6663-4993-864E-539A3C82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87B-1EC8-4A7B-A393-D9FCF6F8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E4E8-62D0-4855-82F7-6B5453AE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92FC-B619-4C00-A2B1-002E8F1C4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0CAC-F301-4DFD-8EA7-0FB2570646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he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er dan alleen spui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in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ff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dek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chtafslu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derdrukken met krui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itmaai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offel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71640" y="134928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z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fdekken met boomschors of houtsnipper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5429160" cy="2000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59280" y="3645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chtafsluitende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16000" y="1447920"/>
            <a:ext cx="705636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zaaien met krui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8580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itmaaien van beplanting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195640" y="1773360"/>
            <a:ext cx="45370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emis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leks-gewijs spuiten met kleine sp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handeling van stobb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el meer is niet meer mogelij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p (half-)verhardingen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n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rst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smaaier met ko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uiten met een chemisch mid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et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rand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376280"/>
            <a:ext cx="91440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orst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4033800" cy="5445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3876840" cy="289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427640" y="3314880"/>
            <a:ext cx="47163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osmaaier met koor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962440"/>
            <a:ext cx="5113440" cy="389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508720" y="1268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 spuiten na detect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449440"/>
            <a:ext cx="9144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92480" y="-3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nk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door sto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59770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nkruidbestrijding met heet wat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684036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0:45:13Z</dcterms:created>
  <dc:creator>Administrator</dc:creator>
  <dc:description/>
  <dc:language>en-US</dc:language>
  <cp:lastModifiedBy>laptop</cp:lastModifiedBy>
  <dcterms:modified xsi:type="dcterms:W3CDTF">2009-06-02T09:12:30Z</dcterms:modified>
  <cp:revision>6</cp:revision>
  <dc:subject/>
  <dc:title>Onkruidbeheer</dc:title>
</cp:coreProperties>
</file>