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81FE-2C0B-412F-A02E-FD0FBC67A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B590-3BFF-4A4C-B37B-1C24DAD6E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8235-94A9-4FA2-95A6-05D6D958D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C85C-01D4-496C-A90F-C7EA5DE44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E978F-04D3-401E-8A0B-BCE8FC37D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7FB15-855C-481E-9976-01F8E8679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46F06-D7F9-4C02-BAAE-8B9CD2B4C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D5A64-B9B5-4423-ACA5-0F59BAF48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76418-2975-46A6-88B2-73261E428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775B5-7698-4B0E-A856-D3BB8449C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9202E-FE06-485B-8B6D-8AB56F48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9265-6FF5-4383-8DCA-8D7219B0C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03ABA-B37A-4332-80EE-EE8313D7A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CEBE5-22D6-4F1A-B8B7-1B327BDF7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BFB30-A8D1-42EC-A8F3-4A20FBFCF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62C98-0C90-405D-9703-2B4D29BAB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6158B-95A3-4E20-B958-E3FE0013B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E8C66-7699-448A-9D7F-A3AF80C5A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176AD-CA81-4CF8-98F4-1A1F24775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BA4F1-E906-4D94-B0F0-27D921BF8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E95E9-7A4F-4B70-A9CD-867CD0F1C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D989E-B233-4568-9AC5-C5F9C3214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69EA-C190-4E35-8CB7-1482712FC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89B54-392C-4B97-A1A1-DB51C7EE7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5AE99-CF48-496F-81C6-812ACE6D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AD501-C9C4-447C-BDBC-F6B14D11D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B4030-7537-4DF8-9573-FB5E5EC5A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47EF8-886A-4113-9C24-6367E7A78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36B0A-340C-4119-B8C9-5B174B5EF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1AA81-1828-4CFC-9787-A517C3532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CE90-13BA-4B84-83C6-56797D883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5AF2-D4F9-450F-B6E5-7AC2ED042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4EC7-C7F6-4541-B418-A82FE0133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55FF-DCFA-411C-976B-A889E5749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E5C1-A28F-46E6-AF01-868A3B781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B0ED-762E-4C84-8D8C-2C428678F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FD153-6FC6-470E-A803-7BA0D51712C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2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5603F-DB5D-428B-9574-ACA7FDDB3E7F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92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4BD4A-437D-4101-BE4F-865041E6D207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natuurkalender.nl/" TargetMode="External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618920" y="907920"/>
            <a:ext cx="68389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b7"/>
                </a:solidFill>
                <a:latin typeface="Tahoma"/>
              </a:rPr>
              <a:t>Waar zit de schapenteek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2500200"/>
            <a:ext cx="8007480" cy="35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emengd loofbos met onderbegroeiing van varens en blauwe bosb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ennenbossen met dichte opgaande grassenbegroei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os- en duingebieden en stadspar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Verplaatsing door kleine knaagdi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32000" y="836280"/>
            <a:ext cx="7524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b7"/>
                </a:solidFill>
                <a:latin typeface="Tahoma"/>
              </a:rPr>
              <a:t>Gedrag van de schapenteek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7720" y="2500200"/>
            <a:ext cx="8007480" cy="35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ongerige teken klimmen langs stengels van grassen, planten en stui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Overstap na huidcont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619280" y="692280"/>
            <a:ext cx="7524720" cy="12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b7"/>
                </a:solidFill>
                <a:latin typeface="Tahoma"/>
              </a:rPr>
              <a:t>Seizoenrisico op besmetting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2565360"/>
            <a:ext cx="77724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einfecteerde teken blijven hele leven besmettelij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Teek actief van mei-se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Piek: mei-ju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618920" y="1052640"/>
            <a:ext cx="6838920" cy="98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b7"/>
                </a:solidFill>
                <a:latin typeface="Tahoma"/>
              </a:rPr>
              <a:t>Hoe kan ik me beschermen?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565360"/>
            <a:ext cx="77724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Teken lopen over door huidcontact met de vegeta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Sokken en broekspijpen insmeren met DEET (min. 30%)= antimuggenmid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Met pyrethrine geimpregneerde kle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Tahoma"/>
              </a:rPr>
              <a:t>Verwijderen van de teek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084720" y="1484280"/>
            <a:ext cx="2760840" cy="47530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5558040" y="6093000"/>
            <a:ext cx="30808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baseline="-25000">
                <a:solidFill>
                  <a:srgbClr val="ffffff"/>
                </a:solidFill>
                <a:latin typeface="Tahoma"/>
              </a:rPr>
              <a:t>Het juiste gebruik van de tekenpen</a:t>
            </a:r>
            <a:br>
              <a:rPr sz="2400"/>
            </a:br>
            <a:r>
              <a:rPr b="0" lang="nl-NL" sz="2400" spc="-1" strike="noStrike" baseline="-25000">
                <a:solidFill>
                  <a:srgbClr val="ffffff"/>
                </a:solidFill>
                <a:latin typeface="Tahoma"/>
              </a:rPr>
              <a:t>om een teek te verwijder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557360"/>
            <a:ext cx="59734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Inspecteer het lich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Teek binnen 24 uur verwijd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Gebruik tekenp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Ontsmet het wond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Hou de plek in de gaten op rode vle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18920" y="1052640"/>
            <a:ext cx="6838920" cy="98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Tahoma"/>
              </a:rPr>
              <a:t>Toch geinfecteerd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2565360"/>
            <a:ext cx="77724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Raadpleeg huisarts, liefst als rode plek nog zichtbaar 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ij elke beet -&gt; huisar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837720" y="2792520"/>
            <a:ext cx="8007480" cy="33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Tahoma"/>
              </a:rPr>
              <a:t>Einde presentati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edankt voor uw aandac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Zie ook </a:t>
            </a:r>
            <a:r>
              <a:rPr b="0" lang="nl-NL" sz="3200" spc="-1" strike="noStrike" u="sng">
                <a:solidFill>
                  <a:srgbClr val="99ff66"/>
                </a:solidFill>
                <a:uFillTx/>
                <a:latin typeface="Tahoma"/>
                <a:hlinkClick r:id="rId2"/>
              </a:rPr>
              <a:t>www.natuurkalender.n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84360" y="2133720"/>
            <a:ext cx="795816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278f01"/>
                </a:solidFill>
                <a:latin typeface="Tahoma"/>
              </a:rPr>
              <a:t>Tek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b7"/>
                </a:solidFill>
                <a:latin typeface="Tahoma"/>
              </a:rPr>
              <a:t>De Ziekte van Ly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b7"/>
                </a:solidFill>
                <a:latin typeface="Tahoma"/>
              </a:rPr>
              <a:t>Welk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11280" y="1052640"/>
            <a:ext cx="8532720" cy="98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b7"/>
                </a:solidFill>
                <a:latin typeface="Tahoma"/>
              </a:rPr>
              <a:t>Larve-nimf-mannetje-vrouwtje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763640" y="1857240"/>
            <a:ext cx="5832720" cy="4689720"/>
            <a:chOff x="1763640" y="1857240"/>
            <a:chExt cx="5832720" cy="4689720"/>
          </a:xfrm>
        </p:grpSpPr>
        <p:pic>
          <p:nvPicPr>
            <p:cNvPr id="141" name="" descr=""/>
            <p:cNvPicPr/>
            <p:nvPr/>
          </p:nvPicPr>
          <p:blipFill>
            <a:blip r:embed="rId2"/>
            <a:stretch/>
          </p:blipFill>
          <p:spPr>
            <a:xfrm>
              <a:off x="1763640" y="1857240"/>
              <a:ext cx="5832720" cy="468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 txBox="1"/>
            <p:nvPr/>
          </p:nvSpPr>
          <p:spPr>
            <a:xfrm>
              <a:off x="1763640" y="1857240"/>
              <a:ext cx="5832720" cy="4689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98160" y="765000"/>
            <a:ext cx="7845480" cy="9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Tahoma"/>
              </a:rPr>
              <a:t>Wat is de ziekte van Lyme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532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orrelia bacter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Leeft in bloed van kleine zoogdieren en vog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10% teken geinfectee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esmetting na ca 24 u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Na 2 weken -&gt; rode vl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rdwijnt na een paar wek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aarna -&gt; ziekteverschijnsel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5940360" y="2349360"/>
            <a:ext cx="3076560" cy="28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18920" y="1052640"/>
            <a:ext cx="6838920" cy="98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Tahoma"/>
              </a:rPr>
              <a:t>Ziekteverschijnsele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2500200"/>
            <a:ext cx="8007480" cy="35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spierpijn, gewrichtspijn, hoofd/nekpijn, rugpijnen, vermoeidheid, nachtelijk zweten, evenwichtsproblemen, verhoogde pols, hartruizen, tachycardie, evenwichtsproblemen, gehoorproblemen enz. Bij enkele patiënten treedt infectie van het centrale zenuwstelsel op. Men spreekt dan van neuroborrelios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18920" y="1052640"/>
            <a:ext cx="6838920" cy="98712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Tahoma"/>
              </a:rPr>
              <a:t>Genezi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2500200"/>
            <a:ext cx="8007480" cy="35956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n vroeg stadium goed te genezen met antibiotic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iagnose is een proble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aardoor vak lang onbehande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19280" y="692280"/>
            <a:ext cx="722304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Tahoma"/>
              </a:rPr>
              <a:t>De Schapenteek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45352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e belangrijkste overbren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Algemeen in bossen en struikgew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Niet in open terre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Overleven op grote graz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5334120" y="155736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5401080" y="5411880"/>
            <a:ext cx="32454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baseline="-25000">
                <a:solidFill>
                  <a:srgbClr val="ffffff"/>
                </a:solidFill>
                <a:latin typeface="Tahoma"/>
              </a:rPr>
              <a:t>Teek die op een plant omhoog kruipt</a:t>
            </a:r>
            <a:br>
              <a:rPr sz="2400"/>
            </a:br>
            <a:r>
              <a:rPr b="0" lang="nl-NL" sz="2400" spc="-1" strike="noStrike" baseline="-25000">
                <a:solidFill>
                  <a:srgbClr val="ffffff"/>
                </a:solidFill>
                <a:latin typeface="Tahoma"/>
              </a:rPr>
              <a:t>Foto: Fedor Gassn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5508720" y="1484280"/>
            <a:ext cx="7128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8316720" cy="43862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671480" y="857160"/>
            <a:ext cx="57088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 baseline="-25000">
                <a:solidFill>
                  <a:srgbClr val="ffffff"/>
                </a:solidFill>
                <a:latin typeface="Tahoma"/>
              </a:rPr>
              <a:t>Ontwikkeling van de ziekte in N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51680" y="5950080"/>
            <a:ext cx="79470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baseline="-25000">
                <a:solidFill>
                  <a:srgbClr val="ffffff"/>
                </a:solidFill>
                <a:latin typeface="Tahoma"/>
              </a:rPr>
              <a:t>Erythema migrans (ontstaan van een rode vlek), veroorzaakt door besmetting met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 baseline="-25000">
                <a:solidFill>
                  <a:srgbClr val="ffffff"/>
                </a:solidFill>
                <a:latin typeface="Tahoma"/>
              </a:rPr>
              <a:t>Borrelia</a:t>
            </a:r>
            <a:r>
              <a:rPr b="0" lang="nl-NL" sz="2400" spc="-1" strike="noStrike" baseline="-25000">
                <a:solidFill>
                  <a:srgbClr val="ffffff"/>
                </a:solidFill>
                <a:latin typeface="Tahoma"/>
              </a:rPr>
              <a:t> parasiet, per 100.000 mensen, in Nederland in 1994, 2001 en 2005 (bron: RIVM 2006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5508720" y="1484280"/>
            <a:ext cx="7128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47640" y="765000"/>
            <a:ext cx="6839280" cy="9874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Tahoma"/>
              </a:rPr>
              <a:t>Ziektegevallen in N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2565360"/>
            <a:ext cx="7772400" cy="353052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In 1994 23.000 artsbezoeken en 6.000 mensen zi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In 2001 60.000 artsbezoeken en 13.000 mensen zi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In 2005 73.000 artsbezoeken en 17.000 mensen zi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12:57:14Z</dcterms:created>
  <dc:creator>fikse</dc:creator>
  <dc:description/>
  <dc:language>en-US</dc:language>
  <cp:lastModifiedBy>Peter</cp:lastModifiedBy>
  <cp:lastPrinted>2005-05-24T09:08:19Z</cp:lastPrinted>
  <dcterms:modified xsi:type="dcterms:W3CDTF">2007-06-25T15:25:58Z</dcterms:modified>
  <cp:revision>6</cp:revision>
  <dc:subject/>
  <dc:title>Dia 1</dc:title>
</cp:coreProperties>
</file>