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904D-1089-4460-814B-B219EE4D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9AB-BCE4-48A6-9646-72E26D3A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2BA-2C14-4803-95AA-7BADB37F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8E28-F843-4CD6-BDBC-37F79E47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BE7F-B471-4572-854F-3C606F76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C35D-04D5-4E4E-8A29-B6C1E75B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304A-FFF6-40B6-B9AE-06FF794B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5D00-34AE-46EF-AD6B-26ECD184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1E36-A286-44FD-A05C-70E825C5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3204-C142-4994-BF9C-826B5B32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673C-97D5-40C2-B629-D03B1C40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6187-9684-42AA-9D59-F6AC4B97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94E0-7201-477A-88E7-49D5330E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2736-5F81-4D48-A400-1A3D8F31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49ED-A2AE-4201-961B-8790B976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E25D-2B96-48A5-8914-6C09C88B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1C5E-05E9-481F-AD20-C3799751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FAE-3C6B-452A-AE3A-93064ECD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F996-03D1-4B16-872F-32BBC76E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1B42-BE29-4913-9DC4-698B0BBE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59DE-9627-4F84-AB6D-3A46F588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A26-BA8B-4A7A-9BC2-222E11A6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6747-EA85-4331-B535-3F42072C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C762-48CC-444E-847B-825FD5D4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33CD-E8E7-4FE9-B3E7-EBB357B04D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6257-A5B4-408A-97C9-85469DD86A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he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er dan alleen spui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in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ff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dek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chtafslu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derdrukken met krui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itmaai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ffel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71640" y="134928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z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fdekken met boomschors of houtsnipper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5429160" cy="200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59280" y="3645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chtafsluitende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16000" y="1447920"/>
            <a:ext cx="705636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zaaien met krui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8580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itmaaien van beplanting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45370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emis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leks-gewijs spuiten met kleine sp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handeling van stobb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el meer is niet meer mogelij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p (half-)verhardingen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n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st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smaaier met ko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uiten met een chemisch mid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et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ran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376280"/>
            <a:ext cx="91440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orst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033800" cy="5445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87684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427640" y="3314880"/>
            <a:ext cx="4716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osmaaier met koor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962440"/>
            <a:ext cx="5113440" cy="389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508720" y="1268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 spuiten na detect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449440"/>
            <a:ext cx="9144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92480" y="-3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nk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door sto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59770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nkruidbestrijding met heet wat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84036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0:45:13Z</dcterms:created>
  <dc:creator>Administrator</dc:creator>
  <dc:description/>
  <dc:language>en-US</dc:language>
  <cp:lastModifiedBy>laptop</cp:lastModifiedBy>
  <dcterms:modified xsi:type="dcterms:W3CDTF">2009-06-02T09:12:30Z</dcterms:modified>
  <cp:revision>6</cp:revision>
  <dc:subject/>
  <dc:title>Onkruidbeheer</dc:title>
</cp:coreProperties>
</file>