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C51B-C093-4FD1-AB66-A879E232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F96E-1603-4F07-9977-688CE459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3FF0-4494-4DBC-A533-847CC383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2E94-CC16-4C62-88E4-63FB367C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8B61-1C08-4DBD-99D5-85B3A202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06FB-5386-4112-9A67-6E755EFC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A3C5-D0CB-4A83-A98E-B9C80FF1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4C5F-0D00-4891-8D39-41DFA92E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EE3C-774D-4537-9BCE-11977FC4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B14F-BBF8-4B25-A5A8-0FB318B1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7F2E-E6FD-45B3-AE52-EC74EC3C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25FC-5541-4835-9D15-29E777BE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AE10-7EC1-41C3-9A51-3DFC8D44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95CB-84C6-46C6-B9B3-403DD907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292F-525B-4FBB-9DC7-7FDD6AE3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681D-40A4-4010-A526-65418798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97C1-53A2-405B-8F41-83CAE0FE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F1F4-8BB8-4B7B-A9AA-440FC950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BB03-1D2A-41D5-B011-7F138C18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BD9B-F2B2-4387-90E4-093A0405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F9AC-B978-43F7-9EC0-FF9E1EBA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09FC-F4A3-435F-A1F2-791A572E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2B38-0DD2-4E93-8323-59FD1E6F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A502-DAC9-489A-BE68-8DE54543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B12B-6F23-41D6-ACE6-C74FD1EC55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7143-A3C5-4EA4-B1E9-FC8D061FC7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he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er dan alleen spui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strijding in beplan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ff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z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dek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chtafslu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derdrukken met krui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itmaai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s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hoffel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71640" y="1349280"/>
            <a:ext cx="73436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z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fdekken met boomschors of houtsnipper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5429160" cy="2000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859280" y="3645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ichtafsluitende beplan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16000" y="1447920"/>
            <a:ext cx="705636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zaaien met krui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68580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itmaaien van beplanting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195640" y="1773360"/>
            <a:ext cx="45370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emis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leks-gewijs spuiten met kleine spu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handeling van stobb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el meer is niet meer mogelij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p (half-)verhardingen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an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rst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smaaier met ko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uiten met een chemisch mid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et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rand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376280"/>
            <a:ext cx="91440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orst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4033800" cy="5445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932360" y="333360"/>
            <a:ext cx="3876840" cy="2895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427640" y="3314880"/>
            <a:ext cx="47163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osmaaier met koor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2962440"/>
            <a:ext cx="5113440" cy="389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508720" y="12682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 spuiten na detect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449440"/>
            <a:ext cx="91440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92480" y="-36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nk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52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strijding door sto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47640" y="1916280"/>
            <a:ext cx="59770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nkruidbestrijding met heet wat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684036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20:45:13Z</dcterms:created>
  <dc:creator>Administrator</dc:creator>
  <dc:description/>
  <dc:language>en-US</dc:language>
  <cp:lastModifiedBy>laptop</cp:lastModifiedBy>
  <dcterms:modified xsi:type="dcterms:W3CDTF">2009-06-02T09:12:30Z</dcterms:modified>
  <cp:revision>6</cp:revision>
  <dc:subject/>
  <dc:title>Onkruidbeheer</dc:title>
</cp:coreProperties>
</file>