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FFC3-E363-4DB7-84CE-CB34361A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B9DC-E4E0-44C0-A10B-931B693A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F4BA-7AC2-4570-9A13-F0A72894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EDAD-1D73-4506-AAC1-E308D0CF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D28B-C801-4D34-8124-BBA6886B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BCBB-ECB0-4FF3-883B-4C0E43F0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EC20-10F6-4399-9CB5-3FE76894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1EF9-9C35-4339-BC24-C0F7D0E7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351B-356E-4E2B-B688-49311B78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01AA-E4B3-43D3-980B-3675E119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38F1-E321-4AA1-A757-581D2F19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3A3F-F817-4F81-B351-0124D3C4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72E4-B1BE-4984-BF33-EDC846D42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lassificatiesysteem Onkruid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eldscoretab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329220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74977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081320" y="1413000"/>
            <a:ext cx="31654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32908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gemiddeld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398124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03280" y="2546280"/>
            <a:ext cx="57294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4132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gemiddeld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24000" y="1981080"/>
            <a:ext cx="511200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257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ige begroeiing, begroeiing voeglengte 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61200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ige begroeiing, begroeiing voeglengte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903600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01720"/>
                <a:gridCol w="1441440"/>
                <a:gridCol w="598644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schrijv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wezige onkrui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er g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er en daar enige begroeiing in de voegen, maximaal 5%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t onkruid groeit niet of nauwelijks aaneengeslo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5% en maximaal 25% begroeid; geen polvorming en weinig hoogopschietende begroei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25% en maxima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or 50% begroeid, soms polvor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wa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50% begroeid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ak polvor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er zwa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harding is weinig of niet meer zichtbaar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s houtige gewass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ar, gemiddelde voeglengte begroeiing 6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416880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ar, voeglengte begroeiing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6119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lfverh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3760" y="2033640"/>
            <a:ext cx="3681360" cy="4491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asse 2, zeer gering; begroeide oppervlakte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211640" y="2254320"/>
            <a:ext cx="447516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lfverh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asse 3, gering; begroeide oppervlakte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4316400" cy="3668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132520" y="1916280"/>
            <a:ext cx="3690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ktijkvoorbeel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1309680"/>
            <a:ext cx="81360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en begroeiing, begroeiing voeglengte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125960" cy="4969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39546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en begroeiing, begroeiing voeglengte 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56167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475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0483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59770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75964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4T14:58:52Z</dcterms:created>
  <dc:creator>Johan</dc:creator>
  <dc:description/>
  <dc:language>en-US</dc:language>
  <cp:lastModifiedBy>Administrator</cp:lastModifiedBy>
  <dcterms:modified xsi:type="dcterms:W3CDTF">2011-03-10T21:36:22Z</dcterms:modified>
  <cp:revision>8</cp:revision>
  <dc:subject/>
  <dc:title>Classificatiesysteem Onkruidmonitoring</dc:title>
</cp:coreProperties>
</file>