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2C69-3F66-41CB-8BAA-91D547E9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7E78-F38C-4EC0-8546-FC69E00E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CE8-BDDD-476B-8A78-50B7FC06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432-01DB-4956-9F66-7A4078BB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C265-67A9-453E-B63D-2E25EDE0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3D5D-1F24-492D-BCBE-1F887EF6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A92D-A81E-449F-B248-C4A80F1A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8DD4-F9FA-4DB5-B6F5-EF254A95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C927-FE5A-4F83-829E-092470B3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1299-A2C4-41F7-BFD0-64A3779A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BB99-2409-4EB0-88EF-81F77A0E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170-D23E-4456-B36E-D54C717C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FFB5-59C8-48AB-BF8C-CF1D4BE0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2ECF-BBAF-4083-9B2A-2560A886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FAFC-A772-4A56-91DD-0D8B213D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A04F-4077-420D-B1A3-971C9F8D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61FE-394D-40CF-BD69-840FEB47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87568-027D-4D3A-B8A6-464B9D22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F2F5-8A00-433E-BD9A-099C3F79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1F37D-1ABA-4559-88F0-002DB07B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07F6B-8ED5-44D9-A991-A815E500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E3777-09CE-4A9B-BD06-50909735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8D5-7097-41AB-9976-025AF0C9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A0E27-4E99-4C3B-9342-A3498107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97CD3-2853-4692-9C5A-E1972EB0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CCCB1-E437-43C3-B3E9-649F8265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68E89-E029-4521-AA2B-0716C060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8595A-1662-4195-AB5D-73612078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E7086-CD5C-444A-A144-94BB5AA3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0F393-1465-4CBE-8053-639FB74E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EB0-4154-4140-B796-D7F52423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B567-452D-4ED7-A167-ABFF0AED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DFE1-5E84-435E-82B1-8DB1FAC7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1BB-A0CD-4CA1-8907-F2C5D8C0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570-4B84-4C4F-BB2D-D7F729DA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61DB-6D7B-4012-A6D0-F692A938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0C85-316D-4753-8837-35DADFADA04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ADDA-5A44-4331-9593-EF20C44FDC5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4FB0-2713-4925-BF9B-13B2A6B4236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natuurkalender.nl/" TargetMode="External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18920" y="907920"/>
            <a:ext cx="6838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Waar zit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mengd loofbos met onderbegroeiing van varens en blauwe bos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nnenbossen met dichte opgaande grassenbegroei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s- en duingebieden en stadspar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plaatsing door kleine knaagd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836280"/>
            <a:ext cx="7524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Gedrag van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ngerige teken klimmen langs stengels van grassen, planten en stui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verstap na huidcont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52472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Seizoenrisico op besmetti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infecteerde teken blijven hele leven besmettelij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ek actief van mei-s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iek: mei-ju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Hoe kan ik me beschermen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ken lopen over door huidcontact met de veget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okken en broekspijpen insmeren met DEET (min. 30%)= antimuggenmid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t pyrethrine geimpregneerde kl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Verwijderen van de 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2760840" cy="4753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558040" y="6093000"/>
            <a:ext cx="30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Het juiste gebruik van de tekenpen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om een teek te verwij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557360"/>
            <a:ext cx="59734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specteer het lich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ek binnen 24 uur verwijd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bruik teken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tsmet het wond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ou de plek in de gaten op rode vl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Toch geinfecteer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aadpleeg huisarts, liefst als rode plek nog zichtbaa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ij elke beet -&gt; huisa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2792520"/>
            <a:ext cx="800748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Einde presentat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dankt voor uw aand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ook </a:t>
            </a:r>
            <a:r>
              <a:rPr b="0" lang="nl-NL" sz="3200" spc="-1" strike="noStrike" u="sng">
                <a:solidFill>
                  <a:srgbClr val="99ff66"/>
                </a:solidFill>
                <a:uFillTx/>
                <a:latin typeface="Tahoma"/>
                <a:hlinkClick r:id="rId2"/>
              </a:rPr>
              <a:t>www.natuurkalender.n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2133720"/>
            <a:ext cx="7958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78f01"/>
                </a:solidFill>
                <a:latin typeface="Tahoma"/>
              </a:rPr>
              <a:t>T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De Ziekte van Ly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Welk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5327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Larve-nimf-mannetje-vrouwtj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63640" y="1857240"/>
            <a:ext cx="5832720" cy="4689720"/>
            <a:chOff x="1763640" y="1857240"/>
            <a:chExt cx="5832720" cy="468972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1763640" y="1857240"/>
              <a:ext cx="5832720" cy="46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 txBox="1"/>
            <p:nvPr/>
          </p:nvSpPr>
          <p:spPr>
            <a:xfrm>
              <a:off x="1763640" y="1857240"/>
              <a:ext cx="5832720" cy="468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8160" y="765000"/>
            <a:ext cx="784548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Wat is de ziekte van Lym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532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rrelia bacte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eeft in bloed van kleine zoogdieren en vog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0% teken geinfecte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metting na ca 24 u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 2 weken -&gt; rode vl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wijnt na een paar we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arna -&gt; ziekteverschijns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940360" y="2349360"/>
            <a:ext cx="30765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verschijnsel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pijn, gewrichtspijn, hoofd/nekpijn, rugpijnen, vermoeidheid, nachtelijk zweten, evenwichtsproblemen, verhoogde pols, hartruizen, tachycardie, evenwichtsproblemen, gehoorproblemen enz. Bij enkele patiënten treedt infectie van het centrale zenuwstelsel op. Men spreekt dan van neuroborrelio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Genez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 vroeg stadium goed te genezen met antibioti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agnose is een proble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door vak lang onbehand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2230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De Schapen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4535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belangrijkste overbre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lgemeen in bossen en struikge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iet in open terr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verleven op grote graz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34120" y="1557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401080" y="5411880"/>
            <a:ext cx="3245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Teek die op een plant omhoog kruipt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Foto: Fedor Gass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316720" cy="4386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71480" y="857160"/>
            <a:ext cx="5708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baseline="-25000">
                <a:solidFill>
                  <a:srgbClr val="ffffff"/>
                </a:solidFill>
                <a:latin typeface="Tahoma"/>
              </a:rPr>
              <a:t>Ontwikkeling van de ziekte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1680" y="5950080"/>
            <a:ext cx="7947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Erythema migrans (ontstaan van een rode vlek), veroorzaakt door besmetting met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baseline="-25000">
                <a:solidFill>
                  <a:srgbClr val="ffffff"/>
                </a:solidFill>
                <a:latin typeface="Tahoma"/>
              </a:rPr>
              <a:t>Borrelia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 parasiet, per 100.000 mensen, in Nederland in 1994, 2001 en 2005 (bron: RIVM 200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765000"/>
            <a:ext cx="6839280" cy="9874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gevallen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565360"/>
            <a:ext cx="7772400" cy="35305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1994 23.000 artsbezoeken en 6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1 60.000 artsbezoeken en 13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5 73.000 artsbezoeken en 17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57:14Z</dcterms:created>
  <dc:creator>fikse</dc:creator>
  <dc:description/>
  <dc:language>en-US</dc:language>
  <cp:lastModifiedBy>Peter</cp:lastModifiedBy>
  <cp:lastPrinted>2005-05-24T09:08:19Z</cp:lastPrinted>
  <dcterms:modified xsi:type="dcterms:W3CDTF">2007-06-25T15:25:58Z</dcterms:modified>
  <cp:revision>6</cp:revision>
  <dc:subject/>
  <dc:title>Dia 1</dc:title>
</cp:coreProperties>
</file>