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793D-62E0-4BFB-A5C1-FC758B98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F89-2685-4D51-8142-8F627B5B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1738-6271-438D-8A0A-E98A5B2F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8732-60D5-4ABB-8513-449DFA5C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91C7-2CF3-440B-813E-EE28B0F6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C1CD-BE27-47B6-8DB8-CFEBB43A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0A39-F09E-464D-85B5-C326F31D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9AA3-21B4-44BD-9F49-6F47CC3B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47A5-C5FC-4F9B-BFAC-7AD52C2A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7FE3-792C-43EE-AF6B-254F56D7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E3B3-D156-4D2C-9D0C-102F69F5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D8D-7788-4832-80AF-7099419B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8D8C-0663-423A-9B43-4CABD044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C1E2-1DD6-4115-8C9F-29637084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F419-002F-422A-BF47-EB802967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2D6F-954D-4029-A7CB-62AA4BDA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D2C9-FDE3-4BE8-B0A3-2B813FF8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0F51-FC63-4497-ACEC-074C340B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AED-9CAB-408A-A41E-BBB13881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AFFD-35CC-4BC3-B9F0-45099B8A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F3AB-ABB2-44C8-98CC-CD81F7C4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282-57E6-4B28-9ECD-D6E731D2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986-20F6-4DBE-8AB4-535F9E56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2300-4380-4A61-82ED-56928DA7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AB83-A8B6-4193-8D64-AECACEC55B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C7AF-E641-45ED-B5F6-953AF109E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he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er dan alleen spui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strijding in beplan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ff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dek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chtafslu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derdrukken met krui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itmaai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s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offel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71640" y="134928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z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fdekken met boomschors of houtsnipper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5429160" cy="2000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859280" y="3645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chtafsluitende beplan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16000" y="1447920"/>
            <a:ext cx="705636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zaaien met krui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8580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itmaaien van beplanting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195640" y="1773360"/>
            <a:ext cx="45370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emis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leks-gewijs spuiten met kleine sp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handeling van stobb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el meer is niet meer mogelij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p (half-)verhardingen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n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rst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smaaier met ko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uiten met een chemisch mid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et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rand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376280"/>
            <a:ext cx="91440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orst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4033800" cy="5445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932360" y="333360"/>
            <a:ext cx="3876840" cy="2895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427640" y="3314880"/>
            <a:ext cx="47163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osmaaier met koor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962440"/>
            <a:ext cx="5113440" cy="389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508720" y="1268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 spuiten na detect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449440"/>
            <a:ext cx="9144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92480" y="-3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nk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5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strijding door sto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59770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nkruidbestrijding met heet wat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684036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0:45:13Z</dcterms:created>
  <dc:creator>Administrator</dc:creator>
  <dc:description/>
  <dc:language>en-US</dc:language>
  <cp:lastModifiedBy>laptop</cp:lastModifiedBy>
  <dcterms:modified xsi:type="dcterms:W3CDTF">2009-06-02T09:12:30Z</dcterms:modified>
  <cp:revision>6</cp:revision>
  <dc:subject/>
  <dc:title>Onkruidbeheer</dc:title>
</cp:coreProperties>
</file>