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E20C4A6-68D8-4CA0-8F08-1421FEFEBB2E}" type="datetime">
              <a:rPr b="0" lang="en-GB" sz="1000" spc="-1" strike="noStrike">
                <a:solidFill>
                  <a:srgbClr val="000000"/>
                </a:solidFill>
                <a:latin typeface="Times New Roman"/>
              </a:rPr>
              <a:t>29/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7D77615-AFD1-483A-9A80-3362D3DB73F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