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502A-BCFD-45D9-A83B-A941DDE6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2B0-3814-47AD-9A37-687E920C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EA87-F807-4B2E-A4ED-F31D4940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A724-C240-40AD-ACA1-8A8175DC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8055-ED61-406C-87CF-DD432CCD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DB21-B4A8-4AE8-8957-4D9BCAC6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B9F8-8216-4B6E-8EC4-E8674D81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7AE0-3569-49DF-90CE-50BF7B74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1D46-64C5-4786-A11D-D26A20FC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B80B-FB49-413A-A4D3-43F86A2F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081-FB61-48E6-9A22-5E8C2CA5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261-203F-4CBA-8768-A7B975B0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6FC3-B43C-484C-9E54-0D230FE59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lassificatiesysteem Onkruid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eldscoretab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329220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74977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81320" y="1413000"/>
            <a:ext cx="31654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32908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gemiddeld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398124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03280" y="2546280"/>
            <a:ext cx="57294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4132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gemiddeld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24000" y="1981080"/>
            <a:ext cx="511200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257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ige begroeiing, begroeiing voeglengte 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61200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ige begroeiing, begroeiing voeglengte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90360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01720"/>
                <a:gridCol w="1441440"/>
                <a:gridCol w="598644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schrijv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wezige onkrui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r g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er en daar enige begroeiing in de voegen, maximaal 5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 onkruid groeit niet of nauwelijks aaneengeslo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5% en maximaal 25% begroeid; geen polvorming en weinig hoogopschietende begroei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25% en maxima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or 50% begroeid, soms polvor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wa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50% begroeid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ak polvor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r zwa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harding is weinig of niet meer zichtbaar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s houtige gewas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ar, gemiddelde voeglengte begroeiing 6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416880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ar, voeglengte begroeiing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6119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lfverh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3760" y="2033640"/>
            <a:ext cx="3681360" cy="4491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 2, zeer gering; begroeide oppervlakte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211640" y="2254320"/>
            <a:ext cx="447516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lfverh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 3, gering; begroeide oppervlakte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4316400" cy="3668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32520" y="1916280"/>
            <a:ext cx="3690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ktijkvoorbeel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1309680"/>
            <a:ext cx="8136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en begroeiing, begroeiing voeglengte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125960" cy="496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39546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en begroeiing, begroeiing voeglengte 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5616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0483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9770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75964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4T14:58:52Z</dcterms:created>
  <dc:creator>Johan</dc:creator>
  <dc:description/>
  <dc:language>en-US</dc:language>
  <cp:lastModifiedBy>Administrator</cp:lastModifiedBy>
  <dcterms:modified xsi:type="dcterms:W3CDTF">2011-03-10T21:36:22Z</dcterms:modified>
  <cp:revision>8</cp:revision>
  <dc:subject/>
  <dc:title>Classificatiesysteem Onkruidmonitoring</dc:title>
</cp:coreProperties>
</file>