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3173-2C64-4434-B07E-55EBCE213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82E4-D5EA-4CBC-A2B3-AAAF7BC5F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94DF-5750-4924-8379-8CEED8C43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69E1-BA17-488B-B3E0-E0C06B951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DBDD-4140-4714-BE25-DBC4FC639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9256-8982-46FD-A013-3BBE3A04D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CA02-BDD9-469A-AB6B-7A43035E1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94D2-FFD6-44A5-A072-3FA1BFA29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92E9-63C4-464C-9C77-E14642034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826F-5F24-4BAC-B001-6CD4C4FB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F473-D278-43C5-95C4-5525FCC8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A490-F8D1-44AF-A291-3B012248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2393F-A0C9-4499-A398-9480BE405E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Imago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t beeld dat van een persoon, een organisatie of gebied bestaat; reput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agoscha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en bedrijf (afd. PR) doet veel moeite om juist dat beeld op te roepen, dat een optimale waardering bij de doelgroep waarborg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gatieve berichten over het bedrijf dat schade aanricht aan het opgebouwde im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orbeelden van imagosch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bobank: doping gebruik in Tour de F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asscherven in potjes babyvoe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tstichting: forse beloning topbestuu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nwerking met een dubieuze partij (crimineel, ‘foute partij’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k aan de vader van Maxima die imagoschade opliep door zijn werk voor een foute regering in Argentinië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0920" y="837720"/>
            <a:ext cx="77706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org altijd dat je het imago van het bedrijf positief beïnvloedt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13160" y="3546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438280" y="2819520"/>
            <a:ext cx="33624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40880" y="498600"/>
            <a:ext cx="573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js-imago:een dure of een goedkope wink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35840" y="1184400"/>
            <a:ext cx="798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waliteits-imago: een duurzaam product of een wegwerpartik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17200" y="1793880"/>
            <a:ext cx="670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-imago: een klacht wordt vlot afgehandeld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ndaag besteld = morgen geleverd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53120" y="3276720"/>
            <a:ext cx="671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t is niet zo dat het ene imago is beter dan de an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57080" y="3962520"/>
            <a:ext cx="599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t gewenste imago hangt van de doelgroep a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51320" y="4876920"/>
            <a:ext cx="78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o is niet aantoonbaar, maar hangt vooral af van ‘beleving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lk Ima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952880" y="2133720"/>
            <a:ext cx="2932200" cy="2209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900000" y="2133720"/>
            <a:ext cx="2822760" cy="22096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117880" y="4689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572000" y="4876920"/>
            <a:ext cx="1076400" cy="14284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336840" y="5146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3048120" y="4876920"/>
            <a:ext cx="111420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lk Ima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3809880" cy="1752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648320" y="2286000"/>
            <a:ext cx="38098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l je mij €10,= lenen, ik betaal je morgen teru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800600" y="2133720"/>
            <a:ext cx="3316320" cy="3581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80880" y="2133720"/>
            <a:ext cx="3316320" cy="3581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280240" y="6095880"/>
            <a:ext cx="38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e wel? Wie niet? Waaro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ago van een trekkerme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003640" y="1989000"/>
            <a:ext cx="3673800" cy="3505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3598920" cy="35053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47360" y="5603760"/>
            <a:ext cx="544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elarus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Fen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t zegt dit over het loonbedrijf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t is jouw ima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k beeld hebben anderen van jo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k imago straal je u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k bedrijfsimago past bij jo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lopt jouw idee over je eigen imag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raag dit aan andere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imago is beleving van ander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e neem je aan op het loonbedrijf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 1 minuut is 80% van de mening gevorm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wel/niet aannemen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 basis va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iterlijke verzor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/geen hand ge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algebrui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ogcont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ud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t imago van de sollicitant moet overeenkomen met het gewenste imago van het bedrij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2133720"/>
            <a:ext cx="3733560" cy="34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Univers"/>
                <a:ea typeface="Times New Roman"/>
              </a:rPr>
              <a:t>ARBEIDSOVEREENKOM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Univers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Univers"/>
                <a:ea typeface="Times New Roman"/>
              </a:rPr>
              <a:t>VAST DIENSTVERBAND VOOR ONBEPAALDE TIJ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Univers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Werkgev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Naam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: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Adres</a:t>
            </a:r>
            <a:r>
              <a:rPr b="0" lang="fr-FR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:</a:t>
            </a:r>
            <a:r>
              <a:rPr b="0" lang="fr-FR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Postcode en plaats :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en werknem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Naam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: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Geboortedatu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Adres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: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Postcode en plaats :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BSN/Sofi-nummer: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Land en regio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verklaren dat tussen hen is afgesloten de navolgende arbeidsovereenkomst</a:t>
            </a:r>
            <a:r>
              <a:rPr b="0" lang="nl-NL" sz="900" spc="-1" strike="noStrike">
                <a:solidFill>
                  <a:srgbClr val="000000"/>
                </a:solidFill>
                <a:latin typeface="Univers"/>
                <a:ea typeface="Times New Roman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5T14:18:38Z</dcterms:created>
  <dc:creator>Renate Grefelman</dc:creator>
  <dc:description/>
  <dc:language>en-US</dc:language>
  <cp:lastModifiedBy>willy</cp:lastModifiedBy>
  <dcterms:modified xsi:type="dcterms:W3CDTF">2008-05-06T13:19:36Z</dcterms:modified>
  <cp:revision>5</cp:revision>
  <dc:subject/>
  <dc:title>Imago</dc:title>
</cp:coreProperties>
</file>