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015C-BA04-4181-9ECC-45877D809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D7CB-0274-44E6-B9AE-947C49D8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79B5-9AEE-49EE-876A-7B204E87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1964-D62C-4C1C-92DC-A0B61169C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3E4B-860D-4863-B12F-8CE08F9E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EC79-9429-4D91-923B-27298E47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C2D9-DD0F-437C-A139-AC9A9E72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DFD5-1909-49BC-9EEC-689B88C3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DB5F-9EC3-4ADA-9A96-D67CC83D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3D62-146B-4D07-9799-012C2F48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AD72-4684-4447-BF86-6DC734BE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7C4B-B66D-4190-A379-35D4E608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3193-CF58-409C-8AD8-D35E7D76E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mag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 beeld dat van een persoon, een organisatie of gebied bestaat; reput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oscha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en bedrijf (afd. PR) doet veel moeite om juist dat beeld op te roepen, dat een optimale waardering bij de doelgroep waarborg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atieve berichten over het bedrijf dat schade aanricht aan het opgebouwde im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orbeelden van imagosch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bobank: doping gebruik in Tour de F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asscherven in potjes babyvoe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tstichting: forse beloning topbestuu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nwerking met een dubieuze partij (crimineel, ‘foute partij’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k aan de vader van Maxima die imagoschade opliep door zijn werk voor een foute regering in Argentinië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0920" y="837720"/>
            <a:ext cx="7770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org altijd dat je het imago van het bedrijf positief beïnvloedt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13160" y="354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438280" y="2819520"/>
            <a:ext cx="33624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40880" y="498600"/>
            <a:ext cx="57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js-imago:een dure of een goedkope win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5840" y="1184400"/>
            <a:ext cx="79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waliteits-imago: een duurzaam product of een wegwerparti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17200" y="1793880"/>
            <a:ext cx="670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-imago: een klacht wordt vlot afgehandeld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ndaag besteld = morgen geleverd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3120" y="3276720"/>
            <a:ext cx="671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 is niet zo dat het ene imago is beter dan de a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7080" y="3962520"/>
            <a:ext cx="59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 gewenste imago hangt van de doelgroep a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1320" y="4876920"/>
            <a:ext cx="78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o is niet aantoonbaar, maar hangt vooral af van ‘beleving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k Ima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2932200" cy="2209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00000" y="2133720"/>
            <a:ext cx="2822760" cy="2209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117880" y="468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572000" y="4876920"/>
            <a:ext cx="1076400" cy="1428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336840" y="5146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048120" y="4876920"/>
            <a:ext cx="11142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k Ima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3809880" cy="1752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3809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l je mij €10,= lenen, ik betaal je morgen teru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3316320" cy="3581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3316320" cy="3581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80240" y="609588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e wel? Wie niet? Waar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o van een trekkerme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003640" y="1989000"/>
            <a:ext cx="3673800" cy="3505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598920" cy="3505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47360" y="560376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laru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en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 zegt dit over het loonbedrij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 is jouw ima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k beeld hebben anderen van j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k imago straal je u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k bedrijfsimago past bij j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opt jouw idee over je eigen im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aag dit aan andere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mago is beleving van ander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e neem je aan op het loonbedrij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1 minuut is 80% van de mening gevorm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wel/niet aannemen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 basis v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iterlijke verzor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/geen hand ge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algebru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ogcont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ud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t imago van de sollicitant moet overeenkomen met het gewenste imago van het bedrij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133720"/>
            <a:ext cx="3733560" cy="34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Univers"/>
                <a:ea typeface="Times New Roman"/>
              </a:rPr>
              <a:t>ARBEIDSOVEREENKOM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Univers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Univers"/>
                <a:ea typeface="Times New Roman"/>
              </a:rPr>
              <a:t>VAST DIENSTVERBAND VOOR ONBEPAALDE TIJ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Univers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Werkgev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Naam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Adres</a:t>
            </a: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Postcode en plaats 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en werknem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Naam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Geboortedatu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Adres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Postcode en plaats 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BSN/Sofi-nummer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Land en regi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verklaren dat tussen hen is afgesloten de navolgende arbeidsovereenkomst</a:t>
            </a:r>
            <a:r>
              <a:rPr b="0" lang="nl-NL" sz="9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4:18:38Z</dcterms:created>
  <dc:creator>Renate Grefelman</dc:creator>
  <dc:description/>
  <dc:language>en-US</dc:language>
  <cp:lastModifiedBy>willy</cp:lastModifiedBy>
  <dcterms:modified xsi:type="dcterms:W3CDTF">2008-05-06T13:19:36Z</dcterms:modified>
  <cp:revision>5</cp:revision>
  <dc:subject/>
  <dc:title>Imago</dc:title>
</cp:coreProperties>
</file>