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34A-7520-43F5-B9C7-0B477C24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E4E-EBBA-4ABF-BA67-7CE4794B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508-0D60-40C8-ADBD-1CC5AF07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4FC-546F-4299-B3C1-F08F74D1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F117-2B4A-43EB-B567-4D27EB25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B9D-E1D5-4C27-B5E0-EF769696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CAA-5F78-4B16-8B07-459A7130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6C6C-1443-4EF0-8640-07A42064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F93-B8EE-4E9C-8CD4-DFA26460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A2C-9ED7-4D8A-950A-A82DAACA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43F-5476-4607-AE51-4A4ED62E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84D-C088-4A07-8551-29A361E8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C20E-CCF1-4004-8BC3-52002146E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mag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beeld dat van een persoon, een organisatie of gebied bestaat; reput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scha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en bedrijf (afd. PR) doet veel moeite om juist dat beeld op te roepen, dat een optimale waardering bij de doelgroep waarborg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eve berichten over het bedrijf dat schade aanricht aan het opgebouwde im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orbeelden van imagosch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bobank: doping gebruik in Tour de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sscherven in potjes babyvo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tstichting: forse beloning topbestuu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nwerking met een dubieuze partij (crimineel, ‘foute partij’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k aan de vader van Maxima die imagoschade opliep door zijn werk voor een foute regering in Argentinië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7770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org altijd dat je het imago van het bedrijf positief beïnvloed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131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362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0880" y="4986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js-imago:een dure of een goedkope win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5840" y="1184400"/>
            <a:ext cx="79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waliteits-imago: een duurzaam product of een wegwerp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7200" y="1793880"/>
            <a:ext cx="67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-imago: een klacht wordt vlot afgehandel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daag besteld = morgen geleverd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3120" y="3276720"/>
            <a:ext cx="67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is niet zo dat het ene imago is beter dan de a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7080" y="39625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gewenste imago hangt van de doelgroep 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1320" y="48769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o is niet aantoonbaar, maar hangt vooral af van ‘beleving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9322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282276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178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0" y="4876920"/>
            <a:ext cx="1076400" cy="142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36840" y="514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48120" y="4876920"/>
            <a:ext cx="1114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3809880" cy="1752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 je mij €10,= lenen, ik betaal je morgen teru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31632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31632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0240" y="60958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wel? Wie niet? Waa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 van een trekkerme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673800" cy="350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59892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47360" y="560376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lar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e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zegt dit over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is jouw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eld hebben anderen van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imago straal je u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drijfsimago past bij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opt jouw idee over je eigen im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aag dit aan andere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mago is beleving van ander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 neem je aan op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1 minuut is 80% van de mening gevorm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el/niet aannemen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 basis v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iterlijke verzor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/geen hand 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algebru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og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t imago van de sollicitant moet overeenkomen met het gewenste imago van het bedrij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33720"/>
            <a:ext cx="373356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ARBEIDSOVEREENKOM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VAST DIENSTVERBAND VOOR ONBEPAALDE TI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Werkgev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en werknem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Geboortedat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BSN/Sofi-nummer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Land en regi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verklaren dat tussen hen is afgesloten de navolgende arbeidsovereenkomst</a:t>
            </a: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18:38Z</dcterms:created>
  <dc:creator>Renate Grefelman</dc:creator>
  <dc:description/>
  <dc:language>en-US</dc:language>
  <cp:lastModifiedBy>willy</cp:lastModifiedBy>
  <dcterms:modified xsi:type="dcterms:W3CDTF">2008-05-06T13:19:36Z</dcterms:modified>
  <cp:revision>5</cp:revision>
  <dc:subject/>
  <dc:title>Imago</dc:title>
</cp:coreProperties>
</file>