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57C3-FC45-419C-850B-CFC2AA23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3B9-BCD0-406D-8C1C-CD51015C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D87-747F-46E4-BEED-46CC096D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B93D-D633-4835-9A7F-C5818704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5AD-E468-403A-A929-3BB36789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904-E795-4D65-B052-881E5C42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51A-A8E8-41DF-9A49-C046526B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7E8-F68F-4E2D-892B-77669609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B124-DB51-4D69-9D04-5EE1E5F3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61D-6B52-41FB-9FFE-40FEC001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55D-3167-401C-A86D-6BC7E283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995-ED29-4475-8021-2959946B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E2F3-B7BB-4304-AAD6-DBCD0B531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Imago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 beeld dat van een persoon, een organisatie of gebied bestaat; reput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schad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en bedrijf (afd. PR) doet veel moeite om juist dat beeld op te roepen, dat een optimale waardering bij de doelgroep waarborg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eve berichten over het bedrijf dat schade aanricht aan het opgebouwde im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orbeelden van imagosch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bobank: doping gebruik in Tour de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sscherven in potjes babyvo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tstichting: forse beloning topbestuu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nwerking met een dubieuze partij (crimineel, ‘foute partij’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k aan de vader van Maxima die imagoschade opliep door zijn werk voor een foute regering in Argentinië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837720"/>
            <a:ext cx="7770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org altijd dat je het imago van het bedrijf positief beïnvloed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1316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33624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40880" y="498600"/>
            <a:ext cx="57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js-imago:een dure of een goedkope win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5840" y="1184400"/>
            <a:ext cx="79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Kwaliteits-imago: een duurzaam product of een wegwerparti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17200" y="1793880"/>
            <a:ext cx="670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-imago: een klacht wordt vlot afgehandel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ndaag besteld = morgen geleverd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3120" y="3276720"/>
            <a:ext cx="671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is niet zo dat het ene imago is beter dan de a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7080" y="3962520"/>
            <a:ext cx="59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gewenste imago hangt van de doelgroep a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1320" y="48769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o is niet aantoonbaar, maar hangt vooral af van ‘beleving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9322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900000" y="2133720"/>
            <a:ext cx="282276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1178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0" y="4876920"/>
            <a:ext cx="1076400" cy="1428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336840" y="5146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3048120" y="4876920"/>
            <a:ext cx="1114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lk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3809880" cy="1752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098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l je mij €10,= lenen, ik betaal je morgen teru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3316320" cy="3581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80880" y="2133720"/>
            <a:ext cx="331632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0240" y="6095880"/>
            <a:ext cx="38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e wel? Wie niet? Waa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ago van een trekkerme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03640" y="1989000"/>
            <a:ext cx="3673800" cy="3505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598920" cy="350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47360" y="560376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larus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Fen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zegt dit over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 is jouw imag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eld hebben anderen van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imago straal je u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 bedrijfsimago past bij j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opt jouw idee over je eigen im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raag dit aan andere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mago is beleving van ander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e neem je aan op het loonbedrijf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1 minuut is 80% van de mening gevorm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wel/niet aannemen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 basis va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iterlijke verzor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/geen hand ge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algebru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ogco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u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t imago van de sollicitant moet overeenkomen met het gewenste imago van het bedrij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373356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ARBEIDSOVEREENKOM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Univers"/>
                <a:ea typeface="Times New Roman"/>
              </a:rPr>
              <a:t>VAST DIENSTVERBAND VOOR ONBEPAALDE TIJ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Werkgev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fr-FR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en werknem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Naam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Geboortedatu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Adres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Postcode en plaats 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BSN/Sofi-nummer:</a:t>
            </a: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Land en regi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Univers"/>
                <a:ea typeface="Times New Roman"/>
              </a:rPr>
              <a:t>verklaren dat tussen hen is afgesloten de navolgende arbeidsovereenkomst</a:t>
            </a:r>
            <a:r>
              <a:rPr b="0" lang="nl-NL" sz="900" spc="-1" strike="noStrike">
                <a:solidFill>
                  <a:srgbClr val="000000"/>
                </a:solidFill>
                <a:latin typeface="Univers"/>
                <a:ea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604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14:18:38Z</dcterms:created>
  <dc:creator>Renate Grefelman</dc:creator>
  <dc:description/>
  <dc:language>en-US</dc:language>
  <cp:lastModifiedBy>willy</cp:lastModifiedBy>
  <dcterms:modified xsi:type="dcterms:W3CDTF">2008-05-06T13:19:36Z</dcterms:modified>
  <cp:revision>5</cp:revision>
  <dc:subject/>
  <dc:title>Imago</dc:title>
</cp:coreProperties>
</file>