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565A-18B8-4F33-B620-34FF75E5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086-C22F-4F1E-B7E8-F0FC9196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344-C2EA-46D8-993C-D249519F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808-1E28-4AE9-88FB-75123F64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A6CA-B766-442A-A87A-720E10FD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43F4-0221-4B16-84E1-4888B717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D975-ACB4-446E-A580-BA911DAE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B25E-2E2D-4745-9933-E75F35BE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25B-C51B-43B5-8649-2D297657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156-DF00-4C7F-B3F3-3D33231F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40B0-E282-4D23-BBBD-BC0FA607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E031-2338-46BE-9ED4-27E97176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E04C-7A41-4D71-895D-9195B8385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mag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beeld dat van een persoon, een organisatie of gebied bestaat; reput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scha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en bedrijf (afd. PR) doet veel moeite om juist dat beeld op te roepen, dat een optimale waardering bij de doelgroep waarborg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eve berichten over het bedrijf dat schade aanricht aan het opgebouwde im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orbeelden van imagosch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bobank: doping gebruik in Tour de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sscherven in potjes babyvo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tstichting: forse beloning topbestuu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nwerking met een dubieuze partij (crimineel, ‘foute partij’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k aan de vader van Maxima die imagoschade opliep door zijn werk voor een foute regering in Argentinië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0920" y="837720"/>
            <a:ext cx="7770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org altijd dat je het imago van het bedrijf positief beïnvloed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131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3362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0880" y="49860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js-imago:een dure of een goedkope win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5840" y="1184400"/>
            <a:ext cx="79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waliteits-imago: een duurzaam product of een wegwerp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7200" y="1793880"/>
            <a:ext cx="670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-imago: een klacht wordt vlot afgehandel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daag besteld = morgen geleverd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3120" y="3276720"/>
            <a:ext cx="67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is niet zo dat het ene imago is beter dan de a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7080" y="3962520"/>
            <a:ext cx="59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gewenste imago hangt van de doelgroep a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1320" y="48769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o is niet aantoonbaar, maar hangt vooral af van ‘beleving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29322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282276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17880" y="46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0" y="4876920"/>
            <a:ext cx="1076400" cy="142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36840" y="514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48120" y="4876920"/>
            <a:ext cx="11142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3809880" cy="1752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 je mij €10,= lenen, ik betaal je morgen teru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316320" cy="3581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316320" cy="358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0240" y="609588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 wel? Wie niet? Waa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 van een trekkerme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3673800" cy="3505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598920" cy="350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47360" y="560376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lar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e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zegt dit over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is jouw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eld hebben anderen van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imago straal je u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drijfsimago past bij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opt jouw idee over je eigen im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aag dit aan andere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mago is beleving van ander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e neem je aan op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1 minuut is 80% van de mening gevorm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wel/niet aannemen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 basis v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iterlijke verzor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/geen hand g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algebru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og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t imago van de sollicitant moet overeenkomen met het gewenste imago van het bedrij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133720"/>
            <a:ext cx="3733560" cy="34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ARBEIDSOVEREENKOM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VAST DIENSTVERBAND VOOR ONBEPAALDE TIJ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Werkgev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en werknem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Geboortedat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BSN/Sofi-nummer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Land en regi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verklaren dat tussen hen is afgesloten de navolgende arbeidsovereenkomst</a:t>
            </a: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18:38Z</dcterms:created>
  <dc:creator>Renate Grefelman</dc:creator>
  <dc:description/>
  <dc:language>en-US</dc:language>
  <cp:lastModifiedBy>willy</cp:lastModifiedBy>
  <dcterms:modified xsi:type="dcterms:W3CDTF">2008-05-06T13:19:36Z</dcterms:modified>
  <cp:revision>5</cp:revision>
  <dc:subject/>
  <dc:title>Imago</dc:title>
</cp:coreProperties>
</file>