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AF8-993B-4AE5-8B0F-EE15861C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BFC2-275A-4C06-8F81-8647EB87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E10-0090-4BCB-9738-B9470C4A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C54-6BB6-4FF4-8561-86BF77B1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0DF64-466F-4339-A43A-27C76FBB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6C2C4-8F7C-49FD-ABA3-D78176A2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13D9D-14DB-4C75-AB93-53F8402F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95FF8-ED4F-402F-9571-3BCF26BF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F4C25-361B-47B3-8A5D-467A3BC0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7EADD-AD8D-4A70-8010-8AA2E239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F9696F-BBF9-4784-A8C4-181A2592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E8EF-C8A4-4291-B0D3-4109B24F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36A12-8C7A-4F7D-BF00-942A2052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87879-442C-427C-8B53-E046D696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11737-C777-4590-944C-D0C6C880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469A2-896D-4558-968F-538C7F0B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C4E71-8D9C-408C-BFE1-755B2D06D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9253-5E85-4365-ADA4-FB64BA7D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ACC-B9C9-44B8-A920-BBB886FC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792-7668-448B-A496-4E65E727A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F51-AED1-4E69-99B7-9AC4F50D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AE52-5252-4ED5-8645-6F12623E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2DC9-609D-4A37-811D-11B84769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79C-A476-43B5-B566-05AC00B1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BF18-C022-4F8F-B5AD-49E4D3E799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D567-9C38-45C7-B390-EE3E6FEA22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3e3ff"/>
                </a:solidFill>
                <a:latin typeface="Arial"/>
              </a:rPr>
              <a:t>Natuurrampen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0328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ind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in z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t men 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m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aat het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neeuw met een snelhei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200 km/per u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bescherm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ederland zich tegen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ter? Noem er 3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dijk die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Jsselmeer 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ddenzee scheid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plaats w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en aardbeving h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rachtigst is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het vloeiba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steente dat bij e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ulkaanuitbarsting naa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uiten komt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Welke orkaan teisterde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2005 de Verenigde Stat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(New Orleans, Houston)?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 zondag 26 december 2004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nd een zeer zware zeebev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laats in de Indische Oceaan d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en vloedgolf veroorzaak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em 3 landen die getroffen werd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aar kom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rdbevingen voor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08524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pelregels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20 vrag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ng. 1 minuut per vraag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in groepjes van 5 person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overleg met anderen verbod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een hulpmiddelen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 groep met de meest goede antwoorden wint de prijs!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4391280" cy="3781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8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Wat zie je op foto 1 en foto 2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4098960" cy="4149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084720" y="5805360"/>
            <a:ext cx="17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5800" y="5661000"/>
            <a:ext cx="17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to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9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Op 13 april 1992 vond e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een natuurramp plaats i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Nederland, bij Roermond.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ffffff"/>
                </a:solidFill>
                <a:latin typeface="Arial"/>
              </a:rPr>
              <a:t>Welke natuurramp was dit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0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 de watersnoodramp i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land heeft m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………………………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angelegd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771280" y="2133720"/>
            <a:ext cx="3467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Einde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1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7280" y="2852640"/>
            <a:ext cx="88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Noem 3 natuurrampen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2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em 2 films die ov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atuurrampen gaan!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3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wordt een vloedgo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ok wel genoem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4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omen er aardbeving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oor in Nederland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a of Ne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5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oe heet de vulkaan di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p Sicilië lig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6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n welke natuurramp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heeft Nederland het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est last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3ff"/>
                </a:solidFill>
                <a:latin typeface="Arial"/>
              </a:rPr>
              <a:t>Vraag 7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n welk jaar braken d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zeedijken in Zeelan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oor? (Watersnoodramp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ies uit: 1950, 1953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955, 1957, 196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2:32:24Z</dcterms:created>
  <dc:creator>matthias</dc:creator>
  <dc:description/>
  <dc:language>en-US</dc:language>
  <cp:lastModifiedBy>matthias</cp:lastModifiedBy>
  <dcterms:modified xsi:type="dcterms:W3CDTF">2009-03-15T14:37:25Z</dcterms:modified>
  <cp:revision>8</cp:revision>
  <dc:subject/>
  <dc:title>Natuurrampen</dc:title>
</cp:coreProperties>
</file>