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AE7-D136-4774-AA79-02D17676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C91-637B-4B7D-B879-CACCB5C0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987-DF88-443C-BCDD-993F8A60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A6F-AFF3-4BCE-90D0-78AA979F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0CE0F-E374-4556-A497-2DEE12F4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62261-2E87-489A-A819-D926FC71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443AA-2921-4430-A45A-2B401B51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0416C-CA4F-494D-B996-E4E1A2B8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8CE7A-C33E-43F1-ADBB-AE3B60F0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AF7CB-65DE-4CAE-BC6B-0B71FFE7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0917A-0365-4737-988A-7914BBEA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1B7-F264-42E3-816A-908DE7F0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FC714-91BF-40A6-A94F-367B63B9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30B93-928C-44BF-925C-2B5ECF6A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01A13-9C56-4248-AB0D-45F3B350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5BA18-6797-4035-AA1E-41E7BF14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8F2A3-D342-4351-8AFB-12B5BCD0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974-9B5C-453C-8103-FF84A704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C3F-7E82-466F-999F-8E0AEDFD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6CC-BDEE-44F2-A7A4-4358BAFB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938-390F-4F36-B649-4F40D917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5B4-3ABF-47FD-9185-C5CBA9B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87E-DA5A-4FAC-927A-21061C4C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BBB-ACFC-43AB-BECB-9FCA2770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AAF1-16C7-4370-B9D7-E2AA190164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78B3-B017-4FB8-8B2F-469CB198E4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Arial"/>
              </a:rPr>
              <a:t>Natuurrampe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ind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in z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t men 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eeuw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bescherm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derland zich tegen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ter? Noem er 3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dijk die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Jsselmeer 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ddenzee scheid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plaats w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rachtigst is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het vloeib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steente dat bij 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ulkaanuitbarsting n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uiten komt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Welke orkaan teisterde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2005 de Verenigde Sta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(New Orleans, Houston)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 zondag 26 december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nd een zeer zware zeebe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ats in de Indische Oceaan d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vloedgolf veroorzaak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em 3 landen die getroffen we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ar kom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rdbevingen voor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85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pelrege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20 vrag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ng. 1 minuut per vraag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in groepjes van 5 person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verleg met anderen verbod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een hulpmiddel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roep met de meest goede antwoorden wint de prijs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39128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t zie je op foto 1 en foto 2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98960" cy="4149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4720" y="580536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5800" y="566100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Op 13 april 1992 vond 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een natuurramp plaats 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Nederland, bij Roermond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Welke natuurramp was dit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de watersnoodramp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land heeft m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………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ngeleg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346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ind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28526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em 3 natuurrampe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 2 films di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tuurrampen gaan!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een vloedgo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ok wel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omen er aardbev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or in Nederla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 of N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vulkaan di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 Sicilië lig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eft Nederland he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st las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welk jaar brak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dijken in Zeel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or? (Watersnoodramp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es uit: 1950, 1953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955, 1957, 196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32:24Z</dcterms:created>
  <dc:creator>matthias</dc:creator>
  <dc:description/>
  <dc:language>en-US</dc:language>
  <cp:lastModifiedBy>matthias</cp:lastModifiedBy>
  <dcterms:modified xsi:type="dcterms:W3CDTF">2009-03-15T14:37:25Z</dcterms:modified>
  <cp:revision>8</cp:revision>
  <dc:subject/>
  <dc:title>Natuurrampen</dc:title>
</cp:coreProperties>
</file>