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AE7-3139-4125-9B3E-7B64388F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BA1-E2BD-494C-AEB0-B0A9562B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7E9-C2EA-4E9B-9EC7-77570D0A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DAC-2EAE-43C8-83F7-7C3AD5DF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AF05D-341E-43F1-B76D-A377A154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D0189-DCF3-4A0D-B0E0-8AC30E9D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E4816-0D78-4F01-B30E-7202C3F9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05221-3329-415E-8487-A3075712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CCA7F-97CF-4283-A97E-13006F41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DCFA4-1F9A-45B8-8148-5959F8BE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3F706-28D9-4DED-BF5E-CE91E1D2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2BC-16FA-438F-A3C6-7776FF0E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8B0EA-D08A-4D2F-A34C-DDFD7A70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8C36F-9707-45A3-8576-4BCE0013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B3F16-CFE3-4847-811B-63CD8252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4EAF1-15ED-4E36-AF61-C453D43E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ED24B-18C9-47D4-8A36-133FC316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EA2D-D27F-4FBE-9F33-7526EA4A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035A-FF51-481F-8445-C3A61872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A1A-E1D2-41D8-B8DD-3B05289F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E95-A64C-446E-95AC-2BFBE199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D0AE-94FC-4E91-82CE-06792170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4FB1-509E-4B7E-B4CB-508DEA7D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4624-5C9E-47F9-BBA8-A9CE0DD2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D8EB-1548-49C2-B8BA-88E63BA3B2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A4C5-83CC-41E5-8D59-93A1652A76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3e3ff"/>
                </a:solidFill>
                <a:latin typeface="Arial"/>
              </a:rPr>
              <a:t>Natuurrampe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ind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in z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t men 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neeuw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bescherm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ederland zich tegen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ter? Noem er 3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dijk die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Jsselmeer 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ddenzee scheid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plaats w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rachtigst is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het vloeiba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steente dat bij e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ulkaanuitbarsting n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uiten komt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Welke orkaan teisterde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2005 de Verenigde Stat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(New Orleans, Houston)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 zondag 26 december 200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nd een zeer zware zeebe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ats in de Indische Oceaan d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en vloedgolf veroorzaak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em 3 landen die getroffen werd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ar kom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rdbevingen voor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0852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pelregel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20 vrag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ng. 1 minuut per vraag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in groepjes van 5 person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verleg met anderen verbod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een hulpmiddel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roep met de meest goede antwoorden wint de prijs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4391280" cy="3781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Wat zie je op foto 1 en foto 2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4098960" cy="4149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84720" y="5805360"/>
            <a:ext cx="17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5800" y="5661000"/>
            <a:ext cx="17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Op 13 april 1992 vond e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een natuurramp plaats i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Nederland, bij Roermond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Welke natuurramp was dit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 de watersnoodramp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land heeft m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…………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ngeleg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771280" y="2133720"/>
            <a:ext cx="3467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inde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7280" y="2852640"/>
            <a:ext cx="88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oem 3 natuurrampen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 2 films die ov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tuurrampen gaan!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een vloedgo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ok wel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omen er aardbeving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oor in Nederlan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a of N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vulkaan di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p Sicilië lig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eeft Nederland he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est las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 welk jaar brak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dijken in Zeela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oor? (Watersnoodramp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ies uit: 1950, 1953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955, 1957, 196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2:32:24Z</dcterms:created>
  <dc:creator>matthias</dc:creator>
  <dc:description/>
  <dc:language>en-US</dc:language>
  <cp:lastModifiedBy>matthias</cp:lastModifiedBy>
  <dcterms:modified xsi:type="dcterms:W3CDTF">2009-03-15T14:37:25Z</dcterms:modified>
  <cp:revision>8</cp:revision>
  <dc:subject/>
  <dc:title>Natuurrampen</dc:title>
</cp:coreProperties>
</file>