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AB0-EFBC-4678-992A-0DCC5551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166-BE8C-4E3A-AC3B-DB3AAC2C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810-3425-4B2A-9C58-D87D909B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7F2-574C-4FC0-AF47-A457DC40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37B96-F1E2-4F8F-8468-625F4F1A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C18A1-277E-4F6A-B8B7-7A17DA2C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08BD0-7BDE-4310-A555-F62A693F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D51BF-F497-45C1-B3BD-ED65E869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6B86D-6C45-4DC9-8705-F25287FE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41BBF-C591-4F90-835F-74CA7E76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2115D-7FE9-4E91-8BDD-B77F88A4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762-1F23-4D66-922A-AF9D767B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12E0A-FD2C-423D-9FF6-74880373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88AE4-C10B-478A-9506-6E10547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F43EE-FB97-4254-B1C8-8F16D978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41F9B-DD46-4DD4-B6E6-3B2236A1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5FE16-1AAE-4C94-A5D4-D014556C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D3A-C274-4E8B-8EBA-ED52C1CF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DFD-A264-48BF-81F6-7C20DC7C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E4A-FD71-4738-9A8B-B7AEDECF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6707-7B6A-45F6-9694-53EE48F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D44-2CE6-495B-AFEF-7DE9D442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A70-156B-4217-B7EF-2640DF5A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AD9-C846-4F52-9C28-03229613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540E-9167-4F48-AAE6-D51FCF87CB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1AB5-F604-47E7-B372-C7495B7972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Arial"/>
              </a:rPr>
              <a:t>Natuurrampe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d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in z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t men 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eeuw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bescherm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derland zich tegen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ter? Noem er 3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dijk die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Jsselmeer 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ddenzee scheid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plaats w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rachtigst is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het vloeib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steente dat bij 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ulkaanuitbarsting n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iten komt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Welke orkaan teisterde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2005 de Verenigde Sta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(New Orleans, Houston)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 zondag 26 december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d een zeer zware zeebe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ats in de Indische Oceaan d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vloedgolf veroorzaak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em 3 landen die getroffen we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ar kom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rdbevingen voor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85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pelrege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20 vrag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ng. 1 minuut per vraag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in groepjes van 5 person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verleg met anderen verbod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een hulpmiddel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roep met de meest goede antwoorden wint de prijs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39128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t zie je op foto 1 en foto 2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98960" cy="414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4720" y="580536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5800" y="566100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Op 13 april 1992 vond 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een natuurramp plaats 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Nederland, bij Roermond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Welke natuurramp was dit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de watersnoodramp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land heeft m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………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ngeleg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46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ind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28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em 3 natuurrampe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 2 films di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tuurrampen gaan!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een vloedgo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ok wel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men er aardbev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or in Nederla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 of N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vulkaan d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 Sicilië lig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eft Nederland he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st las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welk jaar brak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dijken in Zee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or? (Watersnoodramp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es uit: 1950, 1953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955, 1957, 196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32:24Z</dcterms:created>
  <dc:creator>matthias</dc:creator>
  <dc:description/>
  <dc:language>en-US</dc:language>
  <cp:lastModifiedBy>matthias</cp:lastModifiedBy>
  <dcterms:modified xsi:type="dcterms:W3CDTF">2009-03-15T14:37:25Z</dcterms:modified>
  <cp:revision>8</cp:revision>
  <dc:subject/>
  <dc:title>Natuurrampen</dc:title>
</cp:coreProperties>
</file>