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5D3-1770-4031-9D4F-FCE2136D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6FA-DA05-469E-8C46-6A162990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F89-7A86-4478-8C39-A145A986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956-6EC0-4AFD-8C3D-9BEB2040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F52-A711-4BEE-B821-032DDD0B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2FDB-A2C1-4D99-9E6C-3C14DF4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584-40E1-446B-AF4B-4E71AA3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DADE-9471-4384-8DEE-C797EC5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061-DDC8-4BB0-8297-8FD4A5D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D44E-90F5-4886-A056-AC8B7C0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E6C0-A36E-4714-9318-FB449FC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5D8-8778-4D92-B9A6-B0027FC8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22A6-24CE-47E9-9562-826F349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A316-2324-4974-A3CC-FC5DD63A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DAA4-4E81-44BD-8503-9FFAF02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BB21-8923-469F-A962-2AA9287B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C0C7-D066-44D8-AD98-9BAE2F81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6B8-CA61-45FF-9CC2-30DB32F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0A7-A8B5-42A5-9445-F5892241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A40-7A7A-4BD6-AD2A-4FB62E46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B4E-2906-4A9D-BE77-178067E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049-BE23-4E1D-8C13-034B18F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EC7-09AB-4404-8931-95D4C045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7D1-8FCA-4444-909A-B5E2245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0B7D-590C-4F48-9DEB-28FF6926476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3F7-A9E8-41E4-8624-1664E4BFF651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aken.wikiwijs.nl/userfiles/e4a36d4b8a6ee92a8ce5d0a76c97d569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van appar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eb je aan al die appara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er een alarm afgaat wat doe je d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oet je eigenlijk do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frequen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diep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regelm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olsbeoor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requentie, kracht, regelmaat, synchron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lijmvlie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, C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haling (regelmaat, diep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rtfrequent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sp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glidreflex (afwez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adeel 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ffectiviteit gaswisseling. (hoge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con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entraal veneuz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rine prod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druk. (pols kra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leur slijmvliezen afh. anesthe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RT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≥ 1 slechte 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CRT ≤ 1 zegt niet altijd i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lectronische 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nografie (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ulsoximetr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mperatuur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druk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C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n standaard ECG. (Abn. Positie d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 frequentie, ritmeafwijkin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andere zaken zijn relatieve veranderingen t.o.v. eerdere momenten in d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en 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 de ademlu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wel inspiratie als expirat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maat voor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circu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395280" y="1844640"/>
            <a:ext cx="8280360" cy="4465800"/>
            <a:chOff x="395280" y="1844640"/>
            <a:chExt cx="8280360" cy="4465800"/>
          </a:xfrm>
        </p:grpSpPr>
        <p:sp>
          <p:nvSpPr>
            <p:cNvPr id="136" name="Rectangle 4"/>
            <p:cNvSpPr/>
            <p:nvPr/>
          </p:nvSpPr>
          <p:spPr>
            <a:xfrm>
              <a:off x="395280" y="2924280"/>
              <a:ext cx="1584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cha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-aanmaa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Blo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2700360" y="2924280"/>
              <a:ext cx="1800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ngblaasj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5003640" y="2924280"/>
              <a:ext cx="187344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luc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 flipH="1">
              <a:off x="3995280" y="3141720"/>
              <a:ext cx="158436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H="1">
              <a:off x="1692000" y="3141720"/>
              <a:ext cx="1655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1692360" y="4005360"/>
              <a:ext cx="1584360" cy="215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3995640" y="429264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148360" y="4869000"/>
              <a:ext cx="1439640" cy="144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apnograa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 flipH="1">
              <a:off x="6156360" y="3645000"/>
              <a:ext cx="503280" cy="1439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236000" y="2781360"/>
              <a:ext cx="1439640" cy="180000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Patiënten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Syste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27640" y="4221000"/>
              <a:ext cx="1368720" cy="144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 flipH="1">
              <a:off x="6156000" y="2997360"/>
              <a:ext cx="1584360" cy="1443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234000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1547640" y="184464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gaswisse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471636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716360" y="2421000"/>
              <a:ext cx="367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580000" y="1844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ha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 adem je norma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capn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nelle stijging door snel begin uitade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teau-waarde is de eindexpiraoir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per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ademlucht vrijwel geen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 !?!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normaal capnogram"/>
          <p:cNvPicPr/>
          <p:nvPr/>
        </p:nvPicPr>
        <p:blipFill>
          <a:blip r:embed="rId1"/>
          <a:stretch/>
        </p:blipFill>
        <p:spPr>
          <a:xfrm>
            <a:off x="1116000" y="1908000"/>
            <a:ext cx="669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Afwijkingen EtCO</a:t>
            </a:r>
            <a:r>
              <a:rPr b="0" lang="nl-NL" sz="4400" spc="-1" strike="noStrike" baseline="-25000">
                <a:solidFill>
                  <a:srgbClr val="b2b2b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6" descr="etco2 tabel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287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rId2" action="ppaction://hlinksldjump"/>
          </p:cNvPr>
          <p:cNvSpPr/>
          <p:nvPr/>
        </p:nvSpPr>
        <p:spPr>
          <a:xfrm>
            <a:off x="7885080" y="476280"/>
            <a:ext cx="790560" cy="504720"/>
          </a:xfrm>
          <a:custGeom>
            <a:avLst/>
            <a:gdLst>
              <a:gd name="textAreaLeft" fmla="*/ 32400 w 790560"/>
              <a:gd name="textAreaRight" fmla="*/ 758160 w 79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24" h="21600">
                <a:moveTo>
                  <a:pt x="0" y="0"/>
                </a:moveTo>
                <a:lnTo>
                  <a:pt x="33824" y="0"/>
                </a:lnTo>
                <a:lnTo>
                  <a:pt x="33824" y="21600"/>
                </a:lnTo>
                <a:lnTo>
                  <a:pt x="0" y="21600"/>
                </a:lnTo>
                <a:close/>
              </a:path>
              <a:path fill="lightenLess" w="33824" h="21600">
                <a:moveTo>
                  <a:pt x="0" y="0"/>
                </a:moveTo>
                <a:lnTo>
                  <a:pt x="33824" y="0"/>
                </a:lnTo>
                <a:lnTo>
                  <a:pt x="32424" y="1400"/>
                </a:lnTo>
                <a:lnTo>
                  <a:pt x="1400" y="1400"/>
                </a:lnTo>
                <a:close/>
              </a:path>
              <a:path fill="darken" w="33824" h="21600">
                <a:moveTo>
                  <a:pt x="33824" y="0"/>
                </a:moveTo>
                <a:lnTo>
                  <a:pt x="33824" y="21600"/>
                </a:lnTo>
                <a:lnTo>
                  <a:pt x="32424" y="20200"/>
                </a:lnTo>
                <a:lnTo>
                  <a:pt x="32424" y="1400"/>
                </a:lnTo>
                <a:close/>
              </a:path>
              <a:path fill="darkenLess" w="33824" h="21600">
                <a:moveTo>
                  <a:pt x="33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24" y="20200"/>
                </a:lnTo>
                <a:close/>
              </a:path>
              <a:path fill="lighten" w="33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24" h="21600">
                <a:moveTo>
                  <a:pt x="9906" y="3794"/>
                </a:moveTo>
                <a:lnTo>
                  <a:pt x="23919" y="10800"/>
                </a:lnTo>
                <a:lnTo>
                  <a:pt x="99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Picture 6" descr="acute daling etco2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176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lvering in 2 ademhali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stoppen ademhaling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Pulsoxi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perifere circulatie. (puls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waarde geeft goede zekerheid van de bloed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van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voorziening perifere weefsels. (Oxymetrie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rouwbaarder naar mate het pulsdeel bet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20087210195337845"/>
          <p:cNvPicPr/>
          <p:nvPr/>
        </p:nvPicPr>
        <p:blipFill>
          <a:blip r:embed="rId1"/>
          <a:stretch/>
        </p:blipFill>
        <p:spPr>
          <a:xfrm>
            <a:off x="4643280" y="692280"/>
            <a:ext cx="4200840" cy="504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ulsoxym"/>
          <p:cNvPicPr/>
          <p:nvPr/>
        </p:nvPicPr>
        <p:blipFill>
          <a:blip r:embed="rId2"/>
          <a:stretch/>
        </p:blipFill>
        <p:spPr>
          <a:xfrm>
            <a:off x="395280" y="692280"/>
            <a:ext cx="4029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pulsoxy tabel"/>
          <p:cNvPicPr/>
          <p:nvPr/>
        </p:nvPicPr>
        <p:blipFill>
          <a:blip r:embed="rId1"/>
          <a:stretch/>
        </p:blipFill>
        <p:spPr>
          <a:xfrm>
            <a:off x="250920" y="453960"/>
            <a:ext cx="87138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Dode ruim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dode ruimte is die hoeveelheid lucht die ingeademd wordt, maar niet deelneemt aan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e delen van ademhalingsappara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toe bij gebruik patiëntensyst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loed op welk systeem je gebru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>
            <a:hlinkClick r:id="" action="ppaction://hlinkshowjump?jump=previousslide"/>
          </p:cNvPr>
          <p:cNvSpPr/>
          <p:nvPr/>
        </p:nvSpPr>
        <p:spPr>
          <a:xfrm>
            <a:off x="7308720" y="404640"/>
            <a:ext cx="935280" cy="64800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171" h="21600">
                <a:moveTo>
                  <a:pt x="0" y="0"/>
                </a:moveTo>
                <a:lnTo>
                  <a:pt x="31171" y="0"/>
                </a:lnTo>
                <a:lnTo>
                  <a:pt x="31171" y="21600"/>
                </a:lnTo>
                <a:lnTo>
                  <a:pt x="0" y="21600"/>
                </a:lnTo>
                <a:close/>
              </a:path>
              <a:path fill="lightenLess" w="31171" h="21600">
                <a:moveTo>
                  <a:pt x="0" y="0"/>
                </a:moveTo>
                <a:lnTo>
                  <a:pt x="31171" y="0"/>
                </a:lnTo>
                <a:lnTo>
                  <a:pt x="29771" y="1400"/>
                </a:lnTo>
                <a:lnTo>
                  <a:pt x="1400" y="1400"/>
                </a:lnTo>
                <a:close/>
              </a:path>
              <a:path fill="darken" w="31171" h="21600">
                <a:moveTo>
                  <a:pt x="31171" y="0"/>
                </a:moveTo>
                <a:lnTo>
                  <a:pt x="31171" y="21600"/>
                </a:lnTo>
                <a:lnTo>
                  <a:pt x="29771" y="20200"/>
                </a:lnTo>
                <a:lnTo>
                  <a:pt x="29771" y="1400"/>
                </a:lnTo>
                <a:close/>
              </a:path>
              <a:path fill="darkenLess" w="31171" h="21600">
                <a:moveTo>
                  <a:pt x="3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1" y="20200"/>
                </a:lnTo>
                <a:close/>
              </a:path>
              <a:path fill="lighten" w="3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1" h="21600">
                <a:moveTo>
                  <a:pt x="8579" y="10800"/>
                </a:moveTo>
                <a:lnTo>
                  <a:pt x="22592" y="3794"/>
                </a:lnTo>
                <a:lnTo>
                  <a:pt x="22592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totaal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tapp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, van het begin tot het einde, voor het onder narcose brengen, houden en weer bij laten komen van een h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 begin 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is je no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17637C4"/>
          <p:cNvPicPr/>
          <p:nvPr/>
        </p:nvPicPr>
        <p:blipFill>
          <a:blip r:embed="rId1"/>
          <a:srcRect l="0" t="0" r="0" b="30049"/>
          <a:stretch/>
        </p:blipFill>
        <p:spPr>
          <a:xfrm>
            <a:off x="1504800" y="0"/>
            <a:ext cx="68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mat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or (machina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stage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st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>
            <a:hlinkClick r:id="rId1"/>
          </p:cNvPr>
          <p:cNvSpPr/>
          <p:nvPr/>
        </p:nvSpPr>
        <p:spPr>
          <a:xfrm>
            <a:off x="4067280" y="2708280"/>
            <a:ext cx="1441440" cy="1800360"/>
          </a:xfrm>
          <a:custGeom>
            <a:avLst/>
            <a:gdLst>
              <a:gd name="textAreaLeft" fmla="*/ 93240 w 1441440"/>
              <a:gd name="textAreaRight" fmla="*/ 1348200 w 1441440"/>
              <a:gd name="textAreaTop" fmla="*/ 93240 h 1800360"/>
              <a:gd name="textAreaBottom" fmla="*/ 1707120 h 1800360"/>
            </a:gdLst>
            <a:ahLst/>
            <a:rect l="textAreaLeft" t="textAreaTop" r="textAreaRight" b="textAreaBottom"/>
            <a:pathLst>
              <a:path w="21600" h="26977">
                <a:moveTo>
                  <a:pt x="0" y="0"/>
                </a:moveTo>
                <a:lnTo>
                  <a:pt x="21600" y="0"/>
                </a:lnTo>
                <a:lnTo>
                  <a:pt x="21600" y="26977"/>
                </a:lnTo>
                <a:lnTo>
                  <a:pt x="0" y="26977"/>
                </a:lnTo>
                <a:close/>
              </a:path>
              <a:path fill="lightenLess" w="21600" h="26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7">
                <a:moveTo>
                  <a:pt x="21600" y="0"/>
                </a:moveTo>
                <a:lnTo>
                  <a:pt x="21600" y="26977"/>
                </a:lnTo>
                <a:lnTo>
                  <a:pt x="20200" y="25577"/>
                </a:lnTo>
                <a:lnTo>
                  <a:pt x="20200" y="1400"/>
                </a:lnTo>
                <a:close/>
              </a:path>
              <a:path fill="darkenLess" w="21600" h="26977">
                <a:moveTo>
                  <a:pt x="21600" y="26977"/>
                </a:moveTo>
                <a:lnTo>
                  <a:pt x="0" y="26977"/>
                </a:lnTo>
                <a:lnTo>
                  <a:pt x="1400" y="25577"/>
                </a:lnTo>
                <a:lnTo>
                  <a:pt x="20200" y="25577"/>
                </a:lnTo>
                <a:close/>
              </a:path>
              <a:path fill="lighten" w="21600" h="26977">
                <a:moveTo>
                  <a:pt x="0" y="26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cat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hoogd risico door conditie patië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 van gebruikte anesthesiemeth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paalde operaties.  (thoraxchiru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z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waking van hypo- en hyper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capnograf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ssistm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ageert op inademing van patië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alleen het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l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zowel ademfrequentie als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Verschil ademen / 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longen door negatieve druk in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de longen door positieve druk in 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PPV 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intermiterende positieve druk 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ass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posi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ositieve dru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nega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nega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Indicaties / gevolge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ugge longen bijv. bij longoede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oraxdruk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↑   →  terugstromen bloed 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Goede indicatie dan valt dat wel m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N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Bij slecht samenvallen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Uitvoeren handbeade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equentie: 10 – 15 x per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llon rustig leegknij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: expiratie = 1 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IJKEN NAAR DE BORSTK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klok / horloge met secondenwijz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7:11:59Z</dcterms:created>
  <dc:creator>H. Verstappen</dc:creator>
  <dc:description/>
  <dc:language>en-US</dc:language>
  <cp:lastModifiedBy>aocoost</cp:lastModifiedBy>
  <dcterms:modified xsi:type="dcterms:W3CDTF">2011-11-15T08:11:30Z</dcterms:modified>
  <cp:revision>20</cp:revision>
  <dc:subject/>
  <dc:title>Anesthesiologie</dc:title>
</cp:coreProperties>
</file>