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14A4-B6E8-42DE-928A-CB4C7623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BE1-37B1-484D-9F07-47368B64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28BF-9C2D-4AA5-9077-04742B70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D1DB-6ECD-47B8-99EC-E1D8EED0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5578-03AC-4103-A8D1-5528DB77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9E18-BB47-4509-86E3-7FA91A73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F382-CACE-4174-869A-899DD9DA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FA2E-418F-4AF3-8758-D4033130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4B26-F2B6-4601-876F-66B08456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EB3A-8FEC-4DDD-8FA4-6E03F14E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EF90-DEFF-4B57-BF36-3773B96D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0157-277D-4EA0-B019-E7D4DF3B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79F7-AF5C-443B-A7B8-2680436D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10E5-86B0-4AD5-874B-4140D8DE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39F4-1E80-49BB-973E-BCB78EA6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5530-C670-4581-9392-A29EAE25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69B0-F684-47FE-A252-972C189F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D60E-E842-4C85-B80F-B7929CCA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9F8E-2317-49DB-B609-4DDEB91D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8EDF-324A-4125-8E1A-A4142A71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C82A-2DF6-4742-A016-065C6A29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811C-ED38-4CEA-AF92-81E35341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B8D2-1C60-4C3D-993E-AC2FB502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EE0F-82D8-46AE-9B46-420D4144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3DE4-25FB-406C-BBF4-009C37A231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0AD5-FD3B-4962-A11A-AF150FD729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Effect van Pijnbestrijding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odzaak pijnbestrijd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ledige pijnstilling is niet mogelijk behalve bij algehele anesthes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voldoende pijnbestrij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der wel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mindering fysiologische func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vol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atieve energieba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derde weerst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echtere wondgenez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u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ijnbestrijding (schematisch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68360" y="1557360"/>
            <a:ext cx="8207280" cy="5021280"/>
            <a:chOff x="468360" y="1557360"/>
            <a:chExt cx="8207280" cy="502128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468360" y="1557360"/>
              <a:ext cx="8207280" cy="50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227640" y="357336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jnrecep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148360" y="3789360"/>
              <a:ext cx="107928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826920" y="3284640"/>
            <a:ext cx="2016360" cy="64908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27640" y="5805360"/>
            <a:ext cx="2160720" cy="57636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5805360"/>
            <a:ext cx="2448000" cy="57636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5734080"/>
            <a:ext cx="1440000" cy="43164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24360" y="4221000"/>
            <a:ext cx="2735280" cy="64800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5013360"/>
            <a:ext cx="2232000" cy="79200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19640" y="4292640"/>
            <a:ext cx="2232000" cy="72072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2492280"/>
            <a:ext cx="2087640" cy="79236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pbouw pij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fases in de pijn”opbouw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jdens de ingr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stekingsreactie na de ingr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voldoende pijnbestrij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kkelovergevoelighe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6318" t="8036" r="3717" b="809"/>
          <a:stretch/>
        </p:blipFill>
        <p:spPr>
          <a:xfrm>
            <a:off x="611280" y="295200"/>
            <a:ext cx="7780320" cy="6294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498920" y="260280"/>
            <a:ext cx="4033800" cy="327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3880" y="3540240"/>
            <a:ext cx="3875040" cy="3128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8920" y="3540240"/>
            <a:ext cx="4033800" cy="3128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pdrac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k een overzicht van de op je stagepraktijk gebruikte pijnstill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k een onderverdeling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okaal anesthe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pia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2-agonis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NSAID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Overi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Geef ook aan wanneer voor de ene pijnstiller wordt gekozen en wanneer voor een and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3:17:35Z</dcterms:created>
  <dc:creator>Enschede</dc:creator>
  <dc:description/>
  <dc:language>en-US</dc:language>
  <cp:lastModifiedBy>H. Verstappen</cp:lastModifiedBy>
  <dcterms:modified xsi:type="dcterms:W3CDTF">2009-11-15T14:06:30Z</dcterms:modified>
  <cp:revision>6</cp:revision>
  <dc:subject/>
  <dc:title>Effect van Pijnbestrijding</dc:title>
</cp:coreProperties>
</file>