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9B4-2614-45E8-844C-01DB9C1B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571-D60A-49A7-BBC6-15210897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8D0-A92E-4E20-8E68-61E00D8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50E-1DCF-41CC-8A3E-5F07B3A3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74DA-CF6B-47BD-974D-61A6C01D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D36-40BE-49D9-BEB9-58B6E4C7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6D0A-F296-440A-A389-D653DE8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74A5-55C5-407D-9CA1-EA6EED8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9738-FCA1-4BF3-88D5-ADDB9439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62E-1A79-430F-9508-AB276A06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B74-3A67-417B-AEB7-71B9217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C26-7381-4384-BBA2-217FBBD5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FC8E-4AB6-4949-9F33-3A42CD0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56D-584B-410E-B505-BDD347D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57B-43A3-4DC7-AE20-F201F43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2B7F-A500-4ADC-8684-BD717C66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04A8-86E4-4DCB-8F9E-3A9AED27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BBD-FE57-488A-8758-492C1A9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58C-7F68-478E-9F5C-4D092AC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561-2D92-482B-860B-60A2288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378-F26E-4BCD-BB66-9C7C1159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E81-F762-49F7-92B5-5681FDF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EFF-CF2B-4B02-A8C6-19DBB4E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323-C6DB-422A-AA60-2CFD7CC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AC0-86CB-4CB0-81C9-F3FF4D7C99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08D8-A79B-432E-B068-118E36E09E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tailrepair.nl/images/gespre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dd1"/>
                </a:solidFill>
                <a:latin typeface="Times New Roman"/>
              </a:rPr>
              <a:t>Anesthesie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Picture 4" descr="Narcose002"/>
          <p:cNvPicPr/>
          <p:nvPr/>
        </p:nvPicPr>
        <p:blipFill>
          <a:blip r:embed="rId1"/>
          <a:stretch/>
        </p:blipFill>
        <p:spPr>
          <a:xfrm>
            <a:off x="4356000" y="620640"/>
            <a:ext cx="4152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eld pré-medicatie pla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Routinepla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 : Voor dosering zie doserings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Windhondachtigen. (Hoge H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tranquil: 0.1   mg/k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thadon : 1      mg/kg           Atropine   : 0.05 mg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Epilepsie 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: Zie 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Nier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idazolan®  : 0.5 – 1 mg/k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ethadon®   :          1 mg/k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tubere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5" descr="Narcose012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6" name="Picture 5" descr="Narcose013"/>
          <p:cNvPicPr/>
          <p:nvPr/>
        </p:nvPicPr>
        <p:blipFill>
          <a:blip r:embed="rId1"/>
          <a:stretch/>
        </p:blipFill>
        <p:spPr>
          <a:xfrm>
            <a:off x="1258920" y="1484280"/>
            <a:ext cx="6337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8" name="infuus vorbereiden en aansluiten.wmv" descr=""/>
          <p:cNvPicPr/>
          <p:nvPr/>
        </p:nvPicPr>
        <p:blipFill>
          <a:blip r:embed="rId1"/>
          <a:stretch/>
        </p:blipFill>
        <p:spPr>
          <a:xfrm>
            <a:off x="179280" y="1011240"/>
            <a:ext cx="8785440" cy="4940280"/>
          </a:xfrm>
          <a:prstGeom prst="rect">
            <a:avLst/>
          </a:prstGeom>
          <a:ln w="0">
            <a:noFill/>
          </a:ln>
        </p:spPr>
      </p:pic>
      <p:pic>
        <p:nvPicPr>
          <p:cNvPr id="149" name="infuus vorbereiden en aansluiten.wmv" descr=""/>
          <p:cNvPicPr/>
          <p:nvPr/>
        </p:nvPicPr>
        <p:blipFill>
          <a:blip r:embed="rId2"/>
          <a:stretch/>
        </p:blipFill>
        <p:spPr>
          <a:xfrm>
            <a:off x="219240" y="981000"/>
            <a:ext cx="8832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Narcose015"/>
          <p:cNvPicPr/>
          <p:nvPr/>
        </p:nvPicPr>
        <p:blipFill>
          <a:blip r:embed="rId1"/>
          <a:stretch/>
        </p:blipFill>
        <p:spPr>
          <a:xfrm>
            <a:off x="250920" y="2349360"/>
            <a:ext cx="4105080" cy="307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Narcose016"/>
          <p:cNvPicPr/>
          <p:nvPr/>
        </p:nvPicPr>
        <p:blipFill>
          <a:blip r:embed="rId2"/>
          <a:stretch/>
        </p:blipFill>
        <p:spPr>
          <a:xfrm>
            <a:off x="4716360" y="2349360"/>
            <a:ext cx="4105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rei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577044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med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tubere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fuus iv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4" name="Picture 5" descr="narcose_kat_4402"/>
          <p:cNvPicPr/>
          <p:nvPr/>
        </p:nvPicPr>
        <p:blipFill>
          <a:blip r:embed="rId1"/>
          <a:stretch/>
        </p:blipFill>
        <p:spPr>
          <a:xfrm>
            <a:off x="4643280" y="3284640"/>
            <a:ext cx="360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anesthetisch evalu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anamnes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SA classif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nesthesiologische anamnes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Bestaat uit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Med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cent toegediende medicijnen (dosering en tijdstip)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 anesthesie en wat gaat er gebeuren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9" name="Picture 7" descr="gespr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657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7"/>
          <p:cNvGraphicFramePr/>
          <p:nvPr/>
        </p:nvGraphicFramePr>
        <p:xfrm>
          <a:off x="971640" y="189000"/>
          <a:ext cx="6840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6840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5651640" y="189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oorbeeld vragenlij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dd1"/>
                </a:solidFill>
                <a:latin typeface="Times New Roman"/>
              </a:rPr>
              <a:t>Pré-anesthetisch onderzoek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: Is een narcose verantwoord?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ne indru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as, gedrag, beweging, voedingstoestand, verzorging, IHOLKA. 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(In het oog lopende kllinische afwijking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en onderzoek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. P. T. Slijmv. Lnn. Huid Beharing Hoornige structur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anvullend bloedonderzoek. 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SA classif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1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rmaal gezonde patiënt zonder onderliggende ziek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2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ichte tot matig ernstige systemische aandoening zonder klinisch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3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tig ernstige systemische aandoening met milde symptomen. (hypovolemie. Matige koor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4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rnstige systemische aandoening met levensbedreigend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5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vende patiënt, of sterven binnen 24 uur te verwach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el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oöperatief gedr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perking pijn en stress in de begin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mindering van de later te gebruiken middel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heppen van voorwaarden voor een veilige en ongecompliceerde inleiding, onderhoud en ontwaakperi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mitor</a:t>
            </a:r>
            <a:r>
              <a:rPr b="0" lang="nl-NL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 lichte sedatie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edatie, pijnst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Ketamine (Lichte slaap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oeddrukondersteunend, bloeddruk verhog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ctiemid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(Atropine. Niet gebruiken ivm bloeddruk daling door domito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Hierbij is te opereren. Niet te lange operatie’s ½ - 1 uur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4:34:41Z</dcterms:created>
  <dc:creator>Verstappen</dc:creator>
  <dc:description/>
  <dc:language>en-US</dc:language>
  <cp:lastModifiedBy>Verstappen</cp:lastModifiedBy>
  <dcterms:modified xsi:type="dcterms:W3CDTF">2010-10-04T09:36:05Z</dcterms:modified>
  <cp:revision>9</cp:revision>
  <dc:subject/>
  <dc:title>Anesthesie</dc:title>
</cp:coreProperties>
</file>