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C17D-A63A-4833-BCF5-5C2BE8CE498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4632-8F57-4D3A-B7B7-EF41EFFBA5D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9CC-E2ED-41FF-9B0A-01AE5AC5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EFB-6278-44A1-8545-0D771675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52E-29FE-41E8-B3F3-1AB794E3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A0D-43C7-41A2-9A0A-8D71B69C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EBD6-EA50-4020-92C0-2A82997A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4A86-887A-47A0-85E5-6596B304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F0B7-9477-44FD-88B0-B83BDCEB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C3FF-FF69-46DD-B162-1BAB0A39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ABE5-DD1C-44ED-A089-566295FE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04F1-0562-407A-9988-87E54638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4A16-952D-4EAB-A8CA-AFA85915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887-8EF4-4BB9-B025-3F45B327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06AC-F854-4B52-8896-281F8D7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3A18-3650-4BE5-892F-7CD72BC2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23B7-74AC-4156-A34C-3095855D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2921-8604-4C2C-9438-9D14BB98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1249-42B8-46EE-BEB1-AFFC4C5B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DB904-A6C7-42A3-804C-42ABB644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78E7-2079-434C-926E-08421868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CC7E-6EA2-40CE-B29E-C424FF49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D2F5-25CD-48DB-9833-769F2985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C32E-4FAD-4727-ACAD-235F688E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FD9-C9BF-4868-BF2B-EAB75B76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1CE5-8BD4-45B8-961B-DB95494F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000C-5EA0-4CF7-80CE-56C74BC9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F0FF-674C-4161-9F84-81D00C8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F7A9-09E5-4A43-A545-C26BB0C9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6B77-DADC-459F-90D3-F0BDD7FC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E50E-A6CB-4F01-8C48-F58709B9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3742-7B8E-469A-84A3-1FD788DD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25A-28DD-4D3B-866A-85236C6E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3DB-F4ED-4624-90DE-0FCFA928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ECC-E55A-45C1-A991-FC5D62C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3AA-F5F1-40FE-A991-E9AB425D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AFE-7575-42C7-A20E-924323C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31D-454B-4EF7-9E5A-A7C0A5C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3F71-D330-4992-A7E2-6E55535DF12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EF57-E89E-4E95-BCD2-F83BA2BA0D36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61B7-94F4-450E-9034-8CEEB638E47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eec94"/>
                </a:solidFill>
                <a:latin typeface="Times New Roman"/>
              </a:rPr>
              <a:t>Inhalatie anaesthesi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erdamper fl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11" descr="apparaat017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apparaat015"/>
          <p:cNvPicPr/>
          <p:nvPr/>
        </p:nvPicPr>
        <p:blipFill>
          <a:blip r:embed="rId2"/>
          <a:stretch/>
        </p:blipFill>
        <p:spPr>
          <a:xfrm>
            <a:off x="4971960" y="1600200"/>
            <a:ext cx="3390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20000" y="259920"/>
            <a:ext cx="4334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eec94"/>
                </a:solidFill>
                <a:latin typeface="Times New Roman"/>
              </a:rPr>
              <a:t>Verse Gasaanvoer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Picture 7" descr="apparaat010"/>
          <p:cNvPicPr/>
          <p:nvPr/>
        </p:nvPicPr>
        <p:blipFill>
          <a:blip r:embed="rId1"/>
          <a:stretch/>
        </p:blipFill>
        <p:spPr>
          <a:xfrm>
            <a:off x="684360" y="620640"/>
            <a:ext cx="4365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erdamp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3" name="Picture 6" descr="apparaat001"/>
          <p:cNvPicPr/>
          <p:nvPr/>
        </p:nvPicPr>
        <p:blipFill>
          <a:blip r:embed="rId1"/>
          <a:stretch/>
        </p:blipFill>
        <p:spPr>
          <a:xfrm>
            <a:off x="468360" y="155736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apparaat019"/>
          <p:cNvPicPr/>
          <p:nvPr/>
        </p:nvPicPr>
        <p:blipFill>
          <a:blip r:embed="rId2"/>
          <a:stretch/>
        </p:blipFill>
        <p:spPr>
          <a:xfrm>
            <a:off x="4427640" y="2133720"/>
            <a:ext cx="360036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619280" y="0"/>
            <a:ext cx="568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Gas evacuatie 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Picture 8" descr="Narcose001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Narcose003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ullen en Leeg mak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0" name="Picture 8" descr="apparaat022"/>
          <p:cNvPicPr/>
          <p:nvPr/>
        </p:nvPicPr>
        <p:blipFill>
          <a:blip r:embed="rId1"/>
          <a:stretch/>
        </p:blipFill>
        <p:spPr>
          <a:xfrm>
            <a:off x="5003640" y="1844640"/>
            <a:ext cx="3391200" cy="453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apparaat020"/>
          <p:cNvPicPr/>
          <p:nvPr/>
        </p:nvPicPr>
        <p:blipFill>
          <a:blip r:embed="rId2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anesthesieapparatuur contoleren en gebruiksklaarmaken.wmv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48760" cy="4695840"/>
          </a:xfrm>
          <a:prstGeom prst="rect">
            <a:avLst/>
          </a:prstGeom>
          <a:ln w="0">
            <a:noFill/>
          </a:ln>
        </p:spPr>
      </p:pic>
      <p:sp>
        <p:nvSpPr>
          <p:cNvPr id="213" name="Tekstvak 2"/>
          <p:cNvSpPr/>
          <p:nvPr/>
        </p:nvSpPr>
        <p:spPr>
          <a:xfrm>
            <a:off x="1476360" y="5661000"/>
            <a:ext cx="53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ze video kun in het arrangement apart aanklik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Lekproef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5" name="Picture 6" descr="apparaat025"/>
          <p:cNvPicPr/>
          <p:nvPr/>
        </p:nvPicPr>
        <p:blipFill>
          <a:blip r:embed="rId1"/>
          <a:stretch/>
        </p:blipFill>
        <p:spPr>
          <a:xfrm>
            <a:off x="1258920" y="1481040"/>
            <a:ext cx="1944720" cy="1324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oel: Lekt het narcosesy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opje op patiëntenaanslu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et bypass ballon opbla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ls de ballon op spanning blijft is het systeem niet l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0" descr="systeem001"/>
          <p:cNvPicPr/>
          <p:nvPr/>
        </p:nvPicPr>
        <p:blipFill>
          <a:blip r:embed="rId2"/>
          <a:stretch/>
        </p:blipFill>
        <p:spPr>
          <a:xfrm>
            <a:off x="395280" y="3068640"/>
            <a:ext cx="3816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anesthesiesysteem kiezen en aansluiten.wmv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Cirkel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Picture 9" descr="Narcose005"/>
          <p:cNvPicPr/>
          <p:nvPr/>
        </p:nvPicPr>
        <p:blipFill>
          <a:blip r:embed="rId1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apparaat008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Appara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Narcose003"/>
          <p:cNvPicPr/>
          <p:nvPr/>
        </p:nvPicPr>
        <p:blipFill>
          <a:blip r:embed="rId1"/>
          <a:stretch/>
        </p:blipFill>
        <p:spPr>
          <a:xfrm>
            <a:off x="1116000" y="1430280"/>
            <a:ext cx="72532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FBC48F8A"/>
          <p:cNvPicPr/>
          <p:nvPr/>
        </p:nvPicPr>
        <p:blipFill>
          <a:blip r:embed="rId1"/>
          <a:srcRect l="0" t="10072" r="0" b="0"/>
          <a:stretch/>
        </p:blipFill>
        <p:spPr>
          <a:xfrm>
            <a:off x="395280" y="1484280"/>
            <a:ext cx="8209080" cy="3649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692360" y="5877000"/>
            <a:ext cx="53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Kleurcontrole kaartje voor verkleurende sodal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vangen bij 7-9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Cirkel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5" name="Picture 7" descr="apparaat013"/>
          <p:cNvPicPr/>
          <p:nvPr/>
        </p:nvPicPr>
        <p:blipFill>
          <a:blip r:embed="rId1"/>
          <a:stretch/>
        </p:blipFill>
        <p:spPr>
          <a:xfrm>
            <a:off x="468360" y="191628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apparaat007"/>
          <p:cNvPicPr/>
          <p:nvPr/>
        </p:nvPicPr>
        <p:blipFill>
          <a:blip r:embed="rId2"/>
          <a:stretch/>
        </p:blipFill>
        <p:spPr>
          <a:xfrm>
            <a:off x="4643280" y="2924280"/>
            <a:ext cx="4038840" cy="3022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104292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Kl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64000" y="6237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stelbaar overdrukventi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Bains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Picture 7" descr="Narcose006"/>
          <p:cNvPicPr/>
          <p:nvPr/>
        </p:nvPicPr>
        <p:blipFill>
          <a:blip r:embed="rId1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patiëntensysteem007"/>
          <p:cNvPicPr/>
          <p:nvPr/>
        </p:nvPicPr>
        <p:blipFill>
          <a:blip r:embed="rId2"/>
          <a:stretch/>
        </p:blipFill>
        <p:spPr>
          <a:xfrm>
            <a:off x="4932360" y="1628640"/>
            <a:ext cx="3191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Philip Ayre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al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sluiting patië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sluiting vers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verdrukventi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Gasaf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patiëntensysteem003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sp>
        <p:nvSpPr>
          <p:cNvPr id="235" name="Line 7"/>
          <p:cNvSpPr/>
          <p:nvPr/>
        </p:nvSpPr>
        <p:spPr>
          <a:xfrm flipH="1">
            <a:off x="1979280" y="1916280"/>
            <a:ext cx="280836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3492000" y="2924280"/>
            <a:ext cx="1366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1619280" y="3933720"/>
            <a:ext cx="3240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203280" y="3068640"/>
            <a:ext cx="1655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 flipH="1" flipV="1">
            <a:off x="3348000" y="3500280"/>
            <a:ext cx="1440000" cy="259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pdrach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kijk het anesthesieapparaat en de patientensystemen op je stageplek. Indien aanwezi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Maakt een of meerdere foto(‘s) en zet die op een USB-stick oid. Indien mogelijk in een powerpoint 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in de volgende les aan de hand van de foto waar wat zit op het apparaat en hoe de patientensystemen in elkaar zitt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508360" y="2565000"/>
            <a:ext cx="31669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Apparaat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6" descr="9D181639"/>
          <p:cNvPicPr/>
          <p:nvPr/>
        </p:nvPicPr>
        <p:blipFill>
          <a:blip r:embed="rId1"/>
          <a:stretch/>
        </p:blipFill>
        <p:spPr>
          <a:xfrm>
            <a:off x="684360" y="1052640"/>
            <a:ext cx="3536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nderdelen van het systeem</a:t>
            </a:r>
            <a:br>
              <a:rPr sz="4400"/>
            </a:br>
            <a:r>
              <a:rPr b="1" lang="nl-NL" sz="4400" spc="-1" strike="noStrike">
                <a:solidFill>
                  <a:srgbClr val="ff0000"/>
                </a:solidFill>
                <a:latin typeface="Times New Roman"/>
              </a:rPr>
              <a:t>2 aparte delen</a:t>
            </a: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 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2327040"/>
            <a:ext cx="403884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Verse gas aanvo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(N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low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dam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by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0" y="2327400"/>
            <a:ext cx="403848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atiëntensyste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irkel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ains-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hilip Ayre-systeem = baby-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408720" cy="6408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6804000" y="2060640"/>
            <a:ext cx="216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Het gele deel van het systeem (lachgas) zal nog maar weinig voorkom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De aansluitingen zijn vaak nog wel aan-wez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jdelijke aanduiding voor inhoud 3" descr="SM%20anesthesie%20systeem%20006.jpg"/>
          <p:cNvPicPr/>
          <p:nvPr/>
        </p:nvPicPr>
        <p:blipFill>
          <a:blip r:embed="rId1"/>
          <a:stretch/>
        </p:blipFill>
        <p:spPr>
          <a:xfrm>
            <a:off x="2124000" y="260280"/>
            <a:ext cx="4807080" cy="6408720"/>
          </a:xfrm>
          <a:prstGeom prst="rect">
            <a:avLst/>
          </a:prstGeom>
          <a:ln w="0">
            <a:noFill/>
          </a:ln>
        </p:spPr>
      </p:pic>
      <p:sp>
        <p:nvSpPr>
          <p:cNvPr id="180" name="Line 6"/>
          <p:cNvSpPr/>
          <p:nvPr/>
        </p:nvSpPr>
        <p:spPr>
          <a:xfrm flipV="1">
            <a:off x="971640" y="3141720"/>
            <a:ext cx="165564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755640" y="1268280"/>
            <a:ext cx="230364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 flipH="1">
            <a:off x="6372000" y="620640"/>
            <a:ext cx="165564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9"/>
          <p:cNvSpPr/>
          <p:nvPr/>
        </p:nvSpPr>
        <p:spPr>
          <a:xfrm flipH="1" flipV="1">
            <a:off x="6659640" y="2852640"/>
            <a:ext cx="172872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1042920" y="2997000"/>
            <a:ext cx="3384720" cy="21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020000" y="4292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Welke onderdelen worden hier aan-gewez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320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r>
              <a:rPr b="1" lang="nl-NL" sz="4400" spc="-1" strike="noStrike" baseline="-25000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 f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7" name="Picture 6" descr="apparaat001-1"/>
          <p:cNvPicPr/>
          <p:nvPr/>
        </p:nvPicPr>
        <p:blipFill>
          <a:blip r:embed="rId1"/>
          <a:stretch/>
        </p:blipFill>
        <p:spPr>
          <a:xfrm>
            <a:off x="395280" y="692280"/>
            <a:ext cx="2438280" cy="576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apparaat005-1"/>
          <p:cNvPicPr/>
          <p:nvPr/>
        </p:nvPicPr>
        <p:blipFill>
          <a:blip r:embed="rId2"/>
          <a:stretch/>
        </p:blipFill>
        <p:spPr>
          <a:xfrm>
            <a:off x="4211640" y="1700280"/>
            <a:ext cx="3529080" cy="216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apparaat007-1"/>
          <p:cNvPicPr/>
          <p:nvPr/>
        </p:nvPicPr>
        <p:blipFill>
          <a:blip r:embed="rId3"/>
          <a:stretch/>
        </p:blipFill>
        <p:spPr>
          <a:xfrm>
            <a:off x="4859280" y="4221000"/>
            <a:ext cx="21607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rukm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2636640"/>
            <a:ext cx="40384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ruk in Kp/cm</a:t>
            </a:r>
            <a:r>
              <a:rPr b="0" lang="nl-N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x 10 is het aantal liters 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- gas in de f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systeem003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4932360" y="1557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eveel gas zit in de f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Flow m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Picture 8" descr="apparaat015"/>
          <p:cNvPicPr/>
          <p:nvPr/>
        </p:nvPicPr>
        <p:blipFill>
          <a:blip r:embed="rId1"/>
          <a:stretch/>
        </p:blipFill>
        <p:spPr>
          <a:xfrm>
            <a:off x="5003640" y="1628640"/>
            <a:ext cx="3341880" cy="446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apparaat004"/>
          <p:cNvPicPr/>
          <p:nvPr/>
        </p:nvPicPr>
        <p:blipFill>
          <a:blip r:embed="rId2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8:11:36Z</dcterms:created>
  <dc:creator>Verstappen</dc:creator>
  <dc:description/>
  <dc:language>en-US</dc:language>
  <cp:lastModifiedBy>aocoost</cp:lastModifiedBy>
  <dcterms:modified xsi:type="dcterms:W3CDTF">2011-09-27T08:03:08Z</dcterms:modified>
  <cp:revision>17</cp:revision>
  <dc:subject/>
  <dc:title>Inhalatie anaesthesie</dc:title>
</cp:coreProperties>
</file>