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49E5-4FB1-46E7-8BE6-9429BADF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F71-82FE-4563-8347-CA79E829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89D-8E41-448F-8267-8720BF47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FFB9-9CB7-44A2-8469-2C360313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44A1-C287-4182-8F7A-004E2976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5473-C5EE-4D3B-A92B-CF3F7A3C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7C58-E2DE-49DA-B3D7-290FF33C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21FF-A433-4FD1-B059-C204CF5A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B898-F06D-4CF9-81D1-8ADAD654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5A04-9BC9-4EF6-8703-93632E99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9C0F-3FE1-4333-9E64-59A8C2E9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C8AD-F33F-4128-82B9-528DECAA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C3F6-B249-4BF0-9B74-E0609957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3AA9-D3A4-4C5A-A235-D7A74DF0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CEF3-37DB-49C0-BCBF-0D05C22D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27B7-2513-4DA2-B5AB-EEFF31BC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60DF-40FF-4910-8935-4637954D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23CD-5DE0-4E50-B0C3-511DCA6F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A66B-F23A-434E-96A5-E31A96E9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4BD-4BE0-4977-963E-2DBF25A5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C7C3-69EF-4E95-986D-586B1C2B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E2D-24A1-454D-9036-E2C6F797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88A-B235-4E39-9444-8E55FE96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DFB4-B406-4DB9-8314-3B0E2F77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0A49-3058-47E9-A494-52D50CE704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7D44-CF13-4854-8679-A41C997CE1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Effect van Pijnbestrijding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odzaak pijnbestrijd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ledige pijnstilling is niet mogelijk behalve bij algehele anesthes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voldoende pijnbestrij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der wel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mindering fysiologische func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vol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atieve energieba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derde weerst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echtere wondgene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u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ijnbestrijding (schematisch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68360" y="1557360"/>
            <a:ext cx="8207280" cy="5021280"/>
            <a:chOff x="468360" y="1557360"/>
            <a:chExt cx="8207280" cy="502128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468360" y="1557360"/>
              <a:ext cx="8207280" cy="50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227640" y="357336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jnrecep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148360" y="3789360"/>
              <a:ext cx="107928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826920" y="3284640"/>
            <a:ext cx="2016360" cy="64908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27640" y="5805360"/>
            <a:ext cx="2160720" cy="57636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5805360"/>
            <a:ext cx="2448000" cy="57636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5734080"/>
            <a:ext cx="1440000" cy="43164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24360" y="4221000"/>
            <a:ext cx="2735280" cy="64800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5013360"/>
            <a:ext cx="2232000" cy="79200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4292640"/>
            <a:ext cx="2232000" cy="72072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2492280"/>
            <a:ext cx="2087640" cy="79236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pbouw pij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fases in de pijn”opbouw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jdens de ingr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stekingsreactie na de ingr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voldoende pijnbestrij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kkelovergevoelighe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6318" t="8036" r="3717" b="809"/>
          <a:stretch/>
        </p:blipFill>
        <p:spPr>
          <a:xfrm>
            <a:off x="611280" y="295200"/>
            <a:ext cx="7780320" cy="6294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498920" y="260280"/>
            <a:ext cx="4033800" cy="327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3880" y="3540240"/>
            <a:ext cx="3875040" cy="312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8920" y="3540240"/>
            <a:ext cx="4033800" cy="312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k een overzicht van de op je stagepraktijk gebruikte pijnstill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k een onderverdeling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okaal anesthe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pi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2-agonis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NSAID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Overi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Geef ook aan wanneer voor de ene pijnstiller wordt gekozen en wanneer voor een and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3:17:35Z</dcterms:created>
  <dc:creator>Enschede</dc:creator>
  <dc:description/>
  <dc:language>en-US</dc:language>
  <cp:lastModifiedBy>H. Verstappen</cp:lastModifiedBy>
  <dcterms:modified xsi:type="dcterms:W3CDTF">2009-11-15T14:06:30Z</dcterms:modified>
  <cp:revision>6</cp:revision>
  <dc:subject/>
  <dc:title>Effect van Pijnbestrijding</dc:title>
</cp:coreProperties>
</file>