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E82-EEBC-4B0D-9BD5-9E372CA7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081-1079-4381-9B5A-AF12478F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D92-4DBE-43DB-B92E-514D7232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002-7469-46C3-94A0-3491507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B3F4-D03B-4E2F-A386-7CFD5CB0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479C-E004-444E-88A3-E46AF58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B179-B1E2-4D51-A00E-AB57A31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FF49-895F-4558-A6A3-CDE69ED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CAA-E85D-4CA8-9C1F-9FC8F68E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07E7-EB0D-48CE-A4E5-28F2E2F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82DF-7313-4BB3-AD8C-A4464FD3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B63-5B95-41B5-8FBC-E6AFCE90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FA26-E48A-4BC1-8F67-1EA4D58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0113-87D3-471B-8538-082CCA9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3E0F-4502-4059-86C6-CA0FE3F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3BA5-4DF8-4979-96F6-A7CE8832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8E21-6F2C-4375-B142-829A23E1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3BA-B870-4F41-A079-A14789FF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397-714E-4C90-9DD4-5B073D3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FA6-AD8F-4394-B4A9-BC3C3ED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1DD-E6E5-4303-ACA8-B126034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E4C-B5DE-48FD-9BAE-F605198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935-5C55-4D9B-9B4A-8DA2C91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CEE-9A02-4493-8D91-1692F40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0A76-BC17-490B-B713-C3498910519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F3FC-9F5B-4AEC-B4CD-8280D90D8A6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tailrepair.nl/images/gespre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dd1"/>
                </a:solidFill>
                <a:latin typeface="Times New Roman"/>
              </a:rPr>
              <a:t>Anesthesie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Picture 4" descr="Narcose002"/>
          <p:cNvPicPr/>
          <p:nvPr/>
        </p:nvPicPr>
        <p:blipFill>
          <a:blip r:embed="rId1"/>
          <a:stretch/>
        </p:blipFill>
        <p:spPr>
          <a:xfrm>
            <a:off x="4356000" y="620640"/>
            <a:ext cx="41529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eld pré-medicatie pla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Routinepla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 : Voor dosering zie doserings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Windhondachtigen. (Hoge Ht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tranquil: 0.1   mg/k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thadon : 1      mg/kg           Atropine   : 0.05 mg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Epilepsie 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: Zie 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Nier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idazolan®  : 0.5 – 1 mg/k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ethadon®   :          1 mg/k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tubere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4" name="Picture 5" descr="Narcose012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6" name="Picture 5" descr="Narcose013"/>
          <p:cNvPicPr/>
          <p:nvPr/>
        </p:nvPicPr>
        <p:blipFill>
          <a:blip r:embed="rId1"/>
          <a:stretch/>
        </p:blipFill>
        <p:spPr>
          <a:xfrm>
            <a:off x="1258920" y="1484280"/>
            <a:ext cx="6337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8" name="infuus vorbereiden en aansluiten.wmv" descr=""/>
          <p:cNvPicPr/>
          <p:nvPr/>
        </p:nvPicPr>
        <p:blipFill>
          <a:blip r:embed="rId1"/>
          <a:stretch/>
        </p:blipFill>
        <p:spPr>
          <a:xfrm>
            <a:off x="179280" y="1011240"/>
            <a:ext cx="8785440" cy="4940280"/>
          </a:xfrm>
          <a:prstGeom prst="rect">
            <a:avLst/>
          </a:prstGeom>
          <a:ln w="0">
            <a:noFill/>
          </a:ln>
        </p:spPr>
      </p:pic>
      <p:pic>
        <p:nvPicPr>
          <p:cNvPr id="149" name="infuus vorbereiden en aansluiten.wmv" descr=""/>
          <p:cNvPicPr/>
          <p:nvPr/>
        </p:nvPicPr>
        <p:blipFill>
          <a:blip r:embed="rId2"/>
          <a:stretch/>
        </p:blipFill>
        <p:spPr>
          <a:xfrm>
            <a:off x="219240" y="981000"/>
            <a:ext cx="8832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1" name="Picture 5" descr="Narcose015"/>
          <p:cNvPicPr/>
          <p:nvPr/>
        </p:nvPicPr>
        <p:blipFill>
          <a:blip r:embed="rId1"/>
          <a:stretch/>
        </p:blipFill>
        <p:spPr>
          <a:xfrm>
            <a:off x="250920" y="2349360"/>
            <a:ext cx="4105080" cy="307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Narcose016"/>
          <p:cNvPicPr/>
          <p:nvPr/>
        </p:nvPicPr>
        <p:blipFill>
          <a:blip r:embed="rId2"/>
          <a:stretch/>
        </p:blipFill>
        <p:spPr>
          <a:xfrm>
            <a:off x="4716360" y="2349360"/>
            <a:ext cx="4105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reiding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577044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med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tubere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fuus iv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4" name="Picture 5" descr="narcose_kat_4402"/>
          <p:cNvPicPr/>
          <p:nvPr/>
        </p:nvPicPr>
        <p:blipFill>
          <a:blip r:embed="rId1"/>
          <a:stretch/>
        </p:blipFill>
        <p:spPr>
          <a:xfrm>
            <a:off x="4643280" y="3284640"/>
            <a:ext cx="360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anesthetisch evalu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anamnes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SA classif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nesthesiologische anamnes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Bestaat uit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Med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cent toegediende medicijnen (dosering en tijdstip)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 anesthesie en wat gaat er gebeuren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9" name="Picture 7" descr="gespr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657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7"/>
          <p:cNvGraphicFramePr/>
          <p:nvPr/>
        </p:nvGraphicFramePr>
        <p:xfrm>
          <a:off x="971640" y="189000"/>
          <a:ext cx="6840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6840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8"/>
          <p:cNvSpPr/>
          <p:nvPr/>
        </p:nvSpPr>
        <p:spPr>
          <a:xfrm>
            <a:off x="5651640" y="189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oorbeeld vragenlij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dd1"/>
                </a:solidFill>
                <a:latin typeface="Times New Roman"/>
              </a:rPr>
              <a:t>Pré-anesthetisch onderzoek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: Is een narcose verantwoord?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ne indru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as, gedrag, beweging, voedingstoestand, verzorging, IHOLKA. </a:t>
            </a: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(In het oog lopende kllinische afwijking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en onderzoek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. P. T. Slijmv. Lnn. Huid Beharing Hoornige structur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anvullend bloedonderzoek. 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SA classif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1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rmaal gezonde patiënt zonder onderliggende ziek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2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ichte tot matig ernstige systemische aandoening zonder klinisch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3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tig ernstige systemische aandoening met milde symptomen. (hypovolemie. Matige koor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4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rnstige systemische aandoening met levensbedreigend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5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ervende patiënt, of sterven binnen 24 uur te verwach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el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oöperatief gedr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perking pijn en stress in de begin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mindering van de later te gebruiken middel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heppen van voorwaarden voor een veilige en ongecompliceerde inleiding, onderhoud en ontwaakperi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mitor</a:t>
            </a:r>
            <a:r>
              <a:rPr b="0" lang="nl-NL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 lichte sedatie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edatie, pijnst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Ketamine (Lichte slaap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oeddrukondersteunend, bloeddruk verhog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ductiemid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(Atropine. Niet gebruiken ivm bloeddruk daling door domitor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Hierbij is te opereren. Niet te lange operatie’s ½ - 1 uur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4:34:41Z</dcterms:created>
  <dc:creator>Verstappen</dc:creator>
  <dc:description/>
  <dc:language>en-US</dc:language>
  <cp:lastModifiedBy>Verstappen</cp:lastModifiedBy>
  <dcterms:modified xsi:type="dcterms:W3CDTF">2010-10-04T09:36:05Z</dcterms:modified>
  <cp:revision>9</cp:revision>
  <dc:subject/>
  <dc:title>Anesthesie</dc:title>
</cp:coreProperties>
</file>