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7FE-E697-473B-943E-F59D2318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D2F-93AB-451D-B3BD-831AEF43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52C-5238-4D57-8452-48599A1C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C43-1B8F-438F-9135-F74F04D5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CC2-4534-4B64-85E0-7F86C7A3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0E2E-19AA-4700-9654-BD58C0E2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E87-5CC8-4702-AA52-C8DAA48E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A44-3652-49D8-A07F-80E02968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C47-860A-4814-B65E-1D48F551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CB4-38B5-4ABC-A558-5EF33F3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FFB1-1363-42D9-BECF-AC65798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D81-C5F9-4B80-B453-705B7D2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78F4-A6F4-4FFB-92A1-BE9E84BD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1A5-033F-4A1D-9D0D-D513555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2379-2A5A-4E42-848F-AF998F39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F8FF-59BD-4D95-B1BE-6D7AC5E2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33D3-C5D0-4F0E-91C2-E168325C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3EF-1376-4597-A122-F8948F2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7E8-A97A-4E87-841D-BDFB251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EE-EC12-4B01-AE73-38C29E48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D69-B60F-4433-8B96-5C11E08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56A-E112-4692-AA38-7F08BC79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624-78C3-4C90-BF84-87E4E3D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1BD-9A54-47AB-BCFB-C21D3D2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995-1CE8-46A5-B6D1-1ECA412F0B1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E91A-E931-4776-BE23-8724855995B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ken.wikiwijs.nl/userfiles/e4a36d4b8a6ee92a8ce5d0a76c97d569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van appa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eb je aan al die appara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er een alarm afgaat wat doe je d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oet je eigenlijk do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frequen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diep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regelm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olsbeoor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requentie, kracht, regelmaat, synchron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lijmvlie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, C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haling (regelmaat, diep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rtfrequen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sp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glidreflex (afwez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adeel 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ectiviteit gaswisseling. (hoge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con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al veneuz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rine prod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druk. (pols kra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eur slijmvliezen afh. anesthe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RT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≥ 1 slechte 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CRT ≤ 1 zegt niet altijd i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lectronische 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nografie (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ulsoximetr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mperatuur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druk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C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n standaard ECG. (Abn. Positie d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 frequentie, ritmeafwijkin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andere zaken zijn relatieve veranderingen t.o.v. eerdere momenten in d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en 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 de ademl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wel inspiratie als expirat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maat voor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circu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395280" y="1844640"/>
            <a:ext cx="8280360" cy="4465800"/>
            <a:chOff x="395280" y="1844640"/>
            <a:chExt cx="8280360" cy="4465800"/>
          </a:xfrm>
        </p:grpSpPr>
        <p:sp>
          <p:nvSpPr>
            <p:cNvPr id="136" name="Rectangle 4"/>
            <p:cNvSpPr/>
            <p:nvPr/>
          </p:nvSpPr>
          <p:spPr>
            <a:xfrm>
              <a:off x="395280" y="2924280"/>
              <a:ext cx="1584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cha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-aanma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Blo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2700360" y="2924280"/>
              <a:ext cx="1800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ngblaasj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5003640" y="2924280"/>
              <a:ext cx="187344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luc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H="1">
              <a:off x="3995280" y="3141720"/>
              <a:ext cx="158436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H="1">
              <a:off x="1692000" y="3141720"/>
              <a:ext cx="1655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692360" y="4005360"/>
              <a:ext cx="1584360" cy="21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995640" y="429264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148360" y="4869000"/>
              <a:ext cx="1439640" cy="144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apnograa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>
              <a:off x="6156360" y="3645000"/>
              <a:ext cx="503280" cy="1439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236000" y="2781360"/>
              <a:ext cx="1439640" cy="180000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Patiënt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Syste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27640" y="4221000"/>
              <a:ext cx="1368720" cy="144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 flipH="1">
              <a:off x="6156000" y="2997360"/>
              <a:ext cx="1584360" cy="1443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234000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1547640" y="1844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gaswisse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471636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716360" y="2421000"/>
              <a:ext cx="367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580000" y="1844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ha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adem je norma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capn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nelle stijging door snel begin uitade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teau-waarde is de eindexpiraoir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per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ademlucht vrijwel geen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 !?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normaal capnogram"/>
          <p:cNvPicPr/>
          <p:nvPr/>
        </p:nvPicPr>
        <p:blipFill>
          <a:blip r:embed="rId1"/>
          <a:stretch/>
        </p:blipFill>
        <p:spPr>
          <a:xfrm>
            <a:off x="1116000" y="1908000"/>
            <a:ext cx="669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Afwijkingen EtCO</a:t>
            </a:r>
            <a:r>
              <a:rPr b="0" lang="nl-NL" sz="4400" spc="-1" strike="noStrike" baseline="-25000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6" descr="etco2 tabel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87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rId2" action="ppaction://hlinksldjump"/>
          </p:cNvPr>
          <p:cNvSpPr/>
          <p:nvPr/>
        </p:nvSpPr>
        <p:spPr>
          <a:xfrm>
            <a:off x="7885080" y="47628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3794"/>
                </a:moveTo>
                <a:lnTo>
                  <a:pt x="23919" y="10800"/>
                </a:lnTo>
                <a:lnTo>
                  <a:pt x="99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Picture 6" descr="acute daling etco2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176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lvering in 2 ademhali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stoppen ademhaling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Pulsoxi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perifere circulatie. (puls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waarde geeft goede zekerheid van de bloed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van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oorziening perifere weefsels. (Oxymetrie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rouwbaarder naar mate het pulsdeel bet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20087210195337845"/>
          <p:cNvPicPr/>
          <p:nvPr/>
        </p:nvPicPr>
        <p:blipFill>
          <a:blip r:embed="rId1"/>
          <a:stretch/>
        </p:blipFill>
        <p:spPr>
          <a:xfrm>
            <a:off x="4643280" y="692280"/>
            <a:ext cx="4200840" cy="504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ulsoxym"/>
          <p:cNvPicPr/>
          <p:nvPr/>
        </p:nvPicPr>
        <p:blipFill>
          <a:blip r:embed="rId2"/>
          <a:stretch/>
        </p:blipFill>
        <p:spPr>
          <a:xfrm>
            <a:off x="395280" y="692280"/>
            <a:ext cx="4029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pulsoxy tabel"/>
          <p:cNvPicPr/>
          <p:nvPr/>
        </p:nvPicPr>
        <p:blipFill>
          <a:blip r:embed="rId1"/>
          <a:stretch/>
        </p:blipFill>
        <p:spPr>
          <a:xfrm>
            <a:off x="250920" y="453960"/>
            <a:ext cx="87138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Dode ruim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dode ruimte is die hoeveelheid lucht die ingeademd wordt, maar niet deelneemt aan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e delen van ademhalingsappara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toe bij gebruik patiëntensyst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loed op welk systeem je gebru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previousslide"/>
          </p:cNvPr>
          <p:cNvSpPr/>
          <p:nvPr/>
        </p:nvSpPr>
        <p:spPr>
          <a:xfrm>
            <a:off x="7308720" y="40464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1" h="21600">
                <a:moveTo>
                  <a:pt x="8579" y="10800"/>
                </a:moveTo>
                <a:lnTo>
                  <a:pt x="22592" y="3794"/>
                </a:lnTo>
                <a:lnTo>
                  <a:pt x="22592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totaal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tapp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, van het begin tot het einde, voor het onder narcose brengen, houden en weer bij laten komen van een h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 begin 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is je no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17637C4"/>
          <p:cNvPicPr/>
          <p:nvPr/>
        </p:nvPicPr>
        <p:blipFill>
          <a:blip r:embed="rId1"/>
          <a:srcRect l="0" t="0" r="0" b="30049"/>
          <a:stretch/>
        </p:blipFill>
        <p:spPr>
          <a:xfrm>
            <a:off x="1504800" y="0"/>
            <a:ext cx="68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mat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or (machina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stage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st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>
            <a:hlinkClick r:id="rId1"/>
          </p:cNvPr>
          <p:cNvSpPr/>
          <p:nvPr/>
        </p:nvSpPr>
        <p:spPr>
          <a:xfrm>
            <a:off x="4067280" y="2708280"/>
            <a:ext cx="1441440" cy="1800360"/>
          </a:xfrm>
          <a:custGeom>
            <a:avLst/>
            <a:gdLst>
              <a:gd name="textAreaLeft" fmla="*/ 93240 w 1441440"/>
              <a:gd name="textAreaRight" fmla="*/ 1348200 w 1441440"/>
              <a:gd name="textAreaTop" fmla="*/ 93240 h 1800360"/>
              <a:gd name="textAreaBottom" fmla="*/ 1707120 h 1800360"/>
            </a:gdLst>
            <a:ahLst/>
            <a:rect l="textAreaLeft" t="textAreaTop" r="textAreaRight" b="textAreaBottom"/>
            <a:pathLst>
              <a:path w="21600" h="26977">
                <a:moveTo>
                  <a:pt x="0" y="0"/>
                </a:moveTo>
                <a:lnTo>
                  <a:pt x="21600" y="0"/>
                </a:lnTo>
                <a:lnTo>
                  <a:pt x="21600" y="26977"/>
                </a:lnTo>
                <a:lnTo>
                  <a:pt x="0" y="26977"/>
                </a:lnTo>
                <a:close/>
              </a:path>
              <a:path fill="lightenLess" w="21600" h="26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7">
                <a:moveTo>
                  <a:pt x="21600" y="0"/>
                </a:moveTo>
                <a:lnTo>
                  <a:pt x="21600" y="26977"/>
                </a:lnTo>
                <a:lnTo>
                  <a:pt x="20200" y="25577"/>
                </a:lnTo>
                <a:lnTo>
                  <a:pt x="20200" y="1400"/>
                </a:lnTo>
                <a:close/>
              </a:path>
              <a:path fill="darkenLess" w="21600" h="26977">
                <a:moveTo>
                  <a:pt x="21600" y="26977"/>
                </a:moveTo>
                <a:lnTo>
                  <a:pt x="0" y="26977"/>
                </a:lnTo>
                <a:lnTo>
                  <a:pt x="1400" y="25577"/>
                </a:lnTo>
                <a:lnTo>
                  <a:pt x="20200" y="25577"/>
                </a:lnTo>
                <a:close/>
              </a:path>
              <a:path fill="lighten" w="21600" h="26977">
                <a:moveTo>
                  <a:pt x="0" y="26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cat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hoogd risico door conditie patië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 van gebruikte anesthesiemeth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de operaties.  (thoraxchiru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z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waking van hypo- en hyper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capnograf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ssistm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ageert op inademing van patië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alleen het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l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zowel ademfrequentie als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Verschil ademen / 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longen door negatieve druk in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de longen door positieve druk in 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PPV 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intermiterende positieve druk 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ass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posi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ositieve dru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nega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nega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Indicaties / gevolge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ugge longen bijv. bij longoed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oraxdruk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↑   →  terugstromen bloed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Goede indicatie dan valt dat wel m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N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ij slecht samenvallen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Uitvoeren handbeade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equentie: 10 – 15 x per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llon rustig leegknij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: expiratie = 1 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IJKEN NAAR DE BORSTK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klok / horloge met secondenwij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7:11:59Z</dcterms:created>
  <dc:creator>H. Verstappen</dc:creator>
  <dc:description/>
  <dc:language>en-US</dc:language>
  <cp:lastModifiedBy>aocoost</cp:lastModifiedBy>
  <dcterms:modified xsi:type="dcterms:W3CDTF">2011-11-15T08:11:30Z</dcterms:modified>
  <cp:revision>20</cp:revision>
  <dc:subject/>
  <dc:title>Anesthesiologie</dc:title>
</cp:coreProperties>
</file>