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4.png" ContentType="image/png"/>
  <Override PartName="/ppt/media/image11.jpeg" ContentType="image/jpeg"/>
  <Override PartName="/ppt/media/image6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7.png" ContentType="image/png"/>
  <Override PartName="/ppt/media/image29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6.wmf" ContentType="image/x-wmf"/>
  <Override PartName="/ppt/media/image15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E0C8-6325-48ED-B85C-DE14F8C2CD0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90CA-3377-4BD7-8F2B-D11E79678CA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D010-E5B7-4E52-A7EE-AF6B98F6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F2E0-4D9B-4187-9F9C-5B1AF21E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F43-B078-4B16-9FC2-A6E1916B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5AA-600B-4FB6-ABF5-29A75391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ED83-D734-45C1-8C74-0804B05D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69EE-DF16-488B-A8E3-FA30A290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8839-BD72-466E-9A8B-90F8EBFC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945A-846A-4270-8AF3-21E0272A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7031-24AD-49CA-9618-467E5920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18ED-8CB0-4E53-B520-7F7E9BA0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1327-7425-4006-AB38-403C9FCF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0A70-0795-4B4A-829F-DC604449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57EA-B5A6-4981-B68D-ADA4DE90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C433-D266-4610-8AF2-1A873156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6594-A47E-4B93-95A9-BE8FCA83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E417-224D-4604-B4DD-20810523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2793-52CD-4D8D-891A-9607AC12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21714-416B-4196-98EE-0D71C0A8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5C266-3C15-4498-A64B-CCF4B9FF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842D3-E69E-4E7A-BE84-7713F987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2E668-6897-4D88-86A0-981B7DDA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6DFF8-DFB7-4758-BA65-731E9EC1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B32-3F1F-4557-B234-2D526989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411D8-C95E-4D3B-AFE7-8C147646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15AD4-840A-4ED9-95D4-53E77D29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62D3D-DE19-49E1-A120-E1F17D55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B0F17-7EEE-4C33-8D2F-766B0AFD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1E41B-5734-43E1-87EE-8EBFAD95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48C8E-49D9-45A9-99F7-B589B031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30036-AFF9-41C0-AA2E-EE6AA19B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FD8-EE3C-4F97-A8C1-0F177F13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CED-A862-453F-AE66-D605CF11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496-FDAF-4DBF-81A0-72D8EAF2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79B-AB9C-4783-B020-93547233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48F5-65FC-40D0-98E7-239AB285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8BD6-CC94-4EBD-952F-4EC81BBC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AEB8-C78B-4497-B1CD-DD9C80ADA59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4065-068F-44BC-A905-A72FE3F5D047}" type="slidenum"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81F0-8A78-473C-8406-7B7A66CE21D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eec94"/>
                </a:solidFill>
                <a:latin typeface="Times New Roman"/>
              </a:rPr>
              <a:t>Inhalatie anaesthesi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Verdamper flow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8" name="Picture 11" descr="apparaat017"/>
          <p:cNvPicPr/>
          <p:nvPr/>
        </p:nvPicPr>
        <p:blipFill>
          <a:blip r:embed="rId1"/>
          <a:stretch/>
        </p:blipFill>
        <p:spPr>
          <a:xfrm>
            <a:off x="457200" y="2354400"/>
            <a:ext cx="4038480" cy="3022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apparaat015"/>
          <p:cNvPicPr/>
          <p:nvPr/>
        </p:nvPicPr>
        <p:blipFill>
          <a:blip r:embed="rId2"/>
          <a:stretch/>
        </p:blipFill>
        <p:spPr>
          <a:xfrm>
            <a:off x="4971960" y="1600200"/>
            <a:ext cx="33908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20000" y="259920"/>
            <a:ext cx="43344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eec94"/>
                </a:solidFill>
                <a:latin typeface="Times New Roman"/>
              </a:rPr>
              <a:t>Verse Gasaanvoer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1" name="Picture 7" descr="apparaat010"/>
          <p:cNvPicPr/>
          <p:nvPr/>
        </p:nvPicPr>
        <p:blipFill>
          <a:blip r:embed="rId1"/>
          <a:stretch/>
        </p:blipFill>
        <p:spPr>
          <a:xfrm>
            <a:off x="684360" y="620640"/>
            <a:ext cx="4365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Verdamp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3" name="Picture 6" descr="apparaat001"/>
          <p:cNvPicPr/>
          <p:nvPr/>
        </p:nvPicPr>
        <p:blipFill>
          <a:blip r:embed="rId1"/>
          <a:stretch/>
        </p:blipFill>
        <p:spPr>
          <a:xfrm>
            <a:off x="468360" y="1557360"/>
            <a:ext cx="3390840" cy="4530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apparaat019"/>
          <p:cNvPicPr/>
          <p:nvPr/>
        </p:nvPicPr>
        <p:blipFill>
          <a:blip r:embed="rId2"/>
          <a:stretch/>
        </p:blipFill>
        <p:spPr>
          <a:xfrm>
            <a:off x="4427640" y="2133720"/>
            <a:ext cx="360036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1619280" y="0"/>
            <a:ext cx="568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Gas evacuatie syste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7" name="Picture 8" descr="Narcose001"/>
          <p:cNvPicPr/>
          <p:nvPr/>
        </p:nvPicPr>
        <p:blipFill>
          <a:blip r:embed="rId1"/>
          <a:stretch/>
        </p:blipFill>
        <p:spPr>
          <a:xfrm>
            <a:off x="457200" y="2354400"/>
            <a:ext cx="4038480" cy="3022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Narcose003"/>
          <p:cNvPicPr/>
          <p:nvPr/>
        </p:nvPicPr>
        <p:blipFill>
          <a:blip r:embed="rId2"/>
          <a:stretch/>
        </p:blipFill>
        <p:spPr>
          <a:xfrm>
            <a:off x="4648320" y="235440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Vullen en Leeg mak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0" name="Picture 8" descr="apparaat022"/>
          <p:cNvPicPr/>
          <p:nvPr/>
        </p:nvPicPr>
        <p:blipFill>
          <a:blip r:embed="rId1"/>
          <a:stretch/>
        </p:blipFill>
        <p:spPr>
          <a:xfrm>
            <a:off x="5003640" y="1844640"/>
            <a:ext cx="3391200" cy="4530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apparaat020"/>
          <p:cNvPicPr/>
          <p:nvPr/>
        </p:nvPicPr>
        <p:blipFill>
          <a:blip r:embed="rId2"/>
          <a:stretch/>
        </p:blipFill>
        <p:spPr>
          <a:xfrm>
            <a:off x="457200" y="235440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anesthesieapparatuur contoleren en gebruiksklaarmaken.wmv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348760" cy="4695840"/>
          </a:xfrm>
          <a:prstGeom prst="rect">
            <a:avLst/>
          </a:prstGeom>
          <a:ln w="0">
            <a:noFill/>
          </a:ln>
        </p:spPr>
      </p:pic>
      <p:sp>
        <p:nvSpPr>
          <p:cNvPr id="213" name="Tekstvak 2"/>
          <p:cNvSpPr/>
          <p:nvPr/>
        </p:nvSpPr>
        <p:spPr>
          <a:xfrm>
            <a:off x="1476360" y="5661000"/>
            <a:ext cx="53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Deze video kun in het arrangement apart aanklikk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Lekproef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5" name="Picture 6" descr="apparaat025"/>
          <p:cNvPicPr/>
          <p:nvPr/>
        </p:nvPicPr>
        <p:blipFill>
          <a:blip r:embed="rId1"/>
          <a:stretch/>
        </p:blipFill>
        <p:spPr>
          <a:xfrm>
            <a:off x="1258920" y="1481040"/>
            <a:ext cx="1944720" cy="13240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oel: Lekt het narcosesyste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opje op patiëntenaanslui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Met bypass ballon opblaz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ls de ballon op spanning blijft is het systeem niet l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10" descr="systeem001"/>
          <p:cNvPicPr/>
          <p:nvPr/>
        </p:nvPicPr>
        <p:blipFill>
          <a:blip r:embed="rId2"/>
          <a:stretch/>
        </p:blipFill>
        <p:spPr>
          <a:xfrm>
            <a:off x="395280" y="3068640"/>
            <a:ext cx="3816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anesthesiesysteem kiezen en aansluiten.wmv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Cirkel-syste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0" name="Picture 9" descr="Narcose005"/>
          <p:cNvPicPr/>
          <p:nvPr/>
        </p:nvPicPr>
        <p:blipFill>
          <a:blip r:embed="rId1"/>
          <a:stretch/>
        </p:blipFill>
        <p:spPr>
          <a:xfrm>
            <a:off x="781200" y="1600200"/>
            <a:ext cx="3390840" cy="4530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apparaat008"/>
          <p:cNvPicPr/>
          <p:nvPr/>
        </p:nvPicPr>
        <p:blipFill>
          <a:blip r:embed="rId2"/>
          <a:stretch/>
        </p:blipFill>
        <p:spPr>
          <a:xfrm>
            <a:off x="4648320" y="235440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Appara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Picture 4" descr="Narcose003"/>
          <p:cNvPicPr/>
          <p:nvPr/>
        </p:nvPicPr>
        <p:blipFill>
          <a:blip r:embed="rId1"/>
          <a:stretch/>
        </p:blipFill>
        <p:spPr>
          <a:xfrm>
            <a:off x="1116000" y="1430280"/>
            <a:ext cx="725328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FBC48F8A"/>
          <p:cNvPicPr/>
          <p:nvPr/>
        </p:nvPicPr>
        <p:blipFill>
          <a:blip r:embed="rId1"/>
          <a:srcRect l="0" t="10072" r="0" b="0"/>
          <a:stretch/>
        </p:blipFill>
        <p:spPr>
          <a:xfrm>
            <a:off x="395280" y="1484280"/>
            <a:ext cx="8209080" cy="36496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1692360" y="5877000"/>
            <a:ext cx="532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Kleurcontrole kaartje voor verkleurende sodal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Vervangen bij 7-9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Cirkel-syste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5" name="Picture 7" descr="apparaat013"/>
          <p:cNvPicPr/>
          <p:nvPr/>
        </p:nvPicPr>
        <p:blipFill>
          <a:blip r:embed="rId1"/>
          <a:stretch/>
        </p:blipFill>
        <p:spPr>
          <a:xfrm>
            <a:off x="468360" y="1916280"/>
            <a:ext cx="4038480" cy="3022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apparaat007"/>
          <p:cNvPicPr/>
          <p:nvPr/>
        </p:nvPicPr>
        <p:blipFill>
          <a:blip r:embed="rId2"/>
          <a:stretch/>
        </p:blipFill>
        <p:spPr>
          <a:xfrm>
            <a:off x="4643280" y="2924280"/>
            <a:ext cx="4038840" cy="30225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1042920" y="551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Kl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5364000" y="623736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Verstelbaar overdrukventi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Bains-syste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0" name="Picture 7" descr="Narcose006"/>
          <p:cNvPicPr/>
          <p:nvPr/>
        </p:nvPicPr>
        <p:blipFill>
          <a:blip r:embed="rId1"/>
          <a:stretch/>
        </p:blipFill>
        <p:spPr>
          <a:xfrm>
            <a:off x="781200" y="1600200"/>
            <a:ext cx="3390840" cy="453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patiëntensysteem007"/>
          <p:cNvPicPr/>
          <p:nvPr/>
        </p:nvPicPr>
        <p:blipFill>
          <a:blip r:embed="rId2"/>
          <a:stretch/>
        </p:blipFill>
        <p:spPr>
          <a:xfrm>
            <a:off x="4932360" y="1628640"/>
            <a:ext cx="31910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Philip Ayre-syste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all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ansluiting patië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ansluiting vers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verdrukventi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Gasafvo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6" descr="patiëntensysteem003"/>
          <p:cNvPicPr/>
          <p:nvPr/>
        </p:nvPicPr>
        <p:blipFill>
          <a:blip r:embed="rId1"/>
          <a:stretch/>
        </p:blipFill>
        <p:spPr>
          <a:xfrm>
            <a:off x="457200" y="2354400"/>
            <a:ext cx="4038480" cy="3022560"/>
          </a:xfrm>
          <a:prstGeom prst="rect">
            <a:avLst/>
          </a:prstGeom>
          <a:ln w="0">
            <a:noFill/>
          </a:ln>
        </p:spPr>
      </p:pic>
      <p:sp>
        <p:nvSpPr>
          <p:cNvPr id="235" name="Line 7"/>
          <p:cNvSpPr/>
          <p:nvPr/>
        </p:nvSpPr>
        <p:spPr>
          <a:xfrm flipH="1">
            <a:off x="1979280" y="1916280"/>
            <a:ext cx="2808360" cy="158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8"/>
          <p:cNvSpPr/>
          <p:nvPr/>
        </p:nvSpPr>
        <p:spPr>
          <a:xfrm flipH="1">
            <a:off x="3492000" y="2924280"/>
            <a:ext cx="13669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9"/>
          <p:cNvSpPr/>
          <p:nvPr/>
        </p:nvSpPr>
        <p:spPr>
          <a:xfrm flipH="1">
            <a:off x="1619280" y="3933720"/>
            <a:ext cx="3240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10"/>
          <p:cNvSpPr/>
          <p:nvPr/>
        </p:nvSpPr>
        <p:spPr>
          <a:xfrm flipH="1" flipV="1">
            <a:off x="3203280" y="3068640"/>
            <a:ext cx="165564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11"/>
          <p:cNvSpPr/>
          <p:nvPr/>
        </p:nvSpPr>
        <p:spPr>
          <a:xfrm flipH="1" flipV="1">
            <a:off x="3348000" y="3500280"/>
            <a:ext cx="1440000" cy="259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Opdrach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kijk het anesthesieapparaat en de patientensystemen op je stageplek. Indien aanwezi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Maakt een of meerdere foto(‘s) en zet die op een USB-stick oid. Indien mogelijk in een powerpoint d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in de volgende les aan de hand van de foto waar wat zit op het apparaat en hoe de patientensystemen in elkaar zitt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508360" y="2565000"/>
            <a:ext cx="31669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Apparaat (2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Picture 6" descr="9D181639"/>
          <p:cNvPicPr/>
          <p:nvPr/>
        </p:nvPicPr>
        <p:blipFill>
          <a:blip r:embed="rId1"/>
          <a:stretch/>
        </p:blipFill>
        <p:spPr>
          <a:xfrm>
            <a:off x="684360" y="1052640"/>
            <a:ext cx="35366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Onderdelen van het systeem</a:t>
            </a:r>
            <a:br>
              <a:rPr sz="4400"/>
            </a:br>
            <a:r>
              <a:rPr b="1" lang="nl-NL" sz="4400" spc="-1" strike="noStrike">
                <a:solidFill>
                  <a:srgbClr val="ff0000"/>
                </a:solidFill>
                <a:latin typeface="Times New Roman"/>
              </a:rPr>
              <a:t>2 aparte delen</a:t>
            </a: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 !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280" y="2327040"/>
            <a:ext cx="4038840" cy="34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Verse gas aanvo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(N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low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erdam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byp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0" y="2327400"/>
            <a:ext cx="403848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Patiëntensyste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irkelsyste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ains-syste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Philip Ayre-systeem = baby-syste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6408720" cy="6408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6804000" y="2060640"/>
            <a:ext cx="2160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Het gele deel van het systeem (lachgas) zal nog maar weinig voorkome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De aansluitingen zijn vaak nog wel aan-wezi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Tijdelijke aanduiding voor inhoud 3" descr="SM%20anesthesie%20systeem%20006.jpg"/>
          <p:cNvPicPr/>
          <p:nvPr/>
        </p:nvPicPr>
        <p:blipFill>
          <a:blip r:embed="rId1"/>
          <a:stretch/>
        </p:blipFill>
        <p:spPr>
          <a:xfrm>
            <a:off x="2124000" y="260280"/>
            <a:ext cx="4807080" cy="6408720"/>
          </a:xfrm>
          <a:prstGeom prst="rect">
            <a:avLst/>
          </a:prstGeom>
          <a:ln w="0">
            <a:noFill/>
          </a:ln>
        </p:spPr>
      </p:pic>
      <p:sp>
        <p:nvSpPr>
          <p:cNvPr id="180" name="Line 6"/>
          <p:cNvSpPr/>
          <p:nvPr/>
        </p:nvSpPr>
        <p:spPr>
          <a:xfrm flipV="1">
            <a:off x="971640" y="3141720"/>
            <a:ext cx="1655640" cy="72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755640" y="1268280"/>
            <a:ext cx="230364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 flipH="1">
            <a:off x="6372000" y="620640"/>
            <a:ext cx="1655640" cy="1079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9"/>
          <p:cNvSpPr/>
          <p:nvPr/>
        </p:nvSpPr>
        <p:spPr>
          <a:xfrm flipH="1" flipV="1">
            <a:off x="6659640" y="2852640"/>
            <a:ext cx="1728720" cy="72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10"/>
          <p:cNvSpPr/>
          <p:nvPr/>
        </p:nvSpPr>
        <p:spPr>
          <a:xfrm flipV="1">
            <a:off x="1042920" y="2997000"/>
            <a:ext cx="3384720" cy="216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7020000" y="4292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Welke onderdelen worden hier aan-gewez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32000" y="27756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O</a:t>
            </a:r>
            <a:r>
              <a:rPr b="1" lang="nl-NL" sz="4400" spc="-1" strike="noStrike" baseline="-25000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 f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7" name="Picture 6" descr="apparaat001-1"/>
          <p:cNvPicPr/>
          <p:nvPr/>
        </p:nvPicPr>
        <p:blipFill>
          <a:blip r:embed="rId1"/>
          <a:stretch/>
        </p:blipFill>
        <p:spPr>
          <a:xfrm>
            <a:off x="395280" y="692280"/>
            <a:ext cx="2438280" cy="5761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apparaat005-1"/>
          <p:cNvPicPr/>
          <p:nvPr/>
        </p:nvPicPr>
        <p:blipFill>
          <a:blip r:embed="rId2"/>
          <a:stretch/>
        </p:blipFill>
        <p:spPr>
          <a:xfrm>
            <a:off x="4211640" y="1700280"/>
            <a:ext cx="3529080" cy="2168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apparaat007-1"/>
          <p:cNvPicPr/>
          <p:nvPr/>
        </p:nvPicPr>
        <p:blipFill>
          <a:blip r:embed="rId3"/>
          <a:stretch/>
        </p:blipFill>
        <p:spPr>
          <a:xfrm>
            <a:off x="4859280" y="4221000"/>
            <a:ext cx="216072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Drukme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2636640"/>
            <a:ext cx="40384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ruk in Kp/cm</a:t>
            </a:r>
            <a:r>
              <a:rPr b="0" lang="nl-N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 x 10 is het aantal liters O</a:t>
            </a:r>
            <a:r>
              <a:rPr b="0" lang="nl-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 - gas in de f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6" descr="systeem003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57200" y="2354400"/>
            <a:ext cx="4038480" cy="30225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4932360" y="1557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oeveel gas zit in de fl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Flow me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5" name="Picture 8" descr="apparaat015"/>
          <p:cNvPicPr/>
          <p:nvPr/>
        </p:nvPicPr>
        <p:blipFill>
          <a:blip r:embed="rId1"/>
          <a:stretch/>
        </p:blipFill>
        <p:spPr>
          <a:xfrm>
            <a:off x="5003640" y="1628640"/>
            <a:ext cx="3341880" cy="4464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apparaat004"/>
          <p:cNvPicPr/>
          <p:nvPr/>
        </p:nvPicPr>
        <p:blipFill>
          <a:blip r:embed="rId2"/>
          <a:stretch/>
        </p:blipFill>
        <p:spPr>
          <a:xfrm>
            <a:off x="781200" y="1600200"/>
            <a:ext cx="33908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08:11:36Z</dcterms:created>
  <dc:creator>Verstappen</dc:creator>
  <dc:description/>
  <dc:language>en-US</dc:language>
  <cp:lastModifiedBy>aocoost</cp:lastModifiedBy>
  <dcterms:modified xsi:type="dcterms:W3CDTF">2011-09-27T08:03:08Z</dcterms:modified>
  <cp:revision>17</cp:revision>
  <dc:subject/>
  <dc:title>Inhalatie anaesthesie</dc:title>
</cp:coreProperties>
</file>