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2CE-19F8-4BE6-B015-56D4DAFA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398-70C2-43E1-87E2-49FC0577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BC4-651E-469A-86BD-F3D7A4F4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7B5-2778-4670-A5D2-61E8840F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EFD-4C25-42DD-A5A7-C67D8AA2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9CBB-20FD-4BB3-9131-4EAE687D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CC84-D431-4E4F-B79E-52B486B1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4B83-A6A4-4D33-B813-A95EA75D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9772-BAC9-4500-A301-EF223941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18E6-7A0E-4056-A6BF-BA5D9BED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CDA1-2FEC-4903-B3F2-E2A9F53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CA2-F1AE-4C98-A082-3DB7CC26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ACB3-AE60-4660-A0E9-AC111FB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4B3E-0BBB-448E-AA58-5D3D972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E65B-A5B7-47DE-A612-E50F10F1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4C4D-BD1E-438D-81BD-637BEB76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2BA2-5CED-4D09-BD89-80D096F8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59C-0B65-49D4-93DA-B691BE76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09C-A817-409F-B9C8-D0F8B619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2A9-226B-4F05-8DEE-C75A036E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874-6098-4B80-9B6A-D3A73EF5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53E-DECD-4045-BF26-E425BAB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6E5-6194-4A9B-A6CD-F96DB00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793-6E50-4253-9783-0064DB0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4B1-935D-44A0-B34B-93FA864951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DD81-3D8A-4D9D-8D41-B826AA3478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ffect van Pijnbestrijd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odzaak pijnbestrij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ledige pijnstilling is niet mogelijk behalve bij algehele anesthes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voldoende pijnbestrij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er wel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mindering fysiologische func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vol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eve energieba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erde we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chtere wondgen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u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ijnbestrijding (schematis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8360" y="1557360"/>
            <a:ext cx="8207280" cy="5021280"/>
            <a:chOff x="468360" y="1557360"/>
            <a:chExt cx="8207280" cy="50212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207280" cy="50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27640" y="3573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jnrecep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48360" y="3789360"/>
              <a:ext cx="107928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26920" y="3284640"/>
            <a:ext cx="2016360" cy="64908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5805360"/>
            <a:ext cx="2160720" cy="576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5805360"/>
            <a:ext cx="2448000" cy="576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5734080"/>
            <a:ext cx="1440000" cy="43164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4221000"/>
            <a:ext cx="2735280" cy="64800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5013360"/>
            <a:ext cx="2232000" cy="79200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4292640"/>
            <a:ext cx="2232000" cy="72072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2492280"/>
            <a:ext cx="2087640" cy="792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bouw pij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fases in de pijn”opbouw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jdens de ingr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stekingsreactie na de ingr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voldoende pijnbestrij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kkelovergevoelig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6318" t="8036" r="3717" b="809"/>
          <a:stretch/>
        </p:blipFill>
        <p:spPr>
          <a:xfrm>
            <a:off x="611280" y="295200"/>
            <a:ext cx="7780320" cy="629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98920" y="260280"/>
            <a:ext cx="4033800" cy="327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880" y="3540240"/>
            <a:ext cx="3875040" cy="312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8920" y="3540240"/>
            <a:ext cx="4033800" cy="312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overzicht van de op je stagepraktijk gebruikte pijnstil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onderverdeling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okaal anesthe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i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2-agonis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NSAI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Over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Geef ook aan wanneer voor de ene pijnstiller wordt gekozen en wanneer voor een and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17:35Z</dcterms:created>
  <dc:creator>Enschede</dc:creator>
  <dc:description/>
  <dc:language>en-US</dc:language>
  <cp:lastModifiedBy>H. Verstappen</cp:lastModifiedBy>
  <dcterms:modified xsi:type="dcterms:W3CDTF">2009-11-15T14:06:30Z</dcterms:modified>
  <cp:revision>6</cp:revision>
  <dc:subject/>
  <dc:title>Effect van Pijnbestrijding</dc:title>
</cp:coreProperties>
</file>