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0073-F567-4B5A-8343-AD1A1A38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0C86-6BBB-4F41-B055-83E75CF7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D06E-CF1A-4CBA-9B15-01F5880D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887C-4E6D-4AA2-B9DD-14C5B6AD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A032-B311-4C54-906C-0B3ACD3B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CD50-F722-44C5-9B18-80E60251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B899-6772-431C-8D6F-FF2964FC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94E1-DAE5-427F-9F31-16500EF5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6E82-E2AE-4F20-A2F0-8C6F64E3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57FA-2AEF-47C6-9397-AB62C32C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A066-8540-4E27-AF1F-8E2C1A8B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D1CF-5DC8-4967-B598-8D8B0176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1C0A-FB06-490A-9F11-E875180B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7EF2-F6DC-47B0-8160-4271D43D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CFF4-C793-4017-8288-15044F44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E6D2-869C-467E-88A1-7C9A7378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0E2D-0189-49B3-AF46-A2A453A8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9295-7EDF-4139-A578-091FE61B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6C95-B59A-41AE-ABEA-90321305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DCCE-C327-4966-ADAA-C101CF95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CC41-B74F-492A-BAF4-CFA52E07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045-A5C7-4E7C-B942-275C307F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10F-61BC-4A73-BB70-9EE441F6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6CAE-1377-4072-A0E9-BA2F4562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C03F-D286-4EA0-82FC-DEF0802D6D0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BA64-5FE5-4D3C-B80B-A2AF1E73ECB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etailrepair.nl/images/gesprek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2349360"/>
            <a:ext cx="381636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ffdd1"/>
                </a:solidFill>
                <a:latin typeface="Times New Roman"/>
              </a:rPr>
              <a:t>Anesthesie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21" name="Picture 4" descr="Narcose002"/>
          <p:cNvPicPr/>
          <p:nvPr/>
        </p:nvPicPr>
        <p:blipFill>
          <a:blip r:embed="rId1"/>
          <a:stretch/>
        </p:blipFill>
        <p:spPr>
          <a:xfrm>
            <a:off x="4356000" y="620640"/>
            <a:ext cx="41529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Voorbeeld pré-medicatie plan.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a50021"/>
                </a:solidFill>
                <a:latin typeface="Times New Roman"/>
              </a:rPr>
              <a:t>Routineplan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Domitor® : Voor dosering zie doseringstabel “lichte sedatie”. (I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a50021"/>
                </a:solidFill>
                <a:latin typeface="Times New Roman"/>
              </a:rPr>
              <a:t>Windhondachtigen. (Hoge Ht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Vetranquil: 0.1   mg/kg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ethadon : 1      mg/kg           Atropine   : 0.05 mg/k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a50021"/>
                </a:solidFill>
                <a:latin typeface="Times New Roman"/>
              </a:rPr>
              <a:t>Epilepsie patiënten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Domitor®: Zie tabel “lichte sedatie”. (I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a50021"/>
                </a:solidFill>
                <a:latin typeface="Times New Roman"/>
              </a:rPr>
              <a:t>Nierpatiënten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Midazolan®  : 0.5 – 1 mg/k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Methadon®   :          1 mg/k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(I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Intuberen.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44" name="Picture 5" descr="Narcose012"/>
          <p:cNvPicPr/>
          <p:nvPr/>
        </p:nvPicPr>
        <p:blipFill>
          <a:blip r:embed="rId1"/>
          <a:stretch/>
        </p:blipFill>
        <p:spPr>
          <a:xfrm>
            <a:off x="539640" y="1700280"/>
            <a:ext cx="7820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Infuus.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46" name="Picture 5" descr="Narcose013"/>
          <p:cNvPicPr/>
          <p:nvPr/>
        </p:nvPicPr>
        <p:blipFill>
          <a:blip r:embed="rId1"/>
          <a:stretch/>
        </p:blipFill>
        <p:spPr>
          <a:xfrm>
            <a:off x="1258920" y="1484280"/>
            <a:ext cx="63374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48" name="infuus vorbereiden en aansluiten.wmv" descr=""/>
          <p:cNvPicPr/>
          <p:nvPr/>
        </p:nvPicPr>
        <p:blipFill>
          <a:blip r:embed="rId1"/>
          <a:stretch/>
        </p:blipFill>
        <p:spPr>
          <a:xfrm>
            <a:off x="179280" y="1011240"/>
            <a:ext cx="8785440" cy="4940280"/>
          </a:xfrm>
          <a:prstGeom prst="rect">
            <a:avLst/>
          </a:prstGeom>
          <a:ln w="0">
            <a:noFill/>
          </a:ln>
        </p:spPr>
      </p:pic>
      <p:pic>
        <p:nvPicPr>
          <p:cNvPr id="149" name="infuus vorbereiden en aansluiten.wmv" descr=""/>
          <p:cNvPicPr/>
          <p:nvPr/>
        </p:nvPicPr>
        <p:blipFill>
          <a:blip r:embed="rId2"/>
          <a:stretch/>
        </p:blipFill>
        <p:spPr>
          <a:xfrm>
            <a:off x="219240" y="981000"/>
            <a:ext cx="88326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4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9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Infuus.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51" name="Picture 5" descr="Narcose015"/>
          <p:cNvPicPr/>
          <p:nvPr/>
        </p:nvPicPr>
        <p:blipFill>
          <a:blip r:embed="rId1"/>
          <a:stretch/>
        </p:blipFill>
        <p:spPr>
          <a:xfrm>
            <a:off x="250920" y="2349360"/>
            <a:ext cx="4105080" cy="3073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Narcose016"/>
          <p:cNvPicPr/>
          <p:nvPr/>
        </p:nvPicPr>
        <p:blipFill>
          <a:blip r:embed="rId2"/>
          <a:stretch/>
        </p:blipFill>
        <p:spPr>
          <a:xfrm>
            <a:off x="4716360" y="2349360"/>
            <a:ext cx="41054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Voorbereiding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577044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Pré-anesthetisch onderzoek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Pré-medicatie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Intuberen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Infuus iv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24" name="Picture 5" descr="narcose_kat_4402"/>
          <p:cNvPicPr/>
          <p:nvPr/>
        </p:nvPicPr>
        <p:blipFill>
          <a:blip r:embed="rId1"/>
          <a:stretch/>
        </p:blipFill>
        <p:spPr>
          <a:xfrm>
            <a:off x="4643280" y="3284640"/>
            <a:ext cx="3600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Pré-anesthetisch evaluatie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Anesthesiologische anamnese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Pré-anesthetisch onderzoek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ASA classificatie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Anesthesiologische anamnese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Bestaat uit: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Medische geschiedenis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Anesthesiologische geschiedenis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Recent toegediende medicijnen (dosering en tijdstip)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Reden anesthesie en wat gaat er gebeuren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29" name="Picture 7" descr="gespre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1628640"/>
            <a:ext cx="165708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Object 7"/>
          <p:cNvGraphicFramePr/>
          <p:nvPr/>
        </p:nvGraphicFramePr>
        <p:xfrm>
          <a:off x="971640" y="189000"/>
          <a:ext cx="684036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9000"/>
                    <a:ext cx="68403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8"/>
          <p:cNvSpPr/>
          <p:nvPr/>
        </p:nvSpPr>
        <p:spPr>
          <a:xfrm>
            <a:off x="5651640" y="1890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Voorbeeld vragenlij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dd1"/>
                </a:solidFill>
                <a:latin typeface="Times New Roman"/>
              </a:rPr>
              <a:t>Pré-anesthetisch onderzoek</a:t>
            </a:r>
            <a:br>
              <a:rPr sz="4000"/>
            </a:b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Reden: Is een narcose verantwoord?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Algemene indruk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Ras, gedrag, beweging, voedingstoestand, verzorging, IHOLKA. </a:t>
            </a: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(In het oog lopende kllinische afwijkinge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Algemeen onderzoek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. P. T. Slijmv. Lnn. Huid Beharing Hoornige structure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Aanvullend bloedonderzoek.  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ODIG ?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ASA classificatie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50021"/>
                </a:solidFill>
                <a:latin typeface="Times New Roman"/>
              </a:rPr>
              <a:t>ASA 1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rmaal gezonde patiënt zonder onderliggende ziek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50021"/>
                </a:solidFill>
                <a:latin typeface="Times New Roman"/>
              </a:rPr>
              <a:t>ASA 2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Lichte tot matig ernstige systemische aandoening zonder klinische symptom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50021"/>
                </a:solidFill>
                <a:latin typeface="Times New Roman"/>
              </a:rPr>
              <a:t>ASA 3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Matig ernstige systemische aandoening met milde symptomen. (hypovolemie. Matige koort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50021"/>
                </a:solidFill>
                <a:latin typeface="Times New Roman"/>
              </a:rPr>
              <a:t>ASA 4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rnstige systemische aandoening met levensbedreigende symptom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50021"/>
                </a:solidFill>
                <a:latin typeface="Times New Roman"/>
              </a:rPr>
              <a:t>ASA 5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Stervende patiënt, of sterven binnen 24 uur te verwacht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Pré-medicatie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Doel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Coöperatief gedr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eperking pijn en stress in de beginf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ermindering van de later te gebruiken middel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cheppen van voorwaarden voor een veilige en ongecompliceerde inleiding, onderhoud en ontwaakperi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Pré-medicatie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Domitor</a:t>
            </a:r>
            <a:r>
              <a:rPr b="0" lang="nl-NL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( lichte sedatie, goede pijnstilling)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edatie, pijnsti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Ketamine (Lichte slaap, goede pijnstilling)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loeddrukondersteunend, bloeddruk verhoge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nductiemid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a50021"/>
                </a:solidFill>
                <a:latin typeface="Times New Roman"/>
              </a:rPr>
              <a:t>(Atropine. Niet gebruiken ivm bloeddruk daling door domitor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Hierbij is te opereren. Niet te lange operatie’s ½ - 1 uur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7T14:34:41Z</dcterms:created>
  <dc:creator>Verstappen</dc:creator>
  <dc:description/>
  <dc:language>en-US</dc:language>
  <cp:lastModifiedBy>Verstappen</cp:lastModifiedBy>
  <dcterms:modified xsi:type="dcterms:W3CDTF">2010-10-04T09:36:05Z</dcterms:modified>
  <cp:revision>9</cp:revision>
  <dc:subject/>
  <dc:title>Anesthesie</dc:title>
</cp:coreProperties>
</file>