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F30-96BD-47CB-91CE-8C1EFB28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CC8-5AA1-449D-97BA-0697168C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37D-2085-4A54-9CBC-C6CB355B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C7B-7047-49FE-BDE8-544169AF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9E4A-06A2-4B34-B568-67AE81DE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F93C-53B2-4ACB-9D77-515064E0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3A35-25B5-49D0-904E-5080283C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1A8B-0C5C-48A1-A0CB-0C316616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43FA-E558-41B0-9998-09B07C95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7760-9AFE-4197-9173-F8BAF3F3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9230-87FE-4C96-8D93-9C74EC36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AB8-E6E4-4749-B883-268595CE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B1F6-20B1-44BD-A797-5F35D483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3431-B3F4-4D6D-B6AC-3308C084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69AF-5E8C-4BE8-9285-3283E53C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E31B-A049-4CCA-B706-E0D7E0B8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2A7E-E015-445E-BA0F-9E0788A6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97D0-5100-4484-A69F-43D7847B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2B7-E26B-4338-80F1-2FFF7B39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9836-F1CE-4B61-9E38-C20FE85F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0AD7-BFBC-4E01-AD15-EC5E5E43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A23-03BB-49CB-BEEA-AF94C75E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991A-978D-4F9F-9844-947E8073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E14-A0E8-477B-8F66-B7EFE824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DD84-BE94-47E7-8753-6F21C49856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BCFC-C39F-4C63-9BCE-A8DEDD4B26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Effect van Pijnbestrijding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odzaak pijnbestrijd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ledige pijnstilling is niet mogelijk behalve bij algehele anesthes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voldoende pijnbestrij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der wel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mindering fysiologische func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vol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atieve energieba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derde weerst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echtere wondgenez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u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ijnbestrijding (schematisch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68360" y="1557360"/>
            <a:ext cx="8207280" cy="5021280"/>
            <a:chOff x="468360" y="1557360"/>
            <a:chExt cx="8207280" cy="502128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468360" y="1557360"/>
              <a:ext cx="8207280" cy="50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227640" y="357336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jnrecep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148360" y="3789360"/>
              <a:ext cx="107928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826920" y="3284640"/>
            <a:ext cx="2016360" cy="64908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27640" y="5805360"/>
            <a:ext cx="2160720" cy="57636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5805360"/>
            <a:ext cx="2448000" cy="57636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5734080"/>
            <a:ext cx="1440000" cy="43164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24360" y="4221000"/>
            <a:ext cx="2735280" cy="64800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5013360"/>
            <a:ext cx="2232000" cy="79200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4292640"/>
            <a:ext cx="2232000" cy="72072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2492280"/>
            <a:ext cx="2087640" cy="792360"/>
          </a:xfrm>
          <a:prstGeom prst="rect">
            <a:avLst/>
          </a:prstGeom>
          <a:solidFill>
            <a:srgbClr val="53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pbouw pij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fases in de pijn”opbouw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jdens de ingr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stekingsreactie na de ingr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voldoende pijnbestrij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kkelovergevoelighe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6318" t="8036" r="3717" b="809"/>
          <a:stretch/>
        </p:blipFill>
        <p:spPr>
          <a:xfrm>
            <a:off x="611280" y="295200"/>
            <a:ext cx="7780320" cy="6294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498920" y="260280"/>
            <a:ext cx="4033800" cy="327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3880" y="3540240"/>
            <a:ext cx="3875040" cy="312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8920" y="3540240"/>
            <a:ext cx="4033800" cy="312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k een overzicht van de op je stagepraktijk gebruikte pijnstill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k een onderverdeling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okaal anesthe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pi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2-agonis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NSAID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Overi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Geef ook aan wanneer voor de ene pijnstiller wordt gekozen en wanneer voor een and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3:17:35Z</dcterms:created>
  <dc:creator>Enschede</dc:creator>
  <dc:description/>
  <dc:language>en-US</dc:language>
  <cp:lastModifiedBy>H. Verstappen</cp:lastModifiedBy>
  <dcterms:modified xsi:type="dcterms:W3CDTF">2009-11-15T14:06:30Z</dcterms:modified>
  <cp:revision>6</cp:revision>
  <dc:subject/>
  <dc:title>Effect van Pijnbestrijding</dc:title>
</cp:coreProperties>
</file>