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6C59-2F45-433F-9015-F3DD4ADD9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BBDE-62A1-4B6E-8010-C755C01F2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BBBF-9AC8-4A2B-860E-B7575D075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5627-FFB0-4C69-B53E-C346BC5AB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E58A4-7DCB-4E31-B6D9-EB6A3A7DA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B20BD-8FEC-4425-84FE-42AA1564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29952-C647-46D5-9FB8-7729829D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7CEC0-473F-4DEC-B926-DDAEDC803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EB1E0-E4C2-4620-8278-52F3E5E75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FC167-369A-49A4-8A2F-DD38EDE5A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EBCA3-5A07-4800-904F-C622FCD2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2488-059C-4CC9-A3D1-C8782DE53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F85CD-6E42-4A04-894C-1A1EACA8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379E1-69FB-42EA-84E3-822F15C0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737FE-C705-4736-A452-20BF9234D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01BAA-7F33-4D26-A403-F192E9EE1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CA09F-4092-4035-B316-86DE24644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06B0-5C9E-47E1-90D9-AC54605F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C976-B075-4648-B6F8-455C27CF9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4F45-3032-47A6-8FBF-8262D307C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0085-195A-47ED-AA52-10DDACDD7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A4C9-D242-46DB-8E72-97CD9B8A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C81B-69AA-473D-957E-23E228AA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0A5E-C92B-4BEA-89C4-AAA89C11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C2BDE-25F4-4222-94AC-EB3306C64636}" type="slidenum"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C7303-FFE6-42BA-A8B3-588FF41822A9}" type="slidenum"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7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maken.wikiwijs.nl/userfiles/e4a36d4b8a6ee92a8ce5d0a76c97d569.doc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b2b2b2"/>
                </a:solidFill>
                <a:latin typeface="Arial"/>
              </a:rPr>
              <a:t>Anesthesiologi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ade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b2b2b2"/>
                </a:solidFill>
                <a:latin typeface="Arial"/>
              </a:rPr>
              <a:t>Anesthesiologi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wa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2b2b2"/>
                </a:solidFill>
                <a:latin typeface="Arial"/>
              </a:rPr>
              <a:t>Bewak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bruik van appara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at heb je aan al die apparat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ls er een alarm afgaat wat doe je da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at moet je eigenlijk do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2b2b2"/>
                </a:solidFill>
                <a:latin typeface="Arial"/>
              </a:rPr>
              <a:t>Klinische evaluati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demha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Circul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nesthesiediep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2b2b2"/>
                </a:solidFill>
                <a:latin typeface="Arial"/>
              </a:rPr>
              <a:t>Klinische evaluati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demha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demfrequenti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demdiep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demregelma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Circul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Polsbeoorde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Frequentie, kracht, regelmaat, synchronite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Slijmvliez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leur, C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2b2b2"/>
                </a:solidFill>
                <a:latin typeface="Arial"/>
              </a:rPr>
              <a:t>Klinische evaluati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nesthesiediep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demhaling (regelmaat, diep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Hartfrequenti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Spierspan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Ooglidreflex (afwezi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2b2b2"/>
                </a:solidFill>
                <a:latin typeface="Arial"/>
              </a:rPr>
              <a:t>Nadeel klinische evaluati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Effectiviteit gaswisseling. (hoge O</a:t>
            </a:r>
            <a:r>
              <a:rPr b="0" lang="nl-NL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con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Centraal veneuze dru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Urine produc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loed druk. (pols krach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Kleur slijmvliezen afh. anesthet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CRT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≥ 1 slechte circul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CRT ≤ 1 zegt niet altijd ie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2b2b2"/>
                </a:solidFill>
                <a:latin typeface="Arial"/>
              </a:rPr>
              <a:t>Electronische bewak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EC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Capnografie (CO</a:t>
            </a:r>
            <a:r>
              <a:rPr b="0" lang="nl-NL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Pulsoximetri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Temperatuurme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loeddrukme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2b2b2"/>
                </a:solidFill>
                <a:latin typeface="Arial"/>
              </a:rPr>
              <a:t>EC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en standaard ECG. (Abn. Positie di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Controle frequentie, ritmeafwijking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lle andere zaken zijn relatieve veranderingen t.o.v. eerdere momenten in de anesthesi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2b2b2"/>
                </a:solidFill>
                <a:latin typeface="Arial"/>
              </a:rPr>
              <a:t>Capnografi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eten CO</a:t>
            </a:r>
            <a:r>
              <a:rPr b="0" lang="nl-NL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in de ademluch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Zowel inspiratie als expirati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oede maat voor de gaswissel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Lage CO</a:t>
            </a:r>
            <a:r>
              <a:rPr b="0" lang="nl-NL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door onvoldoende circulati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Hoge CO</a:t>
            </a:r>
            <a:r>
              <a:rPr b="0" lang="nl-NL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door onvoldoende ventilati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2b2b2"/>
                </a:solidFill>
                <a:latin typeface="Arial"/>
              </a:rPr>
              <a:t>Capnografi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35" name="Group 23"/>
          <p:cNvGrpSpPr/>
          <p:nvPr/>
        </p:nvGrpSpPr>
        <p:grpSpPr>
          <a:xfrm>
            <a:off x="395280" y="1844640"/>
            <a:ext cx="8280360" cy="4465800"/>
            <a:chOff x="395280" y="1844640"/>
            <a:chExt cx="8280360" cy="4465800"/>
          </a:xfrm>
        </p:grpSpPr>
        <p:sp>
          <p:nvSpPr>
            <p:cNvPr id="136" name="Rectangle 4"/>
            <p:cNvSpPr/>
            <p:nvPr/>
          </p:nvSpPr>
          <p:spPr>
            <a:xfrm>
              <a:off x="395280" y="2924280"/>
              <a:ext cx="1584360" cy="1512720"/>
            </a:xfrm>
            <a:prstGeom prst="rect">
              <a:avLst/>
            </a:prstGeom>
            <a:solidFill>
              <a:srgbClr val="3399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Lichaa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CO</a:t>
              </a:r>
              <a:r>
                <a:rPr b="0" lang="nl-NL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-aanmaa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Bloe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Rectangle 5"/>
            <p:cNvSpPr/>
            <p:nvPr/>
          </p:nvSpPr>
          <p:spPr>
            <a:xfrm>
              <a:off x="2700360" y="2924280"/>
              <a:ext cx="1800360" cy="1512720"/>
            </a:xfrm>
            <a:prstGeom prst="rect">
              <a:avLst/>
            </a:prstGeom>
            <a:solidFill>
              <a:srgbClr val="3399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r>
                <a:rPr b="0" lang="nl-NL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Longblaasj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CO</a:t>
              </a:r>
              <a:r>
                <a:rPr b="0" lang="nl-NL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Rectangle 6"/>
            <p:cNvSpPr/>
            <p:nvPr/>
          </p:nvSpPr>
          <p:spPr>
            <a:xfrm>
              <a:off x="5003640" y="2924280"/>
              <a:ext cx="1873440" cy="1512720"/>
            </a:xfrm>
            <a:prstGeom prst="rect">
              <a:avLst/>
            </a:prstGeom>
            <a:solidFill>
              <a:srgbClr val="3399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r>
                <a:rPr b="0" lang="nl-NL" sz="2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ademluch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CO</a:t>
              </a:r>
              <a:r>
                <a:rPr b="0" lang="nl-NL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7"/>
            <p:cNvSpPr/>
            <p:nvPr/>
          </p:nvSpPr>
          <p:spPr>
            <a:xfrm flipH="1">
              <a:off x="3995280" y="3141720"/>
              <a:ext cx="1584360" cy="0"/>
            </a:xfrm>
            <a:prstGeom prst="line">
              <a:avLst/>
            </a:prstGeom>
            <a:ln w="381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Line 8"/>
            <p:cNvSpPr/>
            <p:nvPr/>
          </p:nvSpPr>
          <p:spPr>
            <a:xfrm flipH="1">
              <a:off x="1692000" y="3141720"/>
              <a:ext cx="1655640" cy="0"/>
            </a:xfrm>
            <a:prstGeom prst="line">
              <a:avLst/>
            </a:prstGeom>
            <a:ln w="381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Line 9"/>
            <p:cNvSpPr/>
            <p:nvPr/>
          </p:nvSpPr>
          <p:spPr>
            <a:xfrm>
              <a:off x="1692360" y="4005360"/>
              <a:ext cx="1584360" cy="21564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10"/>
            <p:cNvSpPr/>
            <p:nvPr/>
          </p:nvSpPr>
          <p:spPr>
            <a:xfrm>
              <a:off x="3995640" y="4292640"/>
              <a:ext cx="158436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Rectangle 11"/>
            <p:cNvSpPr/>
            <p:nvPr/>
          </p:nvSpPr>
          <p:spPr>
            <a:xfrm>
              <a:off x="5148360" y="4869000"/>
              <a:ext cx="1439640" cy="14414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Capnograaf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CO</a:t>
              </a:r>
              <a:r>
                <a:rPr b="0" lang="nl-NL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Line 12"/>
            <p:cNvSpPr/>
            <p:nvPr/>
          </p:nvSpPr>
          <p:spPr>
            <a:xfrm flipH="1">
              <a:off x="6156360" y="3645000"/>
              <a:ext cx="503280" cy="143964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Rectangle 13"/>
            <p:cNvSpPr/>
            <p:nvPr/>
          </p:nvSpPr>
          <p:spPr>
            <a:xfrm>
              <a:off x="7236000" y="2781360"/>
              <a:ext cx="1439640" cy="1800000"/>
            </a:xfrm>
            <a:prstGeom prst="rect">
              <a:avLst/>
            </a:prstGeom>
            <a:solidFill>
              <a:srgbClr val="3399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r>
                <a:rPr b="0" lang="nl-NL" sz="2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Patiënten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Systee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CO</a:t>
              </a:r>
              <a:r>
                <a:rPr b="0" lang="nl-NL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Line 14"/>
            <p:cNvSpPr/>
            <p:nvPr/>
          </p:nvSpPr>
          <p:spPr>
            <a:xfrm>
              <a:off x="6227640" y="4221000"/>
              <a:ext cx="1368720" cy="14472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Line 15"/>
            <p:cNvSpPr/>
            <p:nvPr/>
          </p:nvSpPr>
          <p:spPr>
            <a:xfrm flipH="1">
              <a:off x="6156000" y="2997360"/>
              <a:ext cx="1584360" cy="144360"/>
            </a:xfrm>
            <a:prstGeom prst="line">
              <a:avLst/>
            </a:prstGeom>
            <a:ln w="381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Line 16"/>
            <p:cNvSpPr/>
            <p:nvPr/>
          </p:nvSpPr>
          <p:spPr>
            <a:xfrm>
              <a:off x="2340000" y="2421000"/>
              <a:ext cx="0" cy="2376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Text Box 17"/>
            <p:cNvSpPr/>
            <p:nvPr/>
          </p:nvSpPr>
          <p:spPr>
            <a:xfrm>
              <a:off x="1547640" y="1844640"/>
              <a:ext cx="151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gaswisselin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Line 18"/>
            <p:cNvSpPr/>
            <p:nvPr/>
          </p:nvSpPr>
          <p:spPr>
            <a:xfrm>
              <a:off x="4716360" y="2421000"/>
              <a:ext cx="0" cy="2376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Line 19"/>
            <p:cNvSpPr/>
            <p:nvPr/>
          </p:nvSpPr>
          <p:spPr>
            <a:xfrm>
              <a:off x="4716360" y="2421000"/>
              <a:ext cx="3672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Text Box 20"/>
            <p:cNvSpPr/>
            <p:nvPr/>
          </p:nvSpPr>
          <p:spPr>
            <a:xfrm>
              <a:off x="5580000" y="1844640"/>
              <a:ext cx="201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ffffff"/>
                  </a:solidFill>
                  <a:latin typeface="Arial"/>
                </a:rPr>
                <a:t>ademhalin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2b2b2"/>
                </a:solidFill>
                <a:latin typeface="Arial"/>
              </a:rPr>
              <a:t>Normaal ademe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oe adem je normaa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2b2b2"/>
                </a:solidFill>
                <a:latin typeface="Arial"/>
              </a:rPr>
              <a:t>Normaal capnogram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Snelle stijging door snel begin uitadem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Plateau-waarde is de eindexpiraoire CO</a:t>
            </a:r>
            <a:r>
              <a:rPr b="0" lang="nl-NL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per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nademlucht vrijwel geen CO</a:t>
            </a:r>
            <a:r>
              <a:rPr b="0" lang="nl-NL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. !?!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normaal capnogram"/>
          <p:cNvPicPr/>
          <p:nvPr/>
        </p:nvPicPr>
        <p:blipFill>
          <a:blip r:embed="rId1"/>
          <a:stretch/>
        </p:blipFill>
        <p:spPr>
          <a:xfrm>
            <a:off x="1116000" y="1908000"/>
            <a:ext cx="66960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2b2b2"/>
                </a:solidFill>
                <a:latin typeface="Arial"/>
              </a:rPr>
              <a:t>Afwijkingen EtCO</a:t>
            </a:r>
            <a:r>
              <a:rPr b="0" lang="nl-NL" sz="4400" spc="-1" strike="noStrike" baseline="-25000">
                <a:solidFill>
                  <a:srgbClr val="b2b2b2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7" name="Picture 6" descr="etco2 tabel"/>
          <p:cNvPicPr/>
          <p:nvPr/>
        </p:nvPicPr>
        <p:blipFill>
          <a:blip r:embed="rId1"/>
          <a:stretch/>
        </p:blipFill>
        <p:spPr>
          <a:xfrm>
            <a:off x="611280" y="1413000"/>
            <a:ext cx="7921440" cy="528768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7">
            <a:hlinkClick r:id="rId2" action="ppaction://hlinksldjump"/>
          </p:cNvPr>
          <p:cNvSpPr/>
          <p:nvPr/>
        </p:nvSpPr>
        <p:spPr>
          <a:xfrm>
            <a:off x="7885080" y="476280"/>
            <a:ext cx="790560" cy="504720"/>
          </a:xfrm>
          <a:custGeom>
            <a:avLst/>
            <a:gdLst>
              <a:gd name="textAreaLeft" fmla="*/ 32400 w 790560"/>
              <a:gd name="textAreaRight" fmla="*/ 758160 w 7905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3824" h="21600">
                <a:moveTo>
                  <a:pt x="0" y="0"/>
                </a:moveTo>
                <a:lnTo>
                  <a:pt x="33824" y="0"/>
                </a:lnTo>
                <a:lnTo>
                  <a:pt x="33824" y="21600"/>
                </a:lnTo>
                <a:lnTo>
                  <a:pt x="0" y="21600"/>
                </a:lnTo>
                <a:close/>
              </a:path>
              <a:path fill="lightenLess" w="33824" h="21600">
                <a:moveTo>
                  <a:pt x="0" y="0"/>
                </a:moveTo>
                <a:lnTo>
                  <a:pt x="33824" y="0"/>
                </a:lnTo>
                <a:lnTo>
                  <a:pt x="32424" y="1400"/>
                </a:lnTo>
                <a:lnTo>
                  <a:pt x="1400" y="1400"/>
                </a:lnTo>
                <a:close/>
              </a:path>
              <a:path fill="darken" w="33824" h="21600">
                <a:moveTo>
                  <a:pt x="33824" y="0"/>
                </a:moveTo>
                <a:lnTo>
                  <a:pt x="33824" y="21600"/>
                </a:lnTo>
                <a:lnTo>
                  <a:pt x="32424" y="20200"/>
                </a:lnTo>
                <a:lnTo>
                  <a:pt x="32424" y="1400"/>
                </a:lnTo>
                <a:close/>
              </a:path>
              <a:path fill="darkenLess" w="33824" h="21600">
                <a:moveTo>
                  <a:pt x="33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24" y="20200"/>
                </a:lnTo>
                <a:close/>
              </a:path>
              <a:path fill="lighten" w="33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824" h="21600">
                <a:moveTo>
                  <a:pt x="9906" y="3794"/>
                </a:moveTo>
                <a:lnTo>
                  <a:pt x="23919" y="10800"/>
                </a:lnTo>
                <a:lnTo>
                  <a:pt x="9906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60" name="Picture 6" descr="acute daling etco2"/>
          <p:cNvPicPr/>
          <p:nvPr/>
        </p:nvPicPr>
        <p:blipFill>
          <a:blip r:embed="rId1"/>
          <a:stretch/>
        </p:blipFill>
        <p:spPr>
          <a:xfrm>
            <a:off x="900000" y="1413000"/>
            <a:ext cx="6985080" cy="176976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Wat zie j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Halvering in 2 ademhaling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Oorzaak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Wat zie j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Oorzaak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7" descr="stoppen ademhaling"/>
          <p:cNvPicPr/>
          <p:nvPr/>
        </p:nvPicPr>
        <p:blipFill>
          <a:blip r:embed="rId1"/>
          <a:stretch/>
        </p:blipFill>
        <p:spPr>
          <a:xfrm>
            <a:off x="971640" y="1413000"/>
            <a:ext cx="7127640" cy="16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1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2b2b2"/>
                </a:solidFill>
                <a:latin typeface="Arial"/>
              </a:rPr>
              <a:t>Pulsoximete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waking perifere circulatie. (pulsdee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Hoge waarde geeft goede zekerheid van de bloeddru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waking van O</a:t>
            </a:r>
            <a:r>
              <a:rPr b="0" lang="nl-NL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voorziening perifere weefsels. (Oxymetriedee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trouwbaarder naar mate het pulsdeel beter 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9" descr="20087210195337845"/>
          <p:cNvPicPr/>
          <p:nvPr/>
        </p:nvPicPr>
        <p:blipFill>
          <a:blip r:embed="rId1"/>
          <a:stretch/>
        </p:blipFill>
        <p:spPr>
          <a:xfrm>
            <a:off x="4643280" y="692280"/>
            <a:ext cx="4200840" cy="5040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0" descr="pulsoxym"/>
          <p:cNvPicPr/>
          <p:nvPr/>
        </p:nvPicPr>
        <p:blipFill>
          <a:blip r:embed="rId2"/>
          <a:stretch/>
        </p:blipFill>
        <p:spPr>
          <a:xfrm>
            <a:off x="395280" y="692280"/>
            <a:ext cx="402912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5" descr="pulsoxy tabel"/>
          <p:cNvPicPr/>
          <p:nvPr/>
        </p:nvPicPr>
        <p:blipFill>
          <a:blip r:embed="rId1"/>
          <a:stretch/>
        </p:blipFill>
        <p:spPr>
          <a:xfrm>
            <a:off x="250920" y="453960"/>
            <a:ext cx="8713800" cy="60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2b2b2"/>
                </a:solidFill>
                <a:latin typeface="Arial"/>
              </a:rPr>
              <a:t>Dode ruimt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 dode ruimte is die hoeveelheid lucht die ingeademd wordt, maar niet deelneemt aan de gaswissel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lke delen van ademhalingsapparaa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Neemt toe bij gebruik patiëntensystem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vloed op welk systeem je gebruik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AutoShape 4">
            <a:hlinkClick r:id="" action="ppaction://hlinkshowjump?jump=previousslide"/>
          </p:cNvPr>
          <p:cNvSpPr/>
          <p:nvPr/>
        </p:nvSpPr>
        <p:spPr>
          <a:xfrm>
            <a:off x="7308720" y="404640"/>
            <a:ext cx="935280" cy="648000"/>
          </a:xfrm>
          <a:custGeom>
            <a:avLst/>
            <a:gdLst>
              <a:gd name="textAreaLeft" fmla="*/ 41760 w 935280"/>
              <a:gd name="textAreaRight" fmla="*/ 893520 w 93528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31171" h="21600">
                <a:moveTo>
                  <a:pt x="0" y="0"/>
                </a:moveTo>
                <a:lnTo>
                  <a:pt x="31171" y="0"/>
                </a:lnTo>
                <a:lnTo>
                  <a:pt x="31171" y="21600"/>
                </a:lnTo>
                <a:lnTo>
                  <a:pt x="0" y="21600"/>
                </a:lnTo>
                <a:close/>
              </a:path>
              <a:path fill="lightenLess" w="31171" h="21600">
                <a:moveTo>
                  <a:pt x="0" y="0"/>
                </a:moveTo>
                <a:lnTo>
                  <a:pt x="31171" y="0"/>
                </a:lnTo>
                <a:lnTo>
                  <a:pt x="29771" y="1400"/>
                </a:lnTo>
                <a:lnTo>
                  <a:pt x="1400" y="1400"/>
                </a:lnTo>
                <a:close/>
              </a:path>
              <a:path fill="darken" w="31171" h="21600">
                <a:moveTo>
                  <a:pt x="31171" y="0"/>
                </a:moveTo>
                <a:lnTo>
                  <a:pt x="31171" y="21600"/>
                </a:lnTo>
                <a:lnTo>
                  <a:pt x="29771" y="20200"/>
                </a:lnTo>
                <a:lnTo>
                  <a:pt x="29771" y="1400"/>
                </a:lnTo>
                <a:close/>
              </a:path>
              <a:path fill="darkenLess" w="31171" h="21600">
                <a:moveTo>
                  <a:pt x="31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71" y="20200"/>
                </a:lnTo>
                <a:close/>
              </a:path>
              <a:path fill="lighten" w="31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71" h="21600">
                <a:moveTo>
                  <a:pt x="8579" y="10800"/>
                </a:moveTo>
                <a:lnTo>
                  <a:pt x="22592" y="3794"/>
                </a:lnTo>
                <a:lnTo>
                  <a:pt x="22592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9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4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2b2b2"/>
                </a:solidFill>
                <a:latin typeface="Arial"/>
              </a:rPr>
              <a:t>Opdrach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aak een totaal </a:t>
            </a:r>
            <a:r>
              <a:rPr b="1" lang="nl-NL" sz="3200" spc="-1" strike="noStrike" u="sng">
                <a:solidFill>
                  <a:srgbClr val="ffffff"/>
                </a:solidFill>
                <a:uFillTx/>
                <a:latin typeface="Arial"/>
              </a:rPr>
              <a:t>stappen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plan, van het begin tot het einde, voor het onder narcose brengen, houden en weer bij laten komen van een ho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aar begin j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at mis je no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617637C4"/>
          <p:cNvPicPr/>
          <p:nvPr/>
        </p:nvPicPr>
        <p:blipFill>
          <a:blip r:embed="rId1"/>
          <a:srcRect l="0" t="0" r="0" b="30049"/>
          <a:stretch/>
        </p:blipFill>
        <p:spPr>
          <a:xfrm>
            <a:off x="1504800" y="0"/>
            <a:ext cx="6821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2b2b2"/>
                </a:solidFill>
                <a:latin typeface="Arial"/>
              </a:rPr>
              <a:t>Beademe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entil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andmati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entilator (machinaa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2b2b2"/>
                </a:solidFill>
                <a:latin typeface="Arial"/>
              </a:rPr>
              <a:t>stageopdrach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Zie stenc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6">
            <a:hlinkClick r:id="rId1"/>
          </p:cNvPr>
          <p:cNvSpPr/>
          <p:nvPr/>
        </p:nvSpPr>
        <p:spPr>
          <a:xfrm>
            <a:off x="4067280" y="2708280"/>
            <a:ext cx="1441440" cy="1800360"/>
          </a:xfrm>
          <a:custGeom>
            <a:avLst/>
            <a:gdLst>
              <a:gd name="textAreaLeft" fmla="*/ 93240 w 1441440"/>
              <a:gd name="textAreaRight" fmla="*/ 1348200 w 1441440"/>
              <a:gd name="textAreaTop" fmla="*/ 93240 h 1800360"/>
              <a:gd name="textAreaBottom" fmla="*/ 1707120 h 1800360"/>
            </a:gdLst>
            <a:ahLst/>
            <a:rect l="textAreaLeft" t="textAreaTop" r="textAreaRight" b="textAreaBottom"/>
            <a:pathLst>
              <a:path w="21600" h="26977">
                <a:moveTo>
                  <a:pt x="0" y="0"/>
                </a:moveTo>
                <a:lnTo>
                  <a:pt x="21600" y="0"/>
                </a:lnTo>
                <a:lnTo>
                  <a:pt x="21600" y="26977"/>
                </a:lnTo>
                <a:lnTo>
                  <a:pt x="0" y="26977"/>
                </a:lnTo>
                <a:close/>
              </a:path>
              <a:path fill="lightenLess" w="21600" h="269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7">
                <a:moveTo>
                  <a:pt x="21600" y="0"/>
                </a:moveTo>
                <a:lnTo>
                  <a:pt x="21600" y="26977"/>
                </a:lnTo>
                <a:lnTo>
                  <a:pt x="20200" y="25577"/>
                </a:lnTo>
                <a:lnTo>
                  <a:pt x="20200" y="1400"/>
                </a:lnTo>
                <a:close/>
              </a:path>
              <a:path fill="darkenLess" w="21600" h="26977">
                <a:moveTo>
                  <a:pt x="21600" y="26977"/>
                </a:moveTo>
                <a:lnTo>
                  <a:pt x="0" y="26977"/>
                </a:lnTo>
                <a:lnTo>
                  <a:pt x="1400" y="25577"/>
                </a:lnTo>
                <a:lnTo>
                  <a:pt x="20200" y="25577"/>
                </a:lnTo>
                <a:close/>
              </a:path>
              <a:path fill="lighten" w="21600" h="26977">
                <a:moveTo>
                  <a:pt x="0" y="269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7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2b2b2"/>
                </a:solidFill>
                <a:latin typeface="Arial"/>
              </a:rPr>
              <a:t>Beademe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dicati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erhoogd risico door conditie patië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Gevolg van gebruikte anesthesiemetho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Bepaalde operaties.  (thoraxchirurgi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zorg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Bewaking van hypo- en hyperventilati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(capnografi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1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1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1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2b2b2"/>
                </a:solidFill>
                <a:latin typeface="Arial"/>
              </a:rPr>
              <a:t>Beademe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ssistmo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Beademing reageert op inademing van patiën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Beademing regelt alleen het ademvolu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Controlled m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Beademing regelt zowel ademfrequentie als ademvolu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2b2b2"/>
                </a:solidFill>
                <a:latin typeface="Arial"/>
              </a:rPr>
              <a:t>Verschil ademen / beademe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de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Lucht in longen door negatieve druk in long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ade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Lucht in de longen door positieve druk in de long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2b2b2"/>
                </a:solidFill>
                <a:latin typeface="Arial"/>
              </a:rPr>
              <a:t>Beademe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PPV </a:t>
            </a:r>
            <a:r>
              <a:rPr b="0" lang="nl-NL" sz="3200" spc="-1" strike="noStrike" baseline="-25000">
                <a:solidFill>
                  <a:srgbClr val="ffffff"/>
                </a:solidFill>
                <a:latin typeface="Arial"/>
              </a:rPr>
              <a:t>= intermiterende positieve druk ventil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nspiratie positieve dru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xpiratie passi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PEEP</a:t>
            </a:r>
            <a:r>
              <a:rPr b="0" lang="nl-NL" sz="3200" spc="-1" strike="noStrike" baseline="-25000">
                <a:solidFill>
                  <a:srgbClr val="ffffff"/>
                </a:solidFill>
                <a:latin typeface="Arial"/>
              </a:rPr>
              <a:t>= positieve eind-expiratoire dru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nspiratie positieve dru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xpiratie positieve dru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NEEP</a:t>
            </a:r>
            <a:r>
              <a:rPr b="0" lang="nl-NL" sz="3200" spc="-1" strike="noStrike" baseline="-25000">
                <a:solidFill>
                  <a:srgbClr val="ffffff"/>
                </a:solidFill>
                <a:latin typeface="Arial"/>
              </a:rPr>
              <a:t>= negatieve eind-expiratoire dru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nspiratie positieve dru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xpiratie negatieve dru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1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1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" dur="1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20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20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2b2b2"/>
                </a:solidFill>
                <a:latin typeface="Arial"/>
              </a:rPr>
              <a:t>Indicaties / gevolgen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PEE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Stugge longen bijv. bij longoedee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Thoraxdruk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↑   →  terugstromen bloed 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Goede indicatie dan valt dat wel me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  <a:ea typeface="Arial"/>
              </a:rPr>
              <a:t>NEE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Bij slecht samenvallende long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2b2b2"/>
                </a:solidFill>
                <a:latin typeface="Arial"/>
              </a:rPr>
              <a:t>Uitvoeren handbeadem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3628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Frequentie: 10 – 15 x per m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allon rustig leegknijp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nspiratie : expiratie = 1 :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KIJKEN NAAR DE BORSTK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bruik klok / horloge met secondenwijz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5T07:11:59Z</dcterms:created>
  <dc:creator>H. Verstappen</dc:creator>
  <dc:description/>
  <dc:language>en-US</dc:language>
  <cp:lastModifiedBy>aocoost</cp:lastModifiedBy>
  <dcterms:modified xsi:type="dcterms:W3CDTF">2011-11-15T08:11:30Z</dcterms:modified>
  <cp:revision>20</cp:revision>
  <dc:subject/>
  <dc:title>Anesthesiologie</dc:title>
</cp:coreProperties>
</file>