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E7B3-6E8D-4825-92CF-852EC057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27A6-D751-463B-9A0C-5A30C158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A6AB-0437-4F34-B72E-E4A5CB7B9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66AC-5E0E-4FCB-9502-A8FA64385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5962-BDE2-41A4-8A1E-7EA234F3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6AC2-189F-4258-97D6-FCFD0DA1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9BCA-00D9-4E3D-8681-AB88AF88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A69C-9C27-4CC6-AFA0-57AF25AB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6FDE-FE63-4604-8FF3-CE009E52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CD02-CF08-44FE-8F14-A7BABDC4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5462-4D00-475C-A3EE-BF4861BD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D89A-2D12-4A25-96A2-FD3DB0F2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403A-792F-487B-925B-F97B2661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1E2D-ADC0-43EA-BB64-75DD3D8C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564F-EAEA-46C0-9C6D-48EF6974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2953-F0DA-459E-B559-541B1D3F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28D9-734B-436C-8B31-D9863D967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449B-EF11-45A0-A715-DFA3567F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2CE9-952F-4047-89E2-45C18B5A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AE84-B8D0-47CF-A7CF-E86D5613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00B9-A1D7-49F1-B2E9-112A9555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DDCB-9A1A-44B8-84FC-0AA11BAA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D020-A7F0-40D1-B853-8CFA0CA2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2C42-4BFA-4BA1-9532-06985B16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EE16-ABA4-4B56-A39F-2ADFA4FCEAA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81C3-BE84-42C3-892C-196A51E7BCFF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etailrepair.nl/images/gesprek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2349360"/>
            <a:ext cx="381636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fffdd1"/>
                </a:solidFill>
                <a:latin typeface="Times New Roman"/>
              </a:rPr>
              <a:t>Anesthesie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21" name="Picture 4" descr="Narcose002"/>
          <p:cNvPicPr/>
          <p:nvPr/>
        </p:nvPicPr>
        <p:blipFill>
          <a:blip r:embed="rId1"/>
          <a:stretch/>
        </p:blipFill>
        <p:spPr>
          <a:xfrm>
            <a:off x="4356000" y="620640"/>
            <a:ext cx="41529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dd1"/>
                </a:solidFill>
                <a:latin typeface="Times New Roman"/>
              </a:rPr>
              <a:t>Voorbeeld pré-medicatie plan.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a50021"/>
                </a:solidFill>
                <a:latin typeface="Times New Roman"/>
              </a:rPr>
              <a:t>Routineplan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Domitor® : Voor dosering zie doseringstabel “lichte sedatie”. (I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a50021"/>
                </a:solidFill>
                <a:latin typeface="Times New Roman"/>
              </a:rPr>
              <a:t>Windhondachtigen. (Hoge Ht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Vetranquil: 0.1   mg/kg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ethadon : 1      mg/kg           Atropine   : 0.05 mg/k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a50021"/>
                </a:solidFill>
                <a:latin typeface="Times New Roman"/>
              </a:rPr>
              <a:t>Epilepsie patiënten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Domitor®: Zie tabel “lichte sedatie”. (I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a50021"/>
                </a:solidFill>
                <a:latin typeface="Times New Roman"/>
              </a:rPr>
              <a:t>Nierpatiënten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Midazolan®  : 0.5 – 1 mg/k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Methadon®   :          1 mg/kg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(I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dd1"/>
                </a:solidFill>
                <a:latin typeface="Times New Roman"/>
              </a:rPr>
              <a:t>Intuberen.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44" name="Picture 5" descr="Narcose012"/>
          <p:cNvPicPr/>
          <p:nvPr/>
        </p:nvPicPr>
        <p:blipFill>
          <a:blip r:embed="rId1"/>
          <a:stretch/>
        </p:blipFill>
        <p:spPr>
          <a:xfrm>
            <a:off x="539640" y="1700280"/>
            <a:ext cx="7820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dd1"/>
                </a:solidFill>
                <a:latin typeface="Times New Roman"/>
              </a:rPr>
              <a:t>Infuus.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46" name="Picture 5" descr="Narcose013"/>
          <p:cNvPicPr/>
          <p:nvPr/>
        </p:nvPicPr>
        <p:blipFill>
          <a:blip r:embed="rId1"/>
          <a:stretch/>
        </p:blipFill>
        <p:spPr>
          <a:xfrm>
            <a:off x="1258920" y="1484280"/>
            <a:ext cx="63374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48" name="infuus vorbereiden en aansluiten.wmv" descr=""/>
          <p:cNvPicPr/>
          <p:nvPr/>
        </p:nvPicPr>
        <p:blipFill>
          <a:blip r:embed="rId1"/>
          <a:stretch/>
        </p:blipFill>
        <p:spPr>
          <a:xfrm>
            <a:off x="179280" y="1011240"/>
            <a:ext cx="8785440" cy="4940280"/>
          </a:xfrm>
          <a:prstGeom prst="rect">
            <a:avLst/>
          </a:prstGeom>
          <a:ln w="0">
            <a:noFill/>
          </a:ln>
        </p:spPr>
      </p:pic>
      <p:pic>
        <p:nvPicPr>
          <p:cNvPr id="149" name="infuus vorbereiden en aansluiten.wmv" descr=""/>
          <p:cNvPicPr/>
          <p:nvPr/>
        </p:nvPicPr>
        <p:blipFill>
          <a:blip r:embed="rId2"/>
          <a:stretch/>
        </p:blipFill>
        <p:spPr>
          <a:xfrm>
            <a:off x="219240" y="981000"/>
            <a:ext cx="88326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4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9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dd1"/>
                </a:solidFill>
                <a:latin typeface="Times New Roman"/>
              </a:rPr>
              <a:t>Infuus.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51" name="Picture 5" descr="Narcose015"/>
          <p:cNvPicPr/>
          <p:nvPr/>
        </p:nvPicPr>
        <p:blipFill>
          <a:blip r:embed="rId1"/>
          <a:stretch/>
        </p:blipFill>
        <p:spPr>
          <a:xfrm>
            <a:off x="250920" y="2349360"/>
            <a:ext cx="4105080" cy="3073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Narcose016"/>
          <p:cNvPicPr/>
          <p:nvPr/>
        </p:nvPicPr>
        <p:blipFill>
          <a:blip r:embed="rId2"/>
          <a:stretch/>
        </p:blipFill>
        <p:spPr>
          <a:xfrm>
            <a:off x="4716360" y="2349360"/>
            <a:ext cx="41054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dd1"/>
                </a:solidFill>
                <a:latin typeface="Times New Roman"/>
              </a:rPr>
              <a:t>Voorbereiding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577044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Pré-anesthetisch onderzoek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Pré-medicatie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Intuberen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Infuus iv.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124" name="Picture 5" descr="narcose_kat_4402"/>
          <p:cNvPicPr/>
          <p:nvPr/>
        </p:nvPicPr>
        <p:blipFill>
          <a:blip r:embed="rId1"/>
          <a:stretch/>
        </p:blipFill>
        <p:spPr>
          <a:xfrm>
            <a:off x="4643280" y="3284640"/>
            <a:ext cx="3600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dd1"/>
                </a:solidFill>
                <a:latin typeface="Times New Roman"/>
              </a:rPr>
              <a:t>Pré-anesthetisch evaluatie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Anesthesiologische anamnese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Pré-anesthetisch onderzoek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ASA classificatie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dd1"/>
                </a:solidFill>
                <a:latin typeface="Times New Roman"/>
              </a:rPr>
              <a:t>Anesthesiologische anamnese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Bestaat uit: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Medische geschiedenis.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Anesthesiologische geschiedenis.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Recent toegediende medicijnen (dosering en tijdstip).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Reden anesthesie en wat gaat er gebeuren.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129" name="Picture 7" descr="gespre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1628640"/>
            <a:ext cx="165708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Object 7"/>
          <p:cNvGraphicFramePr/>
          <p:nvPr/>
        </p:nvGraphicFramePr>
        <p:xfrm>
          <a:off x="971640" y="189000"/>
          <a:ext cx="684036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9000"/>
                    <a:ext cx="68403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 Box 8"/>
          <p:cNvSpPr/>
          <p:nvPr/>
        </p:nvSpPr>
        <p:spPr>
          <a:xfrm>
            <a:off x="5651640" y="1890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Voorbeeld vragenlij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dd1"/>
                </a:solidFill>
                <a:latin typeface="Times New Roman"/>
              </a:rPr>
              <a:t>Pré-anesthetisch onderzoek</a:t>
            </a:r>
            <a:br>
              <a:rPr sz="4000"/>
            </a:b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Reden: Is een narcose verantwoord?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Algemene indruk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Ras, gedrag, beweging, voedingstoestand, verzorging, IHOLKA. </a:t>
            </a: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(In het oog lopende kllinische afwijkinge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Algemeen onderzoek.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A. P. T. Slijmv. Lnn. Huid Beharing Hoornige structure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Aanvullend bloedonderzoek.  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NODIG ???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dd1"/>
                </a:solidFill>
                <a:latin typeface="Times New Roman"/>
              </a:rPr>
              <a:t>ASA classificatie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a50021"/>
                </a:solidFill>
                <a:latin typeface="Times New Roman"/>
              </a:rPr>
              <a:t>ASA 1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rmaal gezonde patiënt zonder onderliggende ziek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a50021"/>
                </a:solidFill>
                <a:latin typeface="Times New Roman"/>
              </a:rPr>
              <a:t>ASA 2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Lichte tot matig ernstige systemische aandoening zonder klinische symptom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a50021"/>
                </a:solidFill>
                <a:latin typeface="Times New Roman"/>
              </a:rPr>
              <a:t>ASA 3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Matig ernstige systemische aandoening met milde symptomen. (hypovolemie. Matige koort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a50021"/>
                </a:solidFill>
                <a:latin typeface="Times New Roman"/>
              </a:rPr>
              <a:t>ASA 4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rnstige systemische aandoening met levensbedreigende symptom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a50021"/>
                </a:solidFill>
                <a:latin typeface="Times New Roman"/>
              </a:rPr>
              <a:t>ASA 5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Stervende patiënt, of sterven binnen 24 uur te verwacht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dd1"/>
                </a:solidFill>
                <a:latin typeface="Times New Roman"/>
              </a:rPr>
              <a:t>Pré-medicatie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Doel.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Coöperatief gedra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Beperking pijn en stress in de beginf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Vermindering van de later te gebruiken middel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Scheppen van voorwaarden voor een veilige en ongecompliceerde inleiding, onderhoud en ontwaakperi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dd1"/>
                </a:solidFill>
                <a:latin typeface="Times New Roman"/>
              </a:rPr>
              <a:t>Pré-medicatie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Domitor</a:t>
            </a:r>
            <a:r>
              <a:rPr b="0" lang="nl-NL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( lichte sedatie, goede pijnstilling)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Sedatie, pijnsti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Ketamine (Lichte slaap, goede pijnstilling)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Bloeddrukondersteunend, bloeddruk verhoge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Inductiemid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a50021"/>
                </a:solidFill>
                <a:latin typeface="Times New Roman"/>
              </a:rPr>
              <a:t>(Atropine. Niet gebruiken ivm bloeddruk daling door domitor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50021"/>
                </a:solidFill>
                <a:latin typeface="Times New Roman"/>
              </a:rPr>
              <a:t>Hierbij is te opereren. Niet te lange operatie’s ½ - 1 uur.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7T14:34:41Z</dcterms:created>
  <dc:creator>Verstappen</dc:creator>
  <dc:description/>
  <dc:language>en-US</dc:language>
  <cp:lastModifiedBy>Verstappen</cp:lastModifiedBy>
  <dcterms:modified xsi:type="dcterms:W3CDTF">2010-10-04T09:36:05Z</dcterms:modified>
  <cp:revision>9</cp:revision>
  <dc:subject/>
  <dc:title>Anesthesie</dc:title>
</cp:coreProperties>
</file>