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B8D-61AB-4F4A-821E-771638E71F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7D9B-7EE0-40E0-9D60-0BE54536202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137-F8D4-44BE-887A-121259E2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477-2608-42A3-A941-9981FEFB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65F-49ED-46F9-9C1B-ADAEC1F3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059-6C44-49BE-9DA2-FC5A9D63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915A-4724-4685-828D-7CC77D11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8E35-DAFF-4273-A431-2D4EA90A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B544-DB7A-439D-92B8-326A9EBC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66BA-6DDA-45A7-80FF-51CDC059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344D-9CA1-488E-B2FE-BFDA55C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CF5F-B3F9-4D92-8D62-73B021E8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AF97-AE69-4169-A880-48D17DE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F0E-2B23-4789-B034-9D939102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9302-419A-4A43-8542-A3FC9284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6BFB-E472-4A85-837A-20AB4FA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06D6-C47F-4394-B3C2-BFC24165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5ED1-C72F-42D1-8357-BE4071B2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3609-96BE-49DA-8680-1208AAF7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4B06-63EC-4BBB-8F74-54F71B4C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F9ABF-5410-4687-BB6F-FD3561B5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C1FC-4CBC-49F2-BDCC-627E26F8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E799-EB1B-4087-BB47-9CDCCCCA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8CD8-B5B5-4F05-80D9-8C240626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B80-9466-4521-9F9A-599ABA32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39EC-6C72-484D-9C5E-DC0638DE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5EE2A-5276-4A75-9AF1-2045ED3F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31B3-BA82-4060-B9AD-4762E04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9395-D907-4DDD-8077-8759320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B455-4A63-4E5B-A5FD-AC7A8ED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0A28A-295B-4E7E-A091-023E58EE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7CBD-5CAB-4EC3-B048-41E5427F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1EF-47D0-4CC6-8B51-39E9446B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B2D-3208-4D1D-B8EF-9771DCC7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512-DCE9-43BC-969A-3BA63124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307-D2FB-45B4-B6C4-1CF154F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2F3-69B5-4725-95B8-FE91288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38C-4862-4D07-B1C2-73D8C07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7AE9-8B9B-40E3-B344-0FAA0715627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A9C-86E7-4DFF-A331-9FCC928614F1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1460-0113-48CD-A7FD-2F4A2CA9D3F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eec94"/>
                </a:solidFill>
                <a:latin typeface="Times New Roman"/>
              </a:rPr>
              <a:t>Inhalatie anaesthesi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erdamper fl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11" descr="apparaat017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apparaat015"/>
          <p:cNvPicPr/>
          <p:nvPr/>
        </p:nvPicPr>
        <p:blipFill>
          <a:blip r:embed="rId2"/>
          <a:stretch/>
        </p:blipFill>
        <p:spPr>
          <a:xfrm>
            <a:off x="4971960" y="1600200"/>
            <a:ext cx="3390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020000" y="259920"/>
            <a:ext cx="4334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eec94"/>
                </a:solidFill>
                <a:latin typeface="Times New Roman"/>
              </a:rPr>
              <a:t>Verse Gasaanvoer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Picture 7" descr="apparaat010"/>
          <p:cNvPicPr/>
          <p:nvPr/>
        </p:nvPicPr>
        <p:blipFill>
          <a:blip r:embed="rId1"/>
          <a:stretch/>
        </p:blipFill>
        <p:spPr>
          <a:xfrm>
            <a:off x="684360" y="620640"/>
            <a:ext cx="4365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erdamp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3" name="Picture 6" descr="apparaat001"/>
          <p:cNvPicPr/>
          <p:nvPr/>
        </p:nvPicPr>
        <p:blipFill>
          <a:blip r:embed="rId1"/>
          <a:stretch/>
        </p:blipFill>
        <p:spPr>
          <a:xfrm>
            <a:off x="468360" y="155736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apparaat019"/>
          <p:cNvPicPr/>
          <p:nvPr/>
        </p:nvPicPr>
        <p:blipFill>
          <a:blip r:embed="rId2"/>
          <a:stretch/>
        </p:blipFill>
        <p:spPr>
          <a:xfrm>
            <a:off x="4427640" y="2133720"/>
            <a:ext cx="360036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1619280" y="0"/>
            <a:ext cx="568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Gas evacuatie 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Picture 8" descr="Narcose001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Narcose003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Vullen en Leeg mak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0" name="Picture 8" descr="apparaat022"/>
          <p:cNvPicPr/>
          <p:nvPr/>
        </p:nvPicPr>
        <p:blipFill>
          <a:blip r:embed="rId1"/>
          <a:stretch/>
        </p:blipFill>
        <p:spPr>
          <a:xfrm>
            <a:off x="5003640" y="1844640"/>
            <a:ext cx="3391200" cy="453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apparaat020"/>
          <p:cNvPicPr/>
          <p:nvPr/>
        </p:nvPicPr>
        <p:blipFill>
          <a:blip r:embed="rId2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anesthesieapparatuur contoleren en gebruiksklaarmaken.wmv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48760" cy="4695840"/>
          </a:xfrm>
          <a:prstGeom prst="rect">
            <a:avLst/>
          </a:prstGeom>
          <a:ln w="0">
            <a:noFill/>
          </a:ln>
        </p:spPr>
      </p:pic>
      <p:sp>
        <p:nvSpPr>
          <p:cNvPr id="213" name="Tekstvak 2"/>
          <p:cNvSpPr/>
          <p:nvPr/>
        </p:nvSpPr>
        <p:spPr>
          <a:xfrm>
            <a:off x="1476360" y="5661000"/>
            <a:ext cx="53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ze video kun in het arrangement apart aanklik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Lekproef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5" name="Picture 6" descr="apparaat025"/>
          <p:cNvPicPr/>
          <p:nvPr/>
        </p:nvPicPr>
        <p:blipFill>
          <a:blip r:embed="rId1"/>
          <a:stretch/>
        </p:blipFill>
        <p:spPr>
          <a:xfrm>
            <a:off x="1258920" y="1481040"/>
            <a:ext cx="1944720" cy="1324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oel: Lekt het narcosesy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opje op patiëntenaanslu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et bypass ballon opblaz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ls de ballon op spanning blijft is het systeem niet l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0" descr="systeem001"/>
          <p:cNvPicPr/>
          <p:nvPr/>
        </p:nvPicPr>
        <p:blipFill>
          <a:blip r:embed="rId2"/>
          <a:stretch/>
        </p:blipFill>
        <p:spPr>
          <a:xfrm>
            <a:off x="395280" y="3068640"/>
            <a:ext cx="3816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anesthesiesysteem kiezen en aansluiten.wmv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Cirkel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Picture 9" descr="Narcose005"/>
          <p:cNvPicPr/>
          <p:nvPr/>
        </p:nvPicPr>
        <p:blipFill>
          <a:blip r:embed="rId1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apparaat008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Appara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Narcose003"/>
          <p:cNvPicPr/>
          <p:nvPr/>
        </p:nvPicPr>
        <p:blipFill>
          <a:blip r:embed="rId1"/>
          <a:stretch/>
        </p:blipFill>
        <p:spPr>
          <a:xfrm>
            <a:off x="1116000" y="1430280"/>
            <a:ext cx="72532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FBC48F8A"/>
          <p:cNvPicPr/>
          <p:nvPr/>
        </p:nvPicPr>
        <p:blipFill>
          <a:blip r:embed="rId1"/>
          <a:srcRect l="0" t="10072" r="0" b="0"/>
          <a:stretch/>
        </p:blipFill>
        <p:spPr>
          <a:xfrm>
            <a:off x="395280" y="1484280"/>
            <a:ext cx="8209080" cy="3649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692360" y="5877000"/>
            <a:ext cx="53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Kleurcontrole kaartje voor verkleurende sodal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vangen bij 7-9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Cirkel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5" name="Picture 7" descr="apparaat013"/>
          <p:cNvPicPr/>
          <p:nvPr/>
        </p:nvPicPr>
        <p:blipFill>
          <a:blip r:embed="rId1"/>
          <a:stretch/>
        </p:blipFill>
        <p:spPr>
          <a:xfrm>
            <a:off x="468360" y="191628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pparaat007"/>
          <p:cNvPicPr/>
          <p:nvPr/>
        </p:nvPicPr>
        <p:blipFill>
          <a:blip r:embed="rId2"/>
          <a:stretch/>
        </p:blipFill>
        <p:spPr>
          <a:xfrm>
            <a:off x="4643280" y="2924280"/>
            <a:ext cx="4038840" cy="3022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104292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Kl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64000" y="6237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stelbaar overdrukventi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Bains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7" descr="Narcose006"/>
          <p:cNvPicPr/>
          <p:nvPr/>
        </p:nvPicPr>
        <p:blipFill>
          <a:blip r:embed="rId1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patiëntensysteem007"/>
          <p:cNvPicPr/>
          <p:nvPr/>
        </p:nvPicPr>
        <p:blipFill>
          <a:blip r:embed="rId2"/>
          <a:stretch/>
        </p:blipFill>
        <p:spPr>
          <a:xfrm>
            <a:off x="4932360" y="1628640"/>
            <a:ext cx="3191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Philip Ayre-syste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all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sluiting patië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ansluiting vers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Overdrukventi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Gasafvo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patiëntensysteem003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235" name="Line 7"/>
          <p:cNvSpPr/>
          <p:nvPr/>
        </p:nvSpPr>
        <p:spPr>
          <a:xfrm flipH="1">
            <a:off x="1979280" y="1916280"/>
            <a:ext cx="280836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3492000" y="2924280"/>
            <a:ext cx="1366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1619280" y="3933720"/>
            <a:ext cx="3240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203280" y="3068640"/>
            <a:ext cx="1655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H="1" flipV="1">
            <a:off x="3348000" y="3500280"/>
            <a:ext cx="1440000" cy="259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pdrach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kijk het anesthesieapparaat en de patientensystemen op je stageplek. Indien aanwezi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Maakt een of meerdere foto(‘s) en zet die op een USB-stick oid. Indien mogelijk in een powerpoint 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in de volgende les aan de hand van de foto waar wat zit op het apparaat en hoe de patientensystemen in elkaar zitt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08360" y="2565000"/>
            <a:ext cx="31669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Apparaat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6" descr="9D181639"/>
          <p:cNvPicPr/>
          <p:nvPr/>
        </p:nvPicPr>
        <p:blipFill>
          <a:blip r:embed="rId1"/>
          <a:stretch/>
        </p:blipFill>
        <p:spPr>
          <a:xfrm>
            <a:off x="684360" y="1052640"/>
            <a:ext cx="3536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nderdelen van het systeem</a:t>
            </a:r>
            <a:br>
              <a:rPr sz="4400"/>
            </a:br>
            <a:r>
              <a:rPr b="1" lang="nl-NL" sz="4400" spc="-1" strike="noStrike">
                <a:solidFill>
                  <a:srgbClr val="ff0000"/>
                </a:solidFill>
                <a:latin typeface="Times New Roman"/>
              </a:rPr>
              <a:t>2 aparte delen</a:t>
            </a: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 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2327040"/>
            <a:ext cx="4038840" cy="34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Verse gas aanvo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(N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low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erdam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by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0" y="2327400"/>
            <a:ext cx="403848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atiëntensyste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Cirkel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ains-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Philip Ayre-systeem = baby-syste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6408720" cy="6408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6804000" y="2060640"/>
            <a:ext cx="216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Het gele deel van het systeem (lachgas) zal nog maar weinig voorkom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De aansluitingen zijn vaak nog wel aan-wez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jdelijke aanduiding voor inhoud 3" descr="SM%20anesthesie%20systeem%20006.jpg"/>
          <p:cNvPicPr/>
          <p:nvPr/>
        </p:nvPicPr>
        <p:blipFill>
          <a:blip r:embed="rId1"/>
          <a:stretch/>
        </p:blipFill>
        <p:spPr>
          <a:xfrm>
            <a:off x="2124000" y="260280"/>
            <a:ext cx="4807080" cy="6408720"/>
          </a:xfrm>
          <a:prstGeom prst="rect">
            <a:avLst/>
          </a:prstGeom>
          <a:ln w="0">
            <a:noFill/>
          </a:ln>
        </p:spPr>
      </p:pic>
      <p:sp>
        <p:nvSpPr>
          <p:cNvPr id="180" name="Line 6"/>
          <p:cNvSpPr/>
          <p:nvPr/>
        </p:nvSpPr>
        <p:spPr>
          <a:xfrm flipV="1">
            <a:off x="971640" y="3141720"/>
            <a:ext cx="165564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755640" y="1268280"/>
            <a:ext cx="2303640" cy="216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 flipH="1">
            <a:off x="6372000" y="620640"/>
            <a:ext cx="1655640" cy="1079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 flipH="1" flipV="1">
            <a:off x="6659640" y="2852640"/>
            <a:ext cx="1728720" cy="72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1042920" y="2997000"/>
            <a:ext cx="3384720" cy="216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020000" y="4292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Welke onderdelen worden hier aan-gewez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320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r>
              <a:rPr b="1" lang="nl-NL" sz="4400" spc="-1" strike="noStrike" baseline="-25000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 f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7" name="Picture 6" descr="apparaat001-1"/>
          <p:cNvPicPr/>
          <p:nvPr/>
        </p:nvPicPr>
        <p:blipFill>
          <a:blip r:embed="rId1"/>
          <a:stretch/>
        </p:blipFill>
        <p:spPr>
          <a:xfrm>
            <a:off x="395280" y="692280"/>
            <a:ext cx="2438280" cy="576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apparaat005-1"/>
          <p:cNvPicPr/>
          <p:nvPr/>
        </p:nvPicPr>
        <p:blipFill>
          <a:blip r:embed="rId2"/>
          <a:stretch/>
        </p:blipFill>
        <p:spPr>
          <a:xfrm>
            <a:off x="4211640" y="1700280"/>
            <a:ext cx="3529080" cy="216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apparaat007-1"/>
          <p:cNvPicPr/>
          <p:nvPr/>
        </p:nvPicPr>
        <p:blipFill>
          <a:blip r:embed="rId3"/>
          <a:stretch/>
        </p:blipFill>
        <p:spPr>
          <a:xfrm>
            <a:off x="4859280" y="4221000"/>
            <a:ext cx="21607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Drukm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Druk in Kp/cm</a:t>
            </a:r>
            <a:r>
              <a:rPr b="0" lang="nl-N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x 10 is het aantal liters O</a:t>
            </a:r>
            <a:r>
              <a:rPr b="0" lang="nl-NL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- gas in de f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systeem003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7200" y="2354400"/>
            <a:ext cx="403848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932360" y="1557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oeveel gas zit in de f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eec94"/>
                </a:solidFill>
                <a:latin typeface="Times New Roman"/>
              </a:rPr>
              <a:t>Flow m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Picture 8" descr="apparaat015"/>
          <p:cNvPicPr/>
          <p:nvPr/>
        </p:nvPicPr>
        <p:blipFill>
          <a:blip r:embed="rId1"/>
          <a:stretch/>
        </p:blipFill>
        <p:spPr>
          <a:xfrm>
            <a:off x="5003640" y="1628640"/>
            <a:ext cx="3341880" cy="446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apparaat004"/>
          <p:cNvPicPr/>
          <p:nvPr/>
        </p:nvPicPr>
        <p:blipFill>
          <a:blip r:embed="rId2"/>
          <a:stretch/>
        </p:blipFill>
        <p:spPr>
          <a:xfrm>
            <a:off x="781200" y="1600200"/>
            <a:ext cx="3390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8:11:36Z</dcterms:created>
  <dc:creator>Verstappen</dc:creator>
  <dc:description/>
  <dc:language>en-US</dc:language>
  <cp:lastModifiedBy>aocoost</cp:lastModifiedBy>
  <dcterms:modified xsi:type="dcterms:W3CDTF">2011-09-27T08:03:08Z</dcterms:modified>
  <cp:revision>17</cp:revision>
  <dc:subject/>
  <dc:title>Inhalatie anaesthesie</dc:title>
</cp:coreProperties>
</file>