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EE52-601A-45EF-97C5-74B9B2113B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F13A-DA8D-402E-970F-BC130456AA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8D20-CCBF-47F6-B3D3-EF9708007B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F9C9-9028-4EF6-AD08-B651EEBF6C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F6E7-EAB3-4680-849C-717B1BC9881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8CB2-DC28-4203-A84A-A527149079C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E0CD-3A5B-4760-88F4-9D3F7859E34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10009-6B68-478B-A875-CC761F456C5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2C53-2FAC-4812-8B4E-229215E88D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021B-6B97-43B3-AA83-DC5C11CE4F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30DF-52A9-4611-9AC3-89DC20B92D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1DFD-45D7-4D95-B8DC-D4A376EE11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B0EF-8150-4D4A-B16E-AA203B8198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F0EF-41A2-4F75-B5E4-2E0482596C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A05E-CA2A-474D-962F-ED437EE05CB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EB54-2775-49E3-B434-08E82ADE9D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882C-F25A-4386-85CD-EDE140B401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6977-9865-4882-B659-F18A78FDBF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BB19-45C4-4593-845F-A91D30DF51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C435-64C6-4DDB-BCDA-BC6E80C8CA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D341E-86B7-4C74-9274-76C2E67A72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C864D-0990-4E82-AAD2-1F9313660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74CD9-1F32-4AF1-B1D2-EE4E0CE2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29157-F56E-4FBC-8E69-F6BD62284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1B29C-D16D-4CF6-8CE8-82F335FE2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67F2-85C0-4FB2-B271-165D9E363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C665-CE9A-4784-AAD1-E55F82D1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15F7-0DBD-4CAD-B0A8-F20F0A6AB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2C890-0A1B-4D8B-A809-BE09551B1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6884E-FD15-4D8E-B0E3-65B7FD664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F102-4A39-443C-B013-4BC80632F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5B28-F221-4429-9DF9-21718CD7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D6E5-17A4-42CB-8872-08468BBA3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4A8D-D472-4E36-B9DC-354955275B3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derland in de EU: verschillende culture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66"/>
                </a:solidFill>
                <a:latin typeface="Arial"/>
              </a:rPr>
              <a:t>Hoe goed kennen wij ons la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8</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droegen Nederlanders (vooral) vroeger zoveel klomp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Die waren lange tijd in de m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Die waren handig vanwege de drassi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bod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In de zomer zijn klompen koel en in 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winter 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9</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7354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vinden Belgen 'dom'. Wat vinden de Belgen van 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Gieri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Lu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Egoïstisch</a:t>
            </a:r>
            <a:endParaRPr b="0" lang="en-US" sz="2800" spc="-1" strike="noStrike">
              <a:solidFill>
                <a:srgbClr val="000000"/>
              </a:solidFill>
              <a:latin typeface="Arial"/>
            </a:endParaRPr>
          </a:p>
        </p:txBody>
      </p:sp>
      <p:pic>
        <p:nvPicPr>
          <p:cNvPr id="79" name="Picture 4" descr="021-zotte-belgen"/>
          <p:cNvPicPr/>
          <p:nvPr/>
        </p:nvPicPr>
        <p:blipFill>
          <a:blip r:embed="rId1"/>
          <a:stretch/>
        </p:blipFill>
        <p:spPr>
          <a:xfrm>
            <a:off x="4500720" y="2492280"/>
            <a:ext cx="2670120" cy="35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0</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8218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welke soep gebruikt men ook wel het woord 'sne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Kikker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rwt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Linzensoe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ensoep</a:t>
            </a:r>
            <a:endParaRPr b="0" lang="en-US" sz="2800" spc="-1" strike="noStrike">
              <a:solidFill>
                <a:srgbClr val="000000"/>
              </a:solidFill>
              <a:latin typeface="Arial"/>
            </a:endParaRPr>
          </a:p>
        </p:txBody>
      </p:sp>
      <p:pic>
        <p:nvPicPr>
          <p:cNvPr id="82" name="Picture 4" descr="Soep"/>
          <p:cNvPicPr/>
          <p:nvPr/>
        </p:nvPicPr>
        <p:blipFill>
          <a:blip r:embed="rId1"/>
          <a:stretch/>
        </p:blipFill>
        <p:spPr>
          <a:xfrm>
            <a:off x="3995640" y="2708280"/>
            <a:ext cx="381024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1</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77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anneer werd het Nederlands voetbalelftal Europees Kampio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97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98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99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000</a:t>
            </a:r>
            <a:endParaRPr b="0" lang="en-US" sz="2800" spc="-1" strike="noStrike">
              <a:solidFill>
                <a:srgbClr val="000000"/>
              </a:solidFill>
              <a:latin typeface="Arial"/>
            </a:endParaRPr>
          </a:p>
        </p:txBody>
      </p:sp>
      <p:pic>
        <p:nvPicPr>
          <p:cNvPr id="85" name="Picture 4" descr="debeker"/>
          <p:cNvPicPr/>
          <p:nvPr/>
        </p:nvPicPr>
        <p:blipFill>
          <a:blip r:embed="rId1"/>
          <a:stretch/>
        </p:blipFill>
        <p:spPr>
          <a:xfrm>
            <a:off x="4716360" y="2637000"/>
            <a:ext cx="2760840" cy="36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2</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7643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k merk komt niet ui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Volv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Phili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D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Heineken</a:t>
            </a:r>
            <a:endParaRPr b="0" lang="en-US" sz="2800" spc="-1" strike="noStrike">
              <a:solidFill>
                <a:srgbClr val="000000"/>
              </a:solidFill>
              <a:latin typeface="Arial"/>
            </a:endParaRPr>
          </a:p>
        </p:txBody>
      </p:sp>
      <p:pic>
        <p:nvPicPr>
          <p:cNvPr id="88" name="Picture 4" descr="DAF-Volvo_66_"/>
          <p:cNvPicPr/>
          <p:nvPr/>
        </p:nvPicPr>
        <p:blipFill>
          <a:blip r:embed="rId1"/>
          <a:stretch/>
        </p:blipFill>
        <p:spPr>
          <a:xfrm>
            <a:off x="3924360" y="2859120"/>
            <a:ext cx="3743280" cy="2824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3</a:t>
            </a:r>
            <a:endParaRPr b="0" lang="en-US" sz="4400" spc="-1" strike="noStrike">
              <a:solidFill>
                <a:srgbClr val="000000"/>
              </a:solidFill>
              <a:latin typeface="Arial"/>
            </a:endParaRPr>
          </a:p>
        </p:txBody>
      </p:sp>
      <p:sp>
        <p:nvSpPr>
          <p:cNvPr id="90" name="PlaceHolder 2"/>
          <p:cNvSpPr>
            <a:spLocks noGrp="1"/>
          </p:cNvSpPr>
          <p:nvPr>
            <p:ph/>
          </p:nvPr>
        </p:nvSpPr>
        <p:spPr>
          <a:xfrm>
            <a:off x="456840" y="1600200"/>
            <a:ext cx="8147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lke Nederlander heeft gemiddeld wel twee fietsen. In welk land komen de meeste fietsen vo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in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in Ch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in Frankr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in Indonesië</a:t>
            </a:r>
            <a:endParaRPr b="0" lang="en-US" sz="2800" spc="-1" strike="noStrike">
              <a:solidFill>
                <a:srgbClr val="000000"/>
              </a:solidFill>
              <a:latin typeface="Arial"/>
            </a:endParaRPr>
          </a:p>
        </p:txBody>
      </p:sp>
      <p:pic>
        <p:nvPicPr>
          <p:cNvPr id="91" name="Picture 4" descr="fietsen"/>
          <p:cNvPicPr/>
          <p:nvPr/>
        </p:nvPicPr>
        <p:blipFill>
          <a:blip r:embed="rId1"/>
          <a:stretch/>
        </p:blipFill>
        <p:spPr>
          <a:xfrm>
            <a:off x="4716360" y="2781360"/>
            <a:ext cx="2559240" cy="33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 Nederland vieren we jaarlijks het Sinterklaasfeest. Waar komt Sint Nicolaas eigenlijk vanda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uit Turki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uit Spanj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uit Italië</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uit België</a:t>
            </a:r>
            <a:endParaRPr b="0" lang="en-US" sz="2800" spc="-1" strike="noStrike">
              <a:solidFill>
                <a:srgbClr val="000000"/>
              </a:solidFill>
              <a:latin typeface="Arial"/>
            </a:endParaRPr>
          </a:p>
        </p:txBody>
      </p:sp>
      <p:pic>
        <p:nvPicPr>
          <p:cNvPr id="94" name="Picture 4" descr="Luc%20Sinterklaas%202002"/>
          <p:cNvPicPr/>
          <p:nvPr/>
        </p:nvPicPr>
        <p:blipFill>
          <a:blip r:embed="rId1"/>
          <a:stretch/>
        </p:blipFill>
        <p:spPr>
          <a:xfrm>
            <a:off x="4788000" y="2852640"/>
            <a:ext cx="2319120" cy="334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Arial"/>
              </a:rPr>
              <a:t>Wat betekenen de volgende dingen?</a:t>
            </a:r>
            <a:endParaRPr b="0" lang="en-US" sz="3800" spc="-1" strike="noStrike">
              <a:solidFill>
                <a:srgbClr val="000000"/>
              </a:solidFill>
              <a:latin typeface="Arial"/>
            </a:endParaRPr>
          </a:p>
        </p:txBody>
      </p:sp>
      <p:sp>
        <p:nvSpPr>
          <p:cNvPr id="96" name="PlaceHolder 2"/>
          <p:cNvSpPr>
            <a:spLocks noGrp="1"/>
          </p:cNvSpPr>
          <p:nvPr>
            <p:ph/>
          </p:nvPr>
        </p:nvSpPr>
        <p:spPr>
          <a:xfrm>
            <a:off x="457200" y="5157720"/>
            <a:ext cx="8229600" cy="968400"/>
          </a:xfrm>
          <a:prstGeom prst="rect">
            <a:avLst/>
          </a:prstGeom>
          <a:noFill/>
          <a:ln w="0">
            <a:noFill/>
          </a:ln>
        </p:spPr>
        <p:txBody>
          <a:bodyPr anchor="t">
            <a:normAutofit fontScale="81000"/>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twoorden: </a:t>
            </a:r>
            <a:endParaRPr b="0" lang="en-US" sz="3200" spc="-1" strike="noStrike">
              <a:solidFill>
                <a:srgbClr val="000000"/>
              </a:solidFill>
              <a:latin typeface="Arial"/>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 C, 2 D, 3 G , 4 F, 5 A, 6 B, 7 H, 8 E</a:t>
            </a:r>
            <a:endParaRPr b="0" lang="en-US" sz="3200" spc="-1" strike="noStrike">
              <a:solidFill>
                <a:srgbClr val="000000"/>
              </a:solidFill>
              <a:latin typeface="Arial"/>
            </a:endParaRPr>
          </a:p>
        </p:txBody>
      </p:sp>
      <p:pic>
        <p:nvPicPr>
          <p:cNvPr id="97" name="Picture 4" descr=""/>
          <p:cNvPicPr/>
          <p:nvPr/>
        </p:nvPicPr>
        <p:blipFill>
          <a:blip r:embed="rId1"/>
          <a:stretch/>
        </p:blipFill>
        <p:spPr>
          <a:xfrm>
            <a:off x="395280" y="2565360"/>
            <a:ext cx="8388360" cy="2198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Discussie</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r>
              <a:rPr b="0" lang="nl-NL" sz="4000" spc="-1" strike="noStrike">
                <a:solidFill>
                  <a:srgbClr val="000000"/>
                </a:solidFill>
                <a:latin typeface="Arial"/>
              </a:rPr>
              <a:t>Hoe gedragen Nederlanders zich volgens buitenland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1)</a:t>
            </a:r>
            <a:endParaRPr b="0" lang="en-US" sz="4000" spc="-1" strike="noStrike">
              <a:solidFill>
                <a:srgbClr val="000000"/>
              </a:solidFill>
              <a:latin typeface="Arial"/>
            </a:endParaRPr>
          </a:p>
        </p:txBody>
      </p:sp>
      <p:sp>
        <p:nvSpPr>
          <p:cNvPr id="101"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Gedrag in het openbaar vervo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 u nu wacht voor een tram, bus of trein, vorm zodra die aankomt met de andere wachtenden een menigte en blokkeer de deuren, zodat niemand er uit kan. Ga vooral niet uit de weg als de deuren opengaan en mensen naar buiten proberen te komen. Er zou dan iemand voor kunnen schiet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nneer u als een van de eersten ingestapt bent, verspreidt u uw spullen losjes over de hele bank, zodat niemand meer naast u kan zitten. Strek uw benen. Als er iemand langskomt die een plaats zoekt, doe alsof u slaapt of lees aandachtig de kr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52" name="Picture 5" descr=""/>
          <p:cNvPicPr/>
          <p:nvPr/>
        </p:nvPicPr>
        <p:blipFill>
          <a:blip r:embed="rId1"/>
          <a:stretch/>
        </p:blipFill>
        <p:spPr>
          <a:xfrm>
            <a:off x="428760" y="571680"/>
            <a:ext cx="8286480" cy="5715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bioscoo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schrift nummer één is dat u dient te giechelen, hardop te kletsen, te boeren en zo veel mogelijk met chips en snoeppapiertjes te kraken. Kortom: u moet er vooral voor zorgen dat anderen de film niet kunnen volgen. Als de zaal niet helemaal vol is, kies dan de zitplaatsen recht voor iemands neus en zit zo rechtop mogelijk (liefst met een hoed op). Doe uw uiterste best om zo veel mogelijk te laat te komen zodat de hele rij op moet staan en u op de tenen van andere bezoekers kunt trap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gedragen Nederlanders zich volgens buitenlanders? (3)</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Gedrag in de wink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binnengaan van de winkel: zorg dat de winkeldeur de persoon achter u vol in het gezicht treft. Hoort u een knal of een doffe dreun van een geraakte rolstoel of een kinderwagen, draai u losjes om en mompel: ’sorry hoor’. Als iemand in de weg loopt, leg ruw uw hand op zijn schouder en duw de persoon ongeduldig opzij. Laat dan zien dat u Frans kent, en zeg: ‘par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1</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7427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het buitenland gelooft men dat er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ederlands jongetje was dat met zijn ving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gat in de dijk dicht hield. Zo zou hij e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atersnoodramp voorkomen hebben. Hoe heet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ij?</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  Hans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  Henki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  Kareltj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  Bartje </a:t>
            </a:r>
            <a:endParaRPr b="0" lang="en-US" sz="2400" spc="-1" strike="noStrike">
              <a:solidFill>
                <a:srgbClr val="000000"/>
              </a:solidFill>
              <a:latin typeface="Arial"/>
            </a:endParaRPr>
          </a:p>
        </p:txBody>
      </p:sp>
      <p:sp>
        <p:nvSpPr>
          <p:cNvPr id="55" name="AutoShape 5"/>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7"/>
          <p:cNvSpPr/>
          <p:nvPr/>
        </p:nvSpPr>
        <p:spPr>
          <a:xfrm>
            <a:off x="3086280" y="2424240"/>
            <a:ext cx="2971800" cy="200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hansbrinker1"/>
          <p:cNvPicPr/>
          <p:nvPr/>
        </p:nvPicPr>
        <p:blipFill>
          <a:blip r:embed="rId1"/>
          <a:stretch/>
        </p:blipFill>
        <p:spPr>
          <a:xfrm>
            <a:off x="3851280" y="3645000"/>
            <a:ext cx="3529080" cy="2386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75708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tulp is een typisch Nederlandse bloem. Vanuit welk land kwam deze bloem oorspronkelijk in de 17e eeuw naar Neder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Turkij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Marokk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Chin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Duits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  Nederland</a:t>
            </a:r>
            <a:endParaRPr b="0" lang="en-US" sz="2800" spc="-1" strike="noStrike">
              <a:solidFill>
                <a:srgbClr val="000000"/>
              </a:solidFill>
              <a:latin typeface="Arial"/>
            </a:endParaRPr>
          </a:p>
        </p:txBody>
      </p:sp>
      <p:pic>
        <p:nvPicPr>
          <p:cNvPr id="60" name="Picture 4" descr="tulp"/>
          <p:cNvPicPr/>
          <p:nvPr/>
        </p:nvPicPr>
        <p:blipFill>
          <a:blip r:embed="rId1"/>
          <a:stretch/>
        </p:blipFill>
        <p:spPr>
          <a:xfrm>
            <a:off x="4859280" y="3645000"/>
            <a:ext cx="1752480" cy="175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3</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coupletten heeft het Wilhelmus (Willem van Nassa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2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28</a:t>
            </a:r>
            <a:endParaRPr b="0" lang="en-US" sz="2800" spc="-1" strike="noStrike">
              <a:solidFill>
                <a:srgbClr val="000000"/>
              </a:solidFill>
              <a:latin typeface="Arial"/>
            </a:endParaRPr>
          </a:p>
        </p:txBody>
      </p:sp>
      <p:pic>
        <p:nvPicPr>
          <p:cNvPr id="63" name="Picture 7" descr="wilhelmp"/>
          <p:cNvPicPr/>
          <p:nvPr/>
        </p:nvPicPr>
        <p:blipFill>
          <a:blip r:embed="rId1"/>
          <a:stretch/>
        </p:blipFill>
        <p:spPr>
          <a:xfrm>
            <a:off x="4648320" y="1673280"/>
            <a:ext cx="4038480" cy="437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4</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002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naam Nederland betekent laagland. Hoeveel procent van Nederland zou eigenlijk onder water (onder zeeniveau) staan, als er geen dijken en duinen zouden zij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6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25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4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6" name="Picture 4" descr="koplaagstepeil"/>
          <p:cNvPicPr/>
          <p:nvPr/>
        </p:nvPicPr>
        <p:blipFill>
          <a:blip r:embed="rId1"/>
          <a:stretch/>
        </p:blipFill>
        <p:spPr>
          <a:xfrm>
            <a:off x="4067280" y="3429000"/>
            <a:ext cx="3136680" cy="278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5</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eveel provincies heeft Neder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1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1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1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13</a:t>
            </a:r>
            <a:endParaRPr b="0" lang="en-US" sz="2800" spc="-1" strike="noStrike">
              <a:solidFill>
                <a:srgbClr val="000000"/>
              </a:solidFill>
              <a:latin typeface="Arial"/>
            </a:endParaRPr>
          </a:p>
        </p:txBody>
      </p:sp>
      <p:pic>
        <p:nvPicPr>
          <p:cNvPr id="69" name="Picture 4" descr="NEDERLAND"/>
          <p:cNvPicPr/>
          <p:nvPr/>
        </p:nvPicPr>
        <p:blipFill>
          <a:blip r:embed="rId1"/>
          <a:stretch/>
        </p:blipFill>
        <p:spPr>
          <a:xfrm>
            <a:off x="4572000" y="1844640"/>
            <a:ext cx="2668680" cy="355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6</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7931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e was de grootmoeder van koningin Be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  Julia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  Em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  Wilhelmin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  Anna Poulowna </a:t>
            </a:r>
            <a:endParaRPr b="0" lang="en-US" sz="2800" spc="-1" strike="noStrike">
              <a:solidFill>
                <a:srgbClr val="000000"/>
              </a:solidFill>
              <a:latin typeface="Arial"/>
            </a:endParaRPr>
          </a:p>
        </p:txBody>
      </p:sp>
      <p:pic>
        <p:nvPicPr>
          <p:cNvPr id="72" name="Picture 4" descr="Wilhelmina%20of%20Holland"/>
          <p:cNvPicPr/>
          <p:nvPr/>
        </p:nvPicPr>
        <p:blipFill>
          <a:blip r:embed="rId1"/>
          <a:stretch/>
        </p:blipFill>
        <p:spPr>
          <a:xfrm>
            <a:off x="4643280" y="2421000"/>
            <a:ext cx="2497320" cy="36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raag 7</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arom is Nederland zo geschikt voor ouderwetse windmole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Omdat het hier vaker waait dan in andere lan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  Omdat het land hier vlak is verliest de wind weinig krac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  Er is veel ruimte om molens te plaat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6:44:39Z</dcterms:created>
  <dc:creator>van Kan</dc:creator>
  <dc:description/>
  <dc:language>en-US</dc:language>
  <cp:lastModifiedBy>matthiasdejong</cp:lastModifiedBy>
  <dcterms:modified xsi:type="dcterms:W3CDTF">2011-01-22T13:23:03Z</dcterms:modified>
  <cp:revision>12</cp:revision>
  <dc:subject/>
  <dc:title>Buitenlanders in Nederland</dc:title>
</cp:coreProperties>
</file>