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ECD6-5A70-4A75-AE5C-47366648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1E1-2A1D-4C6A-A16D-F03194F4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D9C-B2CA-496E-BC63-05FED3DE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536-2C4B-42EB-B062-E32E9ACD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8E6-6B42-4EDE-97C7-E5422804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01E-43FB-4D65-AEF3-45193828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295-2BE4-4998-BEC3-C3AC4AF2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8EE-6170-48CE-BEBE-AAE9568B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6BF-86D2-4DB5-9BFB-03D8CC98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D55-E4C1-4B5E-A29C-C8024DB2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0C5-E837-48E8-BDB0-3D8D50C0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FC9-D932-452C-8F32-F27D6393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F5D2-478B-46F2-A2CA-AF663AC28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xcursie ‘t centrum Beverwijk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el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048120" cy="1114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3048120" cy="819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30481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keerpla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42674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1951200" cy="146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56000" y="1484280"/>
            <a:ext cx="1950840" cy="1463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22771" t="14172" r="13094" b="10229"/>
          <a:stretch/>
        </p:blipFill>
        <p:spPr>
          <a:xfrm>
            <a:off x="4572000" y="1484280"/>
            <a:ext cx="2736720" cy="216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rcRect l="21092" t="29277" r="11423" b="25397"/>
          <a:stretch/>
        </p:blipFill>
        <p:spPr>
          <a:xfrm>
            <a:off x="395280" y="3500280"/>
            <a:ext cx="2879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1951200" cy="1463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1950840" cy="1463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43280" y="1700280"/>
            <a:ext cx="1951200" cy="146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659640" y="1700280"/>
            <a:ext cx="1950840" cy="1463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11280" y="3357720"/>
            <a:ext cx="1950840" cy="1463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27280" y="3357720"/>
            <a:ext cx="195120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j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2755800" cy="367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27561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1:49:05Z</dcterms:created>
  <dc:creator>WDo</dc:creator>
  <dc:description/>
  <dc:language>en-US</dc:language>
  <cp:lastModifiedBy>WDo</cp:lastModifiedBy>
  <dcterms:modified xsi:type="dcterms:W3CDTF">2008-09-04T11:49:10Z</dcterms:modified>
  <cp:revision>1</cp:revision>
  <dc:subject/>
  <dc:title>Excursie ‘t centrum Beverwijk  deel 2</dc:title>
</cp:coreProperties>
</file>