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57A-E51E-409F-AB01-42E0D358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150-3C32-49E1-8E10-C9A7FAD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8C6-1E6D-44F5-9F3A-CA4D84D0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475-B51C-4827-A55A-0FA28D97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20E-CB7A-48A9-8C0B-2B1D7D7C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B05-63DB-4ED5-9B1F-787F4245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E70-1D4F-497F-93C7-30285AA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291-28E6-47C1-AD55-3A3DC257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E01-D6D1-45E7-AB06-C0E19022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4A1-807F-4687-9FAF-AE6D03C2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CFB-12B8-4739-B732-D090E2C9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428-0954-47D3-A2FA-4180ABC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B364-2A65-4D9C-83A0-D5EA63A2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xcursie ‘t centrum Beverwijk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el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04812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048120" cy="81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0481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ster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08360" y="306864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24360" y="155736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0920" y="4149720"/>
            <a:ext cx="331308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31860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851280" y="4653000"/>
            <a:ext cx="2664000" cy="1784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740720" y="1341360"/>
            <a:ext cx="12459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oh. De Carpentier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loemenkoel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4840" y="1557360"/>
            <a:ext cx="1619280" cy="215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00720" y="155736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91636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635280" y="4508640"/>
            <a:ext cx="288000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oh. De Carpentier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roogmaterialen en plan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285768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oh. De Carpentier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uit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564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lijer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1950840" cy="146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14637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uture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188100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4175280" cy="2795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2557440" cy="171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924360" y="4508640"/>
            <a:ext cx="31510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1:47:50Z</dcterms:created>
  <dc:creator>WDo</dc:creator>
  <dc:description/>
  <dc:language>en-US</dc:language>
  <cp:lastModifiedBy>WDo</cp:lastModifiedBy>
  <dcterms:modified xsi:type="dcterms:W3CDTF">2008-09-04T11:48:05Z</dcterms:modified>
  <cp:revision>1</cp:revision>
  <dc:subject/>
  <dc:title>Excursie ‘t centrum Beverwijk deel 1</dc:title>
</cp:coreProperties>
</file>