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4E45-CD5C-472A-9011-AEB604D475C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TUDI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enstructuur onderbou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appenstructuur bovenbouw In de laatste map van de boom, document plaat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 programma’s een gevo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or leerlingen het gevoel geven dat ze in een programma zit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eerling logt in, en krijgt dit te zien. Nu zit hij in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lanning van de leerling, die wij klaarzetten.Per week/dag/maand .Dit is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por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ardigh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jn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ijn portfolio = livel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7036-3F55-4FB4-921F-AA4E3DBCA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48E2-8FB0-4BB2-BACA-8E374F80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1042-F3C0-45CD-BDF8-9F674C310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BD62-E5E9-416D-81DF-7B0C3785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39D1-5D90-4AB3-A4FA-218B327C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C502-EB27-47F4-A7EE-9B84122D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5C06-D17F-431E-A3CC-3A85FF5E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DA7A-716A-4205-BB8A-E7C1FEBA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9B09-6AF7-4BAA-A613-203AC43F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D1C2-BDFE-4C1A-A403-D73EECF8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45BE-7709-42B3-A115-6095E466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DB1F-C19C-4049-903A-61295A90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A939-87FC-4A97-AAA3-B49EB4132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veilig.kennisnet.nl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74840" y="4221000"/>
            <a:ext cx="82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://videotheek.surfnet.nl/play_proxy/mmc/32797/WhatTheHack-384kbps.w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6320" y="1844640"/>
            <a:ext cx="289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mpje ter bewustwor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5640" y="2421000"/>
            <a:ext cx="52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veilig.kennisnet.n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 leraar/what the h@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uut: 5.50 – 8.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161200" cy="63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01540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395280" y="0"/>
          <a:ext cx="84247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0"/>
                    <a:ext cx="8424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324000" y="0"/>
          <a:ext cx="84247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0"/>
                    <a:ext cx="8424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42920" y="476280"/>
            <a:ext cx="6985080" cy="4751280"/>
          </a:xfrm>
          <a:prstGeom prst="ellipse">
            <a:avLst/>
          </a:prstGeom>
          <a:solidFill>
            <a:srgbClr val="edb1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2920" y="2204640"/>
            <a:ext cx="360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2920" y="2349360"/>
            <a:ext cx="204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ivel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55560" y="5661000"/>
            <a:ext cx="573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=competenties en vaardigheden van de leerl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9000" y="6237360"/>
            <a:ext cx="87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LINK=Heliconbreed programma waarin alle opdrachten/portfolio’s/roosters st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82880" y="350028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én gevo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ERL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951680" cy="5731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26520" y="18900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993080" cy="5761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565440" y="18900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PPOR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8209080" cy="5916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66160" y="11592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ARDIGH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8136000" cy="5864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77800" y="189000"/>
            <a:ext cx="20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 OVERZ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953120" cy="5732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709080" y="18900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05:36:19Z</dcterms:created>
  <dc:creator>E.v.d.Looveren</dc:creator>
  <dc:description/>
  <dc:language>en-US</dc:language>
  <cp:lastModifiedBy>Systeembeheer</cp:lastModifiedBy>
  <dcterms:modified xsi:type="dcterms:W3CDTF">2007-09-04T08:01:06Z</dcterms:modified>
  <cp:revision>28</cp:revision>
  <dc:subject/>
  <dc:title>Dia 1</dc:title>
</cp:coreProperties>
</file>