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7BB15-5846-48CE-BB64-1A0834F4EE0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TUDIE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ie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penstructuur onderbou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appenstructuur bovenbouw In de laatste map van de boom, document plaats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 programma’s een gevo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oor leerlingen het gevoel geven dat ze in een programma zitt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eerling logt in, en krijgt dit te zien. Nu zit hij in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lanning van de leerling, die wij klaarzetten.Per week/dag/maand .Dit is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por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ardighe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jn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ijn portfolio = liveli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DA7E-BFEE-47F3-8FFA-DEA888F85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45F7-47C1-4F07-A2EC-E3084C131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A1C0-116F-4E7F-B190-60C7C8096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A494-EB7B-4979-98A8-125A2683F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856A-30DA-4DF3-93B9-673DD7C2F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00EB-B288-4CA4-8296-52C2D6AB7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05B5-9F76-4EE2-BBDA-CFE68FDD1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8409-EDF0-4C26-8E24-58EE6C8D4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F13A-AC78-4F6C-BFBE-D487496A7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83A0-8829-4648-BCF2-64A65E5E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31EA-DAD9-42A4-A920-0A8986E0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1E71-125D-4D75-B91B-C09CB5A5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18765-4D3D-498D-BBD0-EDB1C9C28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veilig.kennisnet.nl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74840" y="4221000"/>
            <a:ext cx="826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ttp://videotheek.surfnet.nl/play_proxy/mmc/32797/WhatTheHack-384kbps.wm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6320" y="1844640"/>
            <a:ext cx="289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mpje ter bewustword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95640" y="2421000"/>
            <a:ext cx="52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veilig.kennisnet.nl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 leraar/what the h@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nuut: 5.50 – 8.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161200" cy="636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015400" cy="62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395280" y="0"/>
          <a:ext cx="842472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0"/>
                    <a:ext cx="84247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324000" y="0"/>
          <a:ext cx="842472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0"/>
                    <a:ext cx="84247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42920" y="476280"/>
            <a:ext cx="6985080" cy="4751280"/>
          </a:xfrm>
          <a:prstGeom prst="ellipse">
            <a:avLst/>
          </a:prstGeom>
          <a:solidFill>
            <a:srgbClr val="edb11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02920" y="2204640"/>
            <a:ext cx="360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42920" y="2349360"/>
            <a:ext cx="204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iveli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55560" y="5661000"/>
            <a:ext cx="573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=competenties en vaardigheden van de leerli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9000" y="6237360"/>
            <a:ext cx="879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VELINK=Heliconbreed programma waarin alle opdrachten/portfolio’s/roosters st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82880" y="350028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én gevo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80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ERLING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7951680" cy="5731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926520" y="18900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7993080" cy="5761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565440" y="189000"/>
            <a:ext cx="176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PPOR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8209080" cy="5916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66160" y="11592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ARDIGHE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8136000" cy="5864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277800" y="189000"/>
            <a:ext cx="20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JN OVERZI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7953120" cy="57326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709080" y="189000"/>
            <a:ext cx="150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FO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4T05:36:19Z</dcterms:created>
  <dc:creator>E.v.d.Looveren</dc:creator>
  <dc:description/>
  <dc:language>en-US</dc:language>
  <cp:lastModifiedBy>Systeembeheer</cp:lastModifiedBy>
  <dcterms:modified xsi:type="dcterms:W3CDTF">2007-09-04T08:01:06Z</dcterms:modified>
  <cp:revision>28</cp:revision>
  <dc:subject/>
  <dc:title>Dia 1</dc:title>
</cp:coreProperties>
</file>