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2BF3-2039-4EE9-991C-85D01CB2191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UDI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iel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ppenstructuur onderbou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appenstructuur bovenbouw In de laatste map van de boom, document plaats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2 programma’s een gevo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Voor leerlingen het gevoel geven dat ze in een programma zit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eerling logt in, en krijgt dit te zien. Nu zit hij in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Planning van de leerling, die wij klaarzetten.Per week/dag/maand .Dit is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por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ardigh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jn overzic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ijn portfolio = livel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A2B4-F8B2-4D9C-9168-FC8D93EF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306A-648C-4E9B-94D9-A8E95326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BF05-5AFE-44D8-B191-289EAE321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9C61-DDA3-4D40-9FE2-8A897EC78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76F4-004E-4A3E-BFF5-1235002D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2290-3675-4032-B708-181DA7DB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358D-39A3-4D3D-BD7F-F68D80D7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5CAF-E877-4D8F-9DD7-D19B72279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69FA-1873-4467-A9F9-5472BCD56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190D-E167-4692-923C-7765EC01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0CEF-8F8F-48F5-98F4-CC23A3B8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913-F269-45EA-8E51-2BD3CE18F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B5FF-91F7-4526-9F59-39157586E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veilig.kennisnet.nl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74840" y="4221000"/>
            <a:ext cx="826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http://videotheek.surfnet.nl/play_proxy/mmc/32797/WhatTheHack-384kbps.wm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136320" y="1844640"/>
            <a:ext cx="289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mpje ter bewustwor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95640" y="2421000"/>
            <a:ext cx="52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eilig.kennisnet.nl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/ leraar/what the h@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uut: 5.50 – 8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8161200" cy="636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0154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395280" y="0"/>
          <a:ext cx="8424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0"/>
                    <a:ext cx="842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324000" y="0"/>
          <a:ext cx="8424720" cy="685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84247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042920" y="476280"/>
            <a:ext cx="6985080" cy="4751280"/>
          </a:xfrm>
          <a:prstGeom prst="ellipse">
            <a:avLst/>
          </a:prstGeom>
          <a:solidFill>
            <a:srgbClr val="edb1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2204640"/>
            <a:ext cx="360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42920" y="2349360"/>
            <a:ext cx="204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iveli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555560" y="5661000"/>
            <a:ext cx="573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=competenties en vaardigheden van de leerli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9000" y="6237360"/>
            <a:ext cx="879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LINK=Heliconbreed programma waarin alle opdrachten/portfolio’s/roosters sta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2880" y="350028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Één gevo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ERLING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2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51680" cy="5731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926520" y="1890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836640"/>
            <a:ext cx="7993080" cy="57610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65440" y="189000"/>
            <a:ext cx="176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PPOR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209080" cy="5916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66160" y="11592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ARDIGHE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39640" y="620640"/>
            <a:ext cx="8136000" cy="58644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3277800" y="189000"/>
            <a:ext cx="20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JN OVERZIC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684360" y="620640"/>
            <a:ext cx="7953120" cy="57326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709080" y="189000"/>
            <a:ext cx="150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4T05:36:19Z</dcterms:created>
  <dc:creator>E.v.d.Looveren</dc:creator>
  <dc:description/>
  <dc:language>en-US</dc:language>
  <cp:lastModifiedBy>Systeembeheer</cp:lastModifiedBy>
  <dcterms:modified xsi:type="dcterms:W3CDTF">2007-09-04T08:01:06Z</dcterms:modified>
  <cp:revision>28</cp:revision>
  <dc:subject/>
  <dc:title>Dia 1</dc:title>
</cp:coreProperties>
</file>