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8A4D-EC83-45BA-AA05-75295E946B6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enstructuur onderbou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ppenstructuur bovenbouw In de laatste map van de boom, document plaat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programma’s een gev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leerlingen het gevoel geven dat ze in een programma zit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ling logt in, en krijgt dit te zien. Nu zit hij i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lanning van de leerling, die wij klaarzetten.Per week/dag/maand .Dit is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jn portfolio = live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3B6-8735-4571-B810-9AF5337A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A56-AEE3-4C0F-B532-54687F0F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450-2D14-448F-A711-67CCC95E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6D8-4D7B-47E9-90CB-CFF3819D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0BA-C36E-4802-B779-2A3F4195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A9F-2DB1-4529-A8FA-A240FAF2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7EC-179B-4B13-87B2-43F8A954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7E5-D6BD-4B45-94A4-52A35568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6D4-DADD-4501-916C-FD5B93FA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A9C1-F524-48DF-8A07-6A0A40B1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CA1-863E-4AB3-B190-6CCBE3B3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86A-BFFA-414B-BB5C-CFA44686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BFF2-978E-43F9-894B-2AA9A2D1B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eilig.kennisnet.nl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4840" y="422100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videotheek.surfnet.nl/play_proxy/mmc/32797/WhatTheHack-384kbps.w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6320" y="184464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pje ter bewustwor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42100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eilig.kennisnet.n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 leraar/what the h@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uut: 5.50 – 8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612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0154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9528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2400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476280"/>
            <a:ext cx="6985080" cy="4751280"/>
          </a:xfrm>
          <a:prstGeom prst="ellipse">
            <a:avLst/>
          </a:prstGeom>
          <a:solidFill>
            <a:srgbClr val="edb1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220464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2920" y="2349360"/>
            <a:ext cx="20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ve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55560" y="566100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=competenties en vaardigheden van de leer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9000" y="6237360"/>
            <a:ext cx="87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NK=Heliconbreed programma waarin alle opdrachten/portfolio’s/roosters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2880" y="3500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én gev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ERL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51680" cy="5731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26520" y="1890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76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65440" y="1890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09080" cy="5916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66160" y="1159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86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77800" y="18900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53120" cy="5732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09080" y="18900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5:36:19Z</dcterms:created>
  <dc:creator>E.v.d.Looveren</dc:creator>
  <dc:description/>
  <dc:language>en-US</dc:language>
  <cp:lastModifiedBy>Systeembeheer</cp:lastModifiedBy>
  <dcterms:modified xsi:type="dcterms:W3CDTF">2007-09-04T08:01:06Z</dcterms:modified>
  <cp:revision>28</cp:revision>
  <dc:subject/>
  <dc:title>Dia 1</dc:title>
</cp:coreProperties>
</file>