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230F-22CA-474E-89EE-501D3E6181D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enstructuur onderbo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ppenstructuur bovenbouw In de laatste map van de boom, document plaat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programma’s een gev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leerlingen het gevoel geven dat ze in een programma zi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ling logt in, en krijgt dit te zien. Nu zit hij i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lanning van de leerling, die wij klaarzetten.Per week/dag/maand .Dit is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jn portfolio = live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465-64C9-4A7A-A23C-4F670CEA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7E9-0F8F-4785-9A18-7AD5D1E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19F-5158-4DF1-A33C-DF45CEE7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23D-1AD0-4B84-B638-C7F6ADB5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6AA-9D30-4715-B267-9DA82165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609-0940-49EA-9CB7-498B4F78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06C-D3DA-44D7-B74B-147254F1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CC9-58D7-492F-9E10-67FB505F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05A-99DA-4B17-85C1-EE9FE46B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F48-6801-4104-8153-5D0221C5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15A-B1C2-4E40-9BB6-8915A7A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4DD-E981-4017-A526-C9465B21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92A8-6EBB-4660-8099-4F26912FA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eilig.kennisnet.nl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4840" y="422100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videotheek.surfnet.nl/play_proxy/mmc/32797/WhatTheHack-384kbps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6320" y="184464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pje ter bewustwor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421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ilig.kennisnet.n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 leraar/what the h@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uut: 5.50 – 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612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15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476280"/>
            <a:ext cx="6985080" cy="4751280"/>
          </a:xfrm>
          <a:prstGeom prst="ellipse">
            <a:avLst/>
          </a:prstGeom>
          <a:solidFill>
            <a:srgbClr val="edb1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2920" y="2349360"/>
            <a:ext cx="20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ve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560" y="566100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=competenties en vaardigheden van de leer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237360"/>
            <a:ext cx="87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NK=Heliconbreed programma waarin alle opdrachten/portfolio’s/roosters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2880" y="3500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én gev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ER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51680" cy="573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6520" y="18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5440" y="1890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9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6160" y="1159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86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7800" y="1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3120" cy="57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9080" y="18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36:19Z</dcterms:created>
  <dc:creator>E.v.d.Looveren</dc:creator>
  <dc:description/>
  <dc:language>en-US</dc:language>
  <cp:lastModifiedBy>Systeembeheer</cp:lastModifiedBy>
  <dcterms:modified xsi:type="dcterms:W3CDTF">2007-09-04T08:01:06Z</dcterms:modified>
  <cp:revision>28</cp:revision>
  <dc:subject/>
  <dc:title>Dia 1</dc:title>
</cp:coreProperties>
</file>