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2EBA-9D71-4F62-B9F7-7058850574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enstructuur onderbo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ppenstructuur bovenbouw In de laatste map van de boom, document plaat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programma’s een gev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leerlingen het gevoel geven dat ze in een programma zi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ling logt in, en krijgt dit te zien. Nu zit hij i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lanning van de leerling, die wij klaarzetten.Per week/dag/maand .Dit is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jn portfolio = live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90B-6D28-4800-8B7E-91A4AE3C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121-3107-430C-B47B-E0168B73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D6C-09EB-446E-9F5C-D0B97783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838-A688-4181-9604-D827F58F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5D8-CD85-4DE4-8AD1-6B070588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0B1-68A4-483B-A1AD-3A371E3C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DC7-79E4-44B9-94E5-D40DAB46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0FF-BA0A-4962-B3EF-F1EEEC05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C04-2CE7-43F2-B8FF-5BA07AED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AC9-ABFD-44E8-96B6-1BCA12C2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47E-6C38-461D-A9FE-DB95CD2D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9E9-0FC4-4220-978B-181FD71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04F7-022B-4B8C-8A34-8D86AEFFA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eilig.kennisnet.n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4840" y="422100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videotheek.surfnet.nl/play_proxy/mmc/32797/WhatTheHack-384kbps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6320" y="184464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pje ter bewustwor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421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ilig.kennisnet.n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 leraar/what the h@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uut: 5.50 – 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612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15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476280"/>
            <a:ext cx="6985080" cy="4751280"/>
          </a:xfrm>
          <a:prstGeom prst="ellipse">
            <a:avLst/>
          </a:prstGeom>
          <a:solidFill>
            <a:srgbClr val="edb1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2920" y="234936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ve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560" y="566100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=competenties en vaardigheden van de leer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237360"/>
            <a:ext cx="87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NK=Heliconbreed programma waarin alle opdrachten/portfolio’s/roosters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2880" y="350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én gev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ER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51680" cy="573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6520" y="18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5440" y="1890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9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6160" y="1159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86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7800" y="1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312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9080" y="18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36:19Z</dcterms:created>
  <dc:creator>E.v.d.Looveren</dc:creator>
  <dc:description/>
  <dc:language>en-US</dc:language>
  <cp:lastModifiedBy>Systeembeheer</cp:lastModifiedBy>
  <dcterms:modified xsi:type="dcterms:W3CDTF">2007-09-04T08:01:06Z</dcterms:modified>
  <cp:revision>28</cp:revision>
  <dc:subject/>
  <dc:title>Dia 1</dc:title>
</cp:coreProperties>
</file>