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CC59-6C86-4F52-8AEE-F08EB45AF1A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UDI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enstructuur onderbou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appenstructuur bovenbouw In de laatste map van de boom, document plaat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programma’s een gev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 leerlingen het gevoel geven dat ze in een programma zit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erling logt in, en krijgt dit te zien. Nu zit hij i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lanning van de leerling, die wij klaarzetten.Per week/dag/maand .Dit is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por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ardigh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jn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ijn portfolio = live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3566-490E-441E-A77A-8A8F0EAA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D58F-B9A1-4E5D-8496-171DE644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E0C9-38CD-4AF2-BD85-78B531CF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4E50-EC1D-4C0E-A372-239C389D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A590-FFD2-4EB6-9636-9C72DAD5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DE96-E524-4BD3-9339-351ED282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F7AE-A0F7-46F8-B620-E196CFB8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1392-7554-417D-B42A-F3D8FD23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7FB7-789F-4E5D-B560-203C2361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6ABD-8641-483B-B759-1D571E63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058E-5410-4B76-B595-AB3C2E18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59E8-C2B1-46C8-A883-75FD2278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7BF3-CBDA-422C-BBE1-651AFE286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eilig.kennisnet.nl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74840" y="4221000"/>
            <a:ext cx="82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://videotheek.surfnet.nl/play_proxy/mmc/32797/WhatTheHack-384kbps.w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6320" y="184464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mpje ter bewustwor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2421000"/>
            <a:ext cx="52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veilig.kennisnet.n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 leraar/what the h@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uut: 5.50 – 8.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16120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0154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95280" y="0"/>
          <a:ext cx="84247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0"/>
                    <a:ext cx="8424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24000" y="0"/>
          <a:ext cx="84247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0"/>
                    <a:ext cx="8424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42920" y="476280"/>
            <a:ext cx="6985080" cy="4751280"/>
          </a:xfrm>
          <a:prstGeom prst="ellipse">
            <a:avLst/>
          </a:prstGeom>
          <a:solidFill>
            <a:srgbClr val="edb1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2204640"/>
            <a:ext cx="360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2920" y="2349360"/>
            <a:ext cx="204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ive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55560" y="5661000"/>
            <a:ext cx="57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=competenties en vaardigheden van de leerl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9000" y="6237360"/>
            <a:ext cx="87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LINK=Heliconbreed programma waarin alle opdrachten/portfolio’s/roosters st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2880" y="35002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én gevo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ERL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951680" cy="5731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26520" y="18900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993080" cy="5761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565440" y="18900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POR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209080" cy="5916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66160" y="11592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ARDIGH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136000" cy="5864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77800" y="189000"/>
            <a:ext cx="20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 OVERZ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953120" cy="5732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709080" y="18900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05:36:19Z</dcterms:created>
  <dc:creator>E.v.d.Looveren</dc:creator>
  <dc:description/>
  <dc:language>en-US</dc:language>
  <cp:lastModifiedBy>Systeembeheer</cp:lastModifiedBy>
  <dcterms:modified xsi:type="dcterms:W3CDTF">2007-09-04T08:01:06Z</dcterms:modified>
  <cp:revision>28</cp:revision>
  <dc:subject/>
  <dc:title>Dia 1</dc:title>
</cp:coreProperties>
</file>