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492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AF02-A92D-4732-B498-A993FB0D3A0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edire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e dia – nog niets uitleg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F0D-B53A-4C86-BFA8-677B5795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1396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2AB7-7408-4CA7-8FF9-CA61DA05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F1D6-712A-4ECD-83A9-375E3F0A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3800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3800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1396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1396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1396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4E6F-9DB8-48C3-A8F6-12383AE2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CE5-C074-4D4F-8884-39EA9A5D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DFED-006D-434E-845F-01313752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B0E2-2789-4634-810D-9EB62053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A61E-8BC1-4B34-8E3B-499D8875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EF8A-BD26-47DE-9F6D-E72FB800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4347-B27C-4639-BB64-AC18F42C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94AE-05E2-4B84-8089-C05A09C6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1396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403-3440-49D4-B76C-3392106D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584000" indent="-22608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36520" indent="-226080">
              <a:spcBef>
                <a:spcPts val="700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4EC1-6F79-416F-9B15-83CFDC2C5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96360" y="333360"/>
            <a:ext cx="933120" cy="793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24000" y="1125360"/>
            <a:ext cx="8208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4x4site.nl/images/evenementen.jpg&amp;imgrefurl=http://www.4x4site.nl/evenementen.php&amp;h=417&amp;w=640&amp;sz=69&amp;hl=nl&amp;start=17&amp;usg=__-Mz_G_efgqxaJOb4cFdkiH1-rkY=&amp;tbnid=6s0hj06LIHSkvM:&amp;tbnh=89&amp;tbnw=137&amp;prev=/images%3Fq%3Devenementen%26gbv%3D2%26hl%3Dnl%26sa%3D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nl/imgres?imgurl=http://www.andalusier-vereniging.nl/argeweb/downloads/evenementen%2520florian.jpg&amp;imgrefurl=http://www.andalusier-vereniging.nl/index.php%3Fpaginaid%3D7&amp;h=600&amp;w=903&amp;sz=129&amp;hl=nl&amp;start=24&amp;usg=__Ztkrk-_WV8kWMZlY0JeyUIXk9pY=&amp;tbnid=Sqc9WKEPZACz8M:&amp;tbnh=98&amp;tbnw=147&amp;prev=/images%3Fq%3Devenementen%26start%3D20%26gbv%3D2%26ndsp%3D20%26hl%3Dnl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nl/imgres?imgurl=http://www.deplukschuur.nl/res/default/parson_plukdag.jpg&amp;imgrefurl=http://www.deplukschuur.nl/Specialisatie.htm&amp;h=300&amp;w=400&amp;sz=69&amp;hl=nl&amp;start=19&amp;usg=__ch6_Y8a8yxLRLUMfh8k7IEi1gkc=&amp;tbnid=5utegqEfKHkwDM:&amp;tbnh=93&amp;tbnw=124&amp;prev=/images%3Fq%3Devenementen%2Bdieren%26gbv%3D2%26hl%3Dn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nl/imgres?imgurl=http://www.cuijk.com/GRAPHICS/evenementen.jpg&amp;imgrefurl=http://www.cuijk.com/home-1.html&amp;h=591&amp;w=768&amp;sz=57&amp;hl=nl&amp;start=1&amp;usg=__EpI6lfbtgWdOVAo7zTvWoCAr_gQ=&amp;tbnid=K3ruQJAkEhVGCM:&amp;tbnh=109&amp;tbnw=142&amp;prev=/images%3Fq%3Devenementen%26gbv%3D2%26hl%3Dnl%26sa%3DG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66"/>
                </a:solidFill>
                <a:latin typeface="Verdana"/>
              </a:rPr>
              <a:t>Animal events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413000"/>
            <a:ext cx="2603520" cy="16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1773360"/>
            <a:ext cx="2651400" cy="176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4149720"/>
            <a:ext cx="2881440" cy="2160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76720" y="2276640"/>
            <a:ext cx="2447640" cy="1879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003640" y="4292640"/>
            <a:ext cx="3133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oelstellingen die niet direct het hoofddoel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ienen, maar wel direct een deeldoelstelling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noemen we subdoelstelling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1484280"/>
            <a:ext cx="280836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ofd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93080" y="2852640"/>
            <a:ext cx="1800000" cy="108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n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2421000"/>
            <a:ext cx="1728720" cy="1079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l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4292640"/>
            <a:ext cx="172872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l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4005360"/>
            <a:ext cx="20163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773360"/>
            <a:ext cx="2016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6093000"/>
            <a:ext cx="2016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1640" y="3860640"/>
            <a:ext cx="172872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l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19640" y="242100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76360" y="2133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692360" y="335736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356000" y="2923920"/>
            <a:ext cx="5763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4716360" y="5373720"/>
            <a:ext cx="216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724360" y="4941720"/>
            <a:ext cx="432000" cy="11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011640" y="2852640"/>
            <a:ext cx="360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7236000" y="3860640"/>
            <a:ext cx="288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e oma van Sofia moet een geweldige dag hebben want Sofia is gek op haar oma. 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Er moet een goede band komen want iedereen behalve Sofia dan is houdt van dansen. 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e zaal moet er picobello uitzien. (sub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e bruidstaart moet van bakker Joop zijn, want dat is de toekomstige buurman van Dirk-Jan en Sofia. (neven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ominee Jansen moet de kerkdienst leiden want onder zijn bezielende leiding van de jongerenclub hebben ze elkaar leren kennen. 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Op het gemeentehuis zullen de kinderen uit groep 5 met een ereboog klaar staan. Het moet ook een beetje feest voor de kinderen zijn.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5300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fddoelstell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De keuze van een evenement is niet allee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afhankelijk van de doelstelling (wensen van d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opdrachtgever) maar bijvoorbeeld ook van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Financiële middel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Jaargetijd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Omstandigheden (bv personele bezetting)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.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Let bij de keuze van een evenement op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oelstelling (promotie kinderboerderij met uitje naar slachthuis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raktische uitvoerbaarheid (ruimte, omgeving en financieel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assend in jaargetijd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Verzadiging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Uitvoerbaarheid (kan de organisatie het aan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venementen kunnen verdeeld word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waarbij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eelnemers actief zijn (prestatieloop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eelnemers passief zijn (bezoekers tentoonstelling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eelnemers zijn zowel actief als passief (carnavalsoptocht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venementen met passieve deelnemers zij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et gemakkelijkst te organiser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venementen met actieve deelnemers zal j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oed moeten begeleiden juist omdat d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elnemers bezig zijn. Dit vraagt vaak ook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en groter aantal servicegericht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medewerker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Opdracht 1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Vorm groepen van vier tot vijf person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rainstorm in deze groepen over een mogelijk even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Zoek een mogelijke opdrachtgever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espreek met de opdrachtgever de mogelijkheden en de wens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epaal de doelstelling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roduct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Op papier uitgewerkt plan waarin de opdrachtgever, de doelstellingen en het evenement beschreven word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Budget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et organiseren van een evenement kos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vaak geld. De opdrachtgever die vaak d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eheel of gedeeltelijke verplichtingen op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zich neemt zal voordat hij geld beschikbaar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elt eerst een realistische begroting will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zi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Budget.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et type evenement (en dus d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oelstellingen) is bepalend of al h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geïnvesteerde geld terugverdiend mo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word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aast de opdrachtgever kan je ook denke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an intreegelden, sponsoring, subsidies enz als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komstenbron voor het evenement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Een evenement is een bijeenkomst va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veel” mensen met een gezamenlijk doel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en evenement kan georganiseerd worden voor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mmerciële reden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 activitei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Budget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et opstellen van de begroting en h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waken van het budget zijn belangrijk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aken van een organisator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ou bij het opstellen van de begroting dus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kening met een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Verdana"/>
              </a:rPr>
              <a:t>post onvoorzien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Verdana"/>
              </a:rPr>
              <a:t>uitgav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troleer met meerdere mensen de financiël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tand van zaken. Twee zien meer dan één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Opdracht 2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tel voor het evenement een begroting op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denk mogelijkheden om aan extra financiële middelen te kom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spreek de begroting met de opdrachtgever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duct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en begroting in Excel gemaakt met ee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nderbouwing van de verschillende post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ls er meer dan 1 doelstelling is zal me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moeten gaan splitsen in hoofddoelstelling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n nevendoelstelling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oelstellingen maken dat je ergens naar to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kan werken bij het evenement maar ook da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evaluatie gericht i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oelstellingen kunnen verschillend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eformuleerd zij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Minimaal 500 bezoekers per dag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op een tentoonstelling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Zoveel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mogelijk inschrijvinge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en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gezellig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dag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specifiek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meetbaar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acceptab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realistisch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tijdsgebond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 opdrachtgever zal in de eerste plaats aa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oeten geven wat het doel van h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enement is; en wanneer hij dus tevreden is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1700280"/>
            <a:ext cx="741672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pecifi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gaan we precies do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voor een concrete en ondubbelzijdige omschrijving van de activiteit. Dit gaat meestal om een zelfstandig naamwoord en een werkwoord. Bv wij gaan de vuilinsbakken buiten ze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Meetba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etbaarheid kan ervoor zorgen dat er een resultaat zichtbaar wordt en maakt het geheel wat overzichtelijker. Bv wij gaan de vier vuilnisbakken buiten ze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eptabel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er draagvlak voor? Draagvlak is belangrijk , want zonder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agvlak kun je wel iets doen maar, beklijft het niet. In on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orbeeld is er een duidelijk draagvlak, want volle vuilnisbakken,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ar heeft niemand iets aan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listisch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 het wat we willen? Het plannen van activiteiten moet gebaseerd zijn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 de realiteit. In het voorbeeld gaan we uit van vier overvolle en du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re vuilnisbakken. We moeten dus hulptroepen organiseren: dus al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e collega’s even helpen duwen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38000"/>
            <a:ext cx="742788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Tijdsgebonden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euwige doelen zijn geduldig maar helpen niet veel bij het oplossen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an problemen. Zeker niet voor vuilnisbakken dus voor 9 uur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rgenochtend (omdat dan de vuilnisman komt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oms zijn er doelstellingen die ge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oofddoelstelling zijn en ge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nevendoelstelling. We noemen ze da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eldoelstellingen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eldoelstellingen zijn nodig om he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oofddoel te bereik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10:51:26Z</dcterms:created>
  <dc:creator>Systeembeheer</dc:creator>
  <dc:description/>
  <dc:language>en-US</dc:language>
  <cp:lastModifiedBy>Enschede</cp:lastModifiedBy>
  <dcterms:modified xsi:type="dcterms:W3CDTF">2008-11-07T14:28:27Z</dcterms:modified>
  <cp:revision>144</cp:revision>
  <dc:subject/>
  <dc:title>Dia 1</dc:title>
</cp:coreProperties>
</file>