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663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87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773160" y="0"/>
            <a:ext cx="2887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8492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427680"/>
            <a:ext cx="28875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773160" y="9427680"/>
            <a:ext cx="28875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8888B-9E6B-4118-8F38-F24EBF30E0E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edirec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e dia – nog niets uitleg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14F3-78E6-4B6F-8815-75EBC88F7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513960"/>
            <a:ext cx="82296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9E75-D420-4422-AD58-812BE7687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40158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38000"/>
            <a:ext cx="40158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13960"/>
            <a:ext cx="40158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513960"/>
            <a:ext cx="40158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3C34-8D70-4DA1-B1E6-E24349F4C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26496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38000"/>
            <a:ext cx="26496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38000"/>
            <a:ext cx="26496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513960"/>
            <a:ext cx="26496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513960"/>
            <a:ext cx="26496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513960"/>
            <a:ext cx="26496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8E9C-7217-48DF-ADB6-5387434E5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D000-7DBC-4F32-865E-52052F880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5AB4-203C-420D-AB81-7836D7116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40158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38000"/>
            <a:ext cx="40158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6C23-C672-47D6-BD99-0FE702F4D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E8E4-B64B-41B4-9E19-8657FF9A2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2400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1B62-F4CA-4BFC-A45B-3E4F4DC0C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40158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38000"/>
            <a:ext cx="40158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513960"/>
            <a:ext cx="40158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F63F-4498-455C-A737-C8B8B4A9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40158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38000"/>
            <a:ext cx="40158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513960"/>
            <a:ext cx="40158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C71D-66C1-44D7-87E0-90409521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40158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38000"/>
            <a:ext cx="40158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513960"/>
            <a:ext cx="82296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A16A-98CA-4572-A304-0BFF296F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584000" indent="-226080">
              <a:spcBef>
                <a:spcPts val="700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36520" indent="-226080">
              <a:spcBef>
                <a:spcPts val="700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36520" indent="-22608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36520" indent="-22608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CAA5B-5A20-4537-B5FE-69A638A82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596360" y="333360"/>
            <a:ext cx="933120" cy="793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324000" y="1125360"/>
            <a:ext cx="820872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4x4site.nl/images/evenementen.jpg&amp;imgrefurl=http://www.4x4site.nl/evenementen.php&amp;h=417&amp;w=640&amp;sz=69&amp;hl=nl&amp;start=17&amp;usg=__-Mz_G_efgqxaJOb4cFdkiH1-rkY=&amp;tbnid=6s0hj06LIHSkvM:&amp;tbnh=89&amp;tbnw=137&amp;prev=/images%3Fq%3Devenementen%26gbv%3D2%26hl%3Dnl%26sa%3D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nl/imgres?imgurl=http://www.andalusier-vereniging.nl/argeweb/downloads/evenementen%2520florian.jpg&amp;imgrefurl=http://www.andalusier-vereniging.nl/index.php%3Fpaginaid%3D7&amp;h=600&amp;w=903&amp;sz=129&amp;hl=nl&amp;start=24&amp;usg=__Ztkrk-_WV8kWMZlY0JeyUIXk9pY=&amp;tbnid=Sqc9WKEPZACz8M:&amp;tbnh=98&amp;tbnw=147&amp;prev=/images%3Fq%3Devenementen%26start%3D20%26gbv%3D2%26ndsp%3D20%26hl%3Dnl%26sa%3DN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images.google.nl/imgres?imgurl=http://www.deplukschuur.nl/res/default/parson_plukdag.jpg&amp;imgrefurl=http://www.deplukschuur.nl/Specialisatie.htm&amp;h=300&amp;w=400&amp;sz=69&amp;hl=nl&amp;start=19&amp;usg=__ch6_Y8a8yxLRLUMfh8k7IEi1gkc=&amp;tbnid=5utegqEfKHkwDM:&amp;tbnh=93&amp;tbnw=124&amp;prev=/images%3Fq%3Devenementen%2Bdieren%26gbv%3D2%26hl%3Dnl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images.google.nl/imgres?imgurl=http://www.cuijk.com/GRAPHICS/evenementen.jpg&amp;imgrefurl=http://www.cuijk.com/home-1.html&amp;h=591&amp;w=768&amp;sz=57&amp;hl=nl&amp;start=1&amp;usg=__EpI6lfbtgWdOVAo7zTvWoCAr_gQ=&amp;tbnid=K3ruQJAkEhVGCM:&amp;tbnh=109&amp;tbnw=142&amp;prev=/images%3Fq%3Devenementen%26gbv%3D2%26hl%3Dnl%26sa%3DG" TargetMode="External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66"/>
                </a:solidFill>
                <a:latin typeface="Verdana"/>
              </a:rPr>
              <a:t>Animal events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413000"/>
            <a:ext cx="2603520" cy="1690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84720" y="1773360"/>
            <a:ext cx="2651400" cy="1766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6920" y="4149720"/>
            <a:ext cx="2881440" cy="2160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276720" y="2276640"/>
            <a:ext cx="2447640" cy="1879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5003640" y="4292640"/>
            <a:ext cx="31338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Doelstellingen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oelstellingen die niet direct het hoofddoel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ienen, maar wel direct een deeldoelstelling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noemen we subdoelstelling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Doelstellingen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1484280"/>
            <a:ext cx="2808360" cy="14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ofddoelst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93080" y="2852640"/>
            <a:ext cx="1800000" cy="1081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vendoelst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35280" y="2421000"/>
            <a:ext cx="1728720" cy="10792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eldoelst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64000" y="4292640"/>
            <a:ext cx="1728720" cy="10796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eldoelst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00000" y="4005360"/>
            <a:ext cx="201636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doelst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1773360"/>
            <a:ext cx="20160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doelst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6093000"/>
            <a:ext cx="20160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doelst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651640" y="3860640"/>
            <a:ext cx="1728720" cy="10796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eldoelst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19640" y="2421000"/>
            <a:ext cx="57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76360" y="2133720"/>
            <a:ext cx="64764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692360" y="3357360"/>
            <a:ext cx="43164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4356000" y="2923920"/>
            <a:ext cx="57636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4716360" y="5373720"/>
            <a:ext cx="21600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5724360" y="4941720"/>
            <a:ext cx="432000" cy="115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011640" y="2852640"/>
            <a:ext cx="36036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7236000" y="3860640"/>
            <a:ext cx="288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Doelstellingen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66"/>
                </a:solidFill>
                <a:latin typeface="Verdana"/>
              </a:rPr>
              <a:t>De oma van Sofia moet een geweldige dag hebben want Sofia is gek op haar oma. (deeldoelstelling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66"/>
                </a:solidFill>
                <a:latin typeface="Verdana"/>
              </a:rPr>
              <a:t>Er moet een goede band komen want iedereen behalve Sofia dan is houdt van dansen. (deeldoelstelling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66"/>
                </a:solidFill>
                <a:latin typeface="Verdana"/>
              </a:rPr>
              <a:t>De zaal moet er picobello uitzien. (subdoelstelling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66"/>
                </a:solidFill>
                <a:latin typeface="Verdana"/>
              </a:rPr>
              <a:t>De bruidstaart moet van bakker Joop zijn, want dat is de toekomstige buurman van Dirk-Jan en Sofia. (nevendoelstelling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66"/>
                </a:solidFill>
                <a:latin typeface="Verdana"/>
              </a:rPr>
              <a:t>Dominee Jansen moet de kerkdienst leiden want onder zijn bezielende leiding van de jongerenclub hebben ze elkaar leren kennen. (deeldoelstelling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66"/>
                </a:solidFill>
                <a:latin typeface="Verdana"/>
              </a:rPr>
              <a:t>Op het gemeentehuis zullen de kinderen uit groep 5 met een ereboog klaar staan. Het moet ook een beetje feest voor de kinderen zijn.(deeldoelstelling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611280" y="530064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ofddoelstell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Evenement.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66"/>
                </a:solidFill>
                <a:latin typeface="Verdana"/>
              </a:rPr>
              <a:t>De keuze van een evenement is niet alleen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66"/>
                </a:solidFill>
                <a:latin typeface="Verdana"/>
              </a:rPr>
              <a:t>afhankelijk van de doelstelling (wensen van de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66"/>
                </a:solidFill>
                <a:latin typeface="Verdana"/>
              </a:rPr>
              <a:t>opdrachtgever) maar bijvoorbeeld ook van: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66"/>
                </a:solidFill>
                <a:latin typeface="Verdana"/>
              </a:rPr>
              <a:t>Financiële middelen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66"/>
                </a:solidFill>
                <a:latin typeface="Verdana"/>
              </a:rPr>
              <a:t>Jaargetijde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66"/>
                </a:solidFill>
                <a:latin typeface="Verdana"/>
              </a:rPr>
              <a:t>Omstandigheden (bv personele bezetting)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Evenement.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Let bij de keuze van een evenement op: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e doelstelling (promotie kinderboerderij met uitje naar slachthuis)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Praktische uitvoerbaarheid (ruimte, omgeving en financieel)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Passend in jaargetijde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Verzadiging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Uitvoerbaarheid (kan de organisatie het aan)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Evenement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Evenementen kunnen verdeeld worden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waarbij: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e deelnemers actief zijn (prestatieloop)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e deelnemers passief zijn (bezoekers tentoonstelling)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e deelnemers zijn zowel actief als passief (carnavalsoptocht)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Evenement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38360"/>
            <a:ext cx="822960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Evenementen met passieve deelnemers zijn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het gemakkelijkst te organiseren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Evenementen met actieve deelnemers zal je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goed moeten begeleiden juist omdat de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eelnemers bezig zijn. Dit vraagt vaak ook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een groter aantal servicegerichte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medewerkers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Opdracht 1.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Vorm groepen van vier tot vijf personen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Brainstorm in deze groepen over een mogelijk evenement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Zoek een mogelijke opdrachtgever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Bespreek met de opdrachtgever de mogelijkheden en de wensen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Bepaal de doelstellingen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Product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-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Op papier uitgewerkt plan waarin de opdrachtgever, de doelstellingen en het evenement beschreven worden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Budget.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Het organiseren van een evenement kost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vaak geld. De opdrachtgever die vaak de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geheel of gedeeltelijke verplichtingen op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zich neemt zal voordat hij geld beschikbaar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telt eerst een realistische begroting willen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zien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Budget.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Het type evenement (en dus de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doelstellingen) is bepalend of al het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geïnvesteerde geld terugverdiend moet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worden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Naast de opdrachtgever kan je ook denken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an intreegelden, sponsoring, subsidies enz als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inkomstenbron voor het evenement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Evenement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Een evenement is een bijeenkomst van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veel” mensen met een gezamenlijk doel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en evenement kan georganiseerd worden voor: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Commerciële redenen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Pr activiteit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Budget.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Het opstellen van de begroting en het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bewaken van het budget zijn belangrijke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taken van een organisator.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Hou bij het opstellen van de begroting dus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rekening met een </a:t>
            </a:r>
            <a:r>
              <a:rPr b="0" lang="en-US" sz="2400" spc="-1" strike="noStrike" u="sng">
                <a:solidFill>
                  <a:srgbClr val="000066"/>
                </a:solidFill>
                <a:uFillTx/>
                <a:latin typeface="Verdana"/>
              </a:rPr>
              <a:t>post onvoorziene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66"/>
                </a:solidFill>
                <a:uFillTx/>
                <a:latin typeface="Verdana"/>
              </a:rPr>
              <a:t>uitgaven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Controleer met meerdere mensen de financiële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stand van zaken. Twee zien meer dan één.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Opdracht 2.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Stel voor het evenement een begroting op.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Bedenk mogelijkheden om aan extra financiële middelen te komen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Bespreek de begroting met de opdrachtgever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Product: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en begroting in Excel gemaakt met een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nderbouwing van de verschillende posten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Doelstellingen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ls er meer dan 1 doelstelling is zal men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moeten gaan splitsen in hoofddoelstellingen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en nevendoelstellingen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oelstellingen maken dat je ergens naar toe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kan werken bij het evenement maar ook dat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e evaluatie gericht is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Doelstellingen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oelstellingen kunnen verschillend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geformuleerd zijn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Verdana"/>
              </a:rPr>
              <a:t>Minimaal 500 bezoekers per dag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op een tentoonstelling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Verdana"/>
              </a:rPr>
              <a:t>Zoveel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mogelijk inschrijvingen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Een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Verdana"/>
              </a:rPr>
              <a:t>gezellige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dag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Doelstellingen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specifiek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M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meetbaar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acceptabel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R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realistisch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tijdsgebonden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De opdrachtgever zal in de eerste plaats aan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moeten geven wat het doel van het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venement is; en wanneer hij dus tevreden is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Doelstellingen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1700280"/>
            <a:ext cx="7416720" cy="39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Specifi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t gaan we precies do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rg voor een concrete en ondubbelzijdige omschrijving van de activiteit. Dit gaat meestal om een zelfstandig naamwoord en een werkwoord. Bv wij gaan de vuilinsbakken buiten zet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Meetba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eetbaarheid kan ervoor zorgen dat er een resultaat zichtbaar wordt en maakt het geheel wat overzichtelijker. Bv wij gaan de vier vuilnisbakken buiten zet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Doelstellingen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700280"/>
            <a:ext cx="80643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ceptabel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er draagvlak voor? Draagvlak is belangrijk , want zonder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agvlak kun je wel iets doen maar, beklijft het niet. In ons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orbeeld is er een duidelijk draagvlak, want volle vuilnisbakken,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ar heeft niemand iets aan.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alistisch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n het wat we willen? Het plannen van activiteiten moet gebaseerd zijn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 de realiteit. In het voorbeeld gaan we uit van vier overvolle en dus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are vuilnisbakken. We moeten dus hulptroepen organiseren: dus als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ee collega’s even helpen duwen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Doelstellingen.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38000"/>
            <a:ext cx="742788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Tijdsgebonden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euwige doelen zijn geduldig maar helpen niet veel bij het oplossen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van problemen. Zeker niet voor vuilnisbakken dus voor 9 uur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orgenochtend (omdat dan de vuilnisman komt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Doelstellingen.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oms zijn er doelstellingen die geen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hoofddoelstelling zijn en geen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nevendoelstelling. We noemen ze dan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eeldoelstellingen.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eeldoelstellingen zijn nodig om het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hoofddoel te bereiken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10:51:26Z</dcterms:created>
  <dc:creator>Systeembeheer</dc:creator>
  <dc:description/>
  <dc:language>en-US</dc:language>
  <cp:lastModifiedBy>Enschede</cp:lastModifiedBy>
  <dcterms:modified xsi:type="dcterms:W3CDTF">2008-11-07T14:28:27Z</dcterms:modified>
  <cp:revision>144</cp:revision>
  <dc:subject/>
  <dc:title>Dia 1</dc:title>
</cp:coreProperties>
</file>