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492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616-B6D0-416A-A917-C81DB58077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edirec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e dia – nog niets uitleg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B12-F43C-4068-B661-B62C78F9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CBF-FC48-4D23-B9A1-14F61401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321-A12B-4CD5-A36B-43F05783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3800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13960"/>
            <a:ext cx="264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05D-2B15-4998-A7FA-520CBCF2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5AC-48BE-41A2-BD0A-75A09BDA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484-A716-4CB8-B118-C155928A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A4F-85FE-45BD-8AEB-5206F084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41A-0F95-4C06-910A-32F64C54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593-8E4C-4DF7-9296-E797770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221-4FC4-4730-966F-ECD5D66A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1396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F13-FB91-472B-A5F9-95AEFCB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38000"/>
            <a:ext cx="40158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13960"/>
            <a:ext cx="822960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F52-D7D9-418D-B54F-642184F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1F2A-257B-47EF-8572-E937E478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933120" cy="793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24000" y="1125360"/>
            <a:ext cx="8208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4x4site.nl/images/evenementen.jpg&amp;imgrefurl=http://www.4x4site.nl/evenementen.php&amp;h=417&amp;w=640&amp;sz=69&amp;hl=nl&amp;start=17&amp;usg=__-Mz_G_efgqxaJOb4cFdkiH1-rkY=&amp;tbnid=6s0hj06LIHSkvM:&amp;tbnh=89&amp;tbnw=137&amp;prev=/images%3Fq%3Devenementen%26gbv%3D2%26hl%3Dnl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nl/imgres?imgurl=http://www.andalusier-vereniging.nl/argeweb/downloads/evenementen%2520florian.jpg&amp;imgrefurl=http://www.andalusier-vereniging.nl/index.php%3Fpaginaid%3D7&amp;h=600&amp;w=903&amp;sz=129&amp;hl=nl&amp;start=24&amp;usg=__Ztkrk-_WV8kWMZlY0JeyUIXk9pY=&amp;tbnid=Sqc9WKEPZACz8M:&amp;tbnh=98&amp;tbnw=147&amp;prev=/images%3Fq%3Devenementen%26start%3D20%26gbv%3D2%26ndsp%3D20%26hl%3Dnl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nl/imgres?imgurl=http://www.deplukschuur.nl/res/default/parson_plukdag.jpg&amp;imgrefurl=http://www.deplukschuur.nl/Specialisatie.htm&amp;h=300&amp;w=400&amp;sz=69&amp;hl=nl&amp;start=19&amp;usg=__ch6_Y8a8yxLRLUMfh8k7IEi1gkc=&amp;tbnid=5utegqEfKHkwDM:&amp;tbnh=93&amp;tbnw=124&amp;prev=/images%3Fq%3Devenementen%2Bdieren%26gbv%3D2%26hl%3Dn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nl/imgres?imgurl=http://www.cuijk.com/GRAPHICS/evenementen.jpg&amp;imgrefurl=http://www.cuijk.com/home-1.html&amp;h=591&amp;w=768&amp;sz=57&amp;hl=nl&amp;start=1&amp;usg=__EpI6lfbtgWdOVAo7zTvWoCAr_gQ=&amp;tbnid=K3ruQJAkEhVGCM:&amp;tbnh=109&amp;tbnw=142&amp;prev=/images%3Fq%3Devenementen%26gbv%3D2%26hl%3Dnl%26sa%3DG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66"/>
                </a:solidFill>
                <a:latin typeface="Verdana"/>
              </a:rPr>
              <a:t>Animal events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413000"/>
            <a:ext cx="2603520" cy="16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773360"/>
            <a:ext cx="2651400" cy="17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14972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276640"/>
            <a:ext cx="2447640" cy="187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03640" y="4292640"/>
            <a:ext cx="31338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die niet direct het hoofddoel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ienen, maar wel direct een deeldoelstell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oemen we subdoelstelling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484280"/>
            <a:ext cx="280836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2852640"/>
            <a:ext cx="1800000" cy="10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n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2421000"/>
            <a:ext cx="1728720" cy="107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292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4005360"/>
            <a:ext cx="2016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77336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6093000"/>
            <a:ext cx="2016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3860640"/>
            <a:ext cx="1728720" cy="1079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ldoels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19640" y="242100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2133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692360" y="335736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56000" y="292392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716360" y="5373720"/>
            <a:ext cx="21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724360" y="4941720"/>
            <a:ext cx="43200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11640" y="285264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236000" y="386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oma van Sofia moet een geweldige dag hebben want Sofia is gek op haar oma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Er moet een goede band komen want iedereen behalve Sofia dan is houdt van dans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zaal moet er picobello uitzien. (sub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e bruidstaart moet van bakker Joop zijn, want dat is de toekomstige buurman van Dirk-Jan en Sofia. (neven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Dominee Jansen moet de kerkdienst leiden want onder zijn bezielende leiding van de jongerenclub hebben ze elkaar leren kennen. 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66"/>
                </a:solidFill>
                <a:latin typeface="Verdana"/>
              </a:rPr>
              <a:t>Op het gemeentehuis zullen de kinderen uit groep 5 met een ereboog klaar staan. Het moet ook een beetje feest voor de kinderen zijn.(deeldoelstelling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300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doelstell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De keuze van een evenement is niet all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afhankelijk van de doelstelling (wensen van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pdrachtgever) maar bijvoorbeeld ook va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Financiële middel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Jaargetijd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66"/>
                </a:solidFill>
                <a:latin typeface="Verdana"/>
              </a:rPr>
              <a:t>Omstandigheden (bv personele bezett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Let bij de keuze van een evenement op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oelstelling (promotie kinderboerderij met uitje naar slachthuis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aktische uitvoerbaarheid (ruimte, omgeving en financieel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ssend in jaargetij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erzadiging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itvoerbaarheid (kan de organisatie het aan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kunnen verdeeld word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waarbij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actief zijn (prestatieloop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passief zijn (bezoekers tentoonstelling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deelnemers zijn zowel actief als passief (carnavalsoptocht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passieve deelnemers zij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gemakkelijkst te organiser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venementen met actieve deelnemers zal j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oed moeten begeleiden juist omdat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nemers bezig zijn. Dit vraagt vaak ook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groter aantal servicegericht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edewerker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1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Vorm groepen van vier tot vijf person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rainstorm in deze groepen over een mogelijk evenemen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Zoek een mogelijke opdrachtgeve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spreek met de opdrachtgever de mogelijkheden en de wens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Bepaal de doelstelling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Op papier uitgewerkt plan waarin de opdrachtgever, de doelstellingen en het evenement beschreven worden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t organiseren van een evenement kos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ak geld. De opdrachtgever die vaak d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heel of gedeeltelijke verplichtingen op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ch neemt zal voordat hij geld beschikbaar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telt eerst een realistische begroting will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zi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type evenement (en dus d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oelstellingen) is bepalend of al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eïnvesteerde geld terugverdiend mo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word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aast de opdrachtgever kan je ook denk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an intreegelden, sponsoring, subsidies enz al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komstenbron voor het evenement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Evenement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en evenement is een bijeenkomst v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eel” mensen met een gezamenlijk doel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evenement kan georganiseerd worden voor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merciële reden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 activitei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Budget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et opstellen van de begroting e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waken van het budget zijn belangrijk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aken van een organisator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ou bij het opstellen van de begroting du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kening met ee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post onvoorzien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Verdana"/>
              </a:rPr>
              <a:t>uitgav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roleer met meerdere mensen de financiël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and van zaken. Twee zien meer dan éé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Opdracht 2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tel voor het evenement een begroting op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denk mogelijkheden om aan extra financiële middelen te kom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Bespreek de begroting met de opdrachtgever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duct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en begroting in Excel gemaakt met ee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nderbouwing van de verschillende posten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ls er meer dan 1 doelstelling is zal m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moeten gaan splitsen in hoofddoelstelling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n nevendoelstelling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maken dat je ergens naar toe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kan werken bij het evenement maar ook da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 evaluatie gericht i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oelstellingen kunnen verschillend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formuleerd zij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Minimaal 500 bezoekers per dag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op een tentoonstellin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Zoveel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mogelijk inschrijvinge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Verdana"/>
              </a:rPr>
              <a:t>gezellige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dag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specifiek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meetbaar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acceptab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realistisch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tijdsgebonde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opdrachtgever zal in de eerste plaats aan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oeten geven wat het doel van h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venement is; en wanneer hij dus tevreden i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700280"/>
            <a:ext cx="7416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pecifi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 gaan we precies do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voor een concrete en ondubbelzijdige omschrijving van de activiteit. Dit gaat meestal om een zelfstandig naamwoord en een werkwoord. Bv wij gaan de vuilin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Meet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tbaarheid kan ervoor zorgen dat er een resultaat zichtbaar wordt en maakt het geheel wat overzichtelijker. Bv wij gaan de vier vuilnisbakken buiten ze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bel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er draagvlak voor? Draagvlak is belangrijk , want zonde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agvlak kun je wel iets doen maar, beklijft het niet. In on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eld is er een duidelijk draagvlak, want volle vuilnisbakken,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ar heeft niemand iets aa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stisch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 het wat we willen? Het plannen van activiteiten moet gebaseerd zij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de realiteit. In het voorbeeld gaan we uit van vier overvolle en du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re vuilnisbakken. We moeten dus hulptroepen organiseren: dus al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 collega’s even helpen duw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38000"/>
            <a:ext cx="74278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ijdsgebonden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euwige doelen zijn geduldig maar helpen niet veel bij het oplossen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n problemen. Zeker niet voor vuilnisbakken dus voor 9 uur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genochtend (omdat dan de vuilnisman komt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Doelstellingen.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3800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oms zijn er doelstellingen die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stelling zijn en gee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evendoelstelling. We noemen ze dan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.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Deeldoelstellingen zijn nodig om het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ofddoel te bereiken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0:51:26Z</dcterms:created>
  <dc:creator>Systeembeheer</dc:creator>
  <dc:description/>
  <dc:language>en-US</dc:language>
  <cp:lastModifiedBy>Enschede</cp:lastModifiedBy>
  <dcterms:modified xsi:type="dcterms:W3CDTF">2008-11-07T14:28:27Z</dcterms:modified>
  <cp:revision>144</cp:revision>
  <dc:subject/>
  <dc:title>Dia 1</dc:title>
</cp:coreProperties>
</file>