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92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63AE-C1A4-4146-ABCA-FCE30D9D0BC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edire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e dia – nog niets uitleg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A6E-B9BB-4C4A-BE8A-D7C1B823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35E-6F01-4ECE-B19D-04BF6570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0AD-15A6-4CB5-B391-42FC9725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B6B-AF2A-41AB-AF91-FF49A823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355-14E4-4FC5-886A-778A50D4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34C-6697-496D-87E2-37072EB3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FD0-F173-4F98-BA89-481434C2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C94-5688-4C33-BDA4-811E9769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A43-8F0D-4A55-9D3E-E0D123D2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C3FD-9E11-49A2-B100-C8D80C3E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89AD-DC2C-4DC5-BF6F-EEC5EA03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6BDE-0CA4-45C3-82F4-147530A3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9886-32BF-4512-A862-4CFA7118A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933120" cy="793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24000" y="1125360"/>
            <a:ext cx="8208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4x4site.nl/images/evenementen.jpg&amp;imgrefurl=http://www.4x4site.nl/evenementen.php&amp;h=417&amp;w=640&amp;sz=69&amp;hl=nl&amp;start=17&amp;usg=__-Mz_G_efgqxaJOb4cFdkiH1-rkY=&amp;tbnid=6s0hj06LIHSkvM:&amp;tbnh=89&amp;tbnw=137&amp;prev=/images%3Fq%3Devenementen%26gbv%3D2%26hl%3Dnl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nl/imgres?imgurl=http://www.andalusier-vereniging.nl/argeweb/downloads/evenementen%2520florian.jpg&amp;imgrefurl=http://www.andalusier-vereniging.nl/index.php%3Fpaginaid%3D7&amp;h=600&amp;w=903&amp;sz=129&amp;hl=nl&amp;start=24&amp;usg=__Ztkrk-_WV8kWMZlY0JeyUIXk9pY=&amp;tbnid=Sqc9WKEPZACz8M:&amp;tbnh=98&amp;tbnw=147&amp;prev=/images%3Fq%3Devenementen%26start%3D20%26gbv%3D2%26ndsp%3D20%26hl%3Dnl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nl/imgres?imgurl=http://www.deplukschuur.nl/res/default/parson_plukdag.jpg&amp;imgrefurl=http://www.deplukschuur.nl/Specialisatie.htm&amp;h=300&amp;w=400&amp;sz=69&amp;hl=nl&amp;start=19&amp;usg=__ch6_Y8a8yxLRLUMfh8k7IEi1gkc=&amp;tbnid=5utegqEfKHkwDM:&amp;tbnh=93&amp;tbnw=124&amp;prev=/images%3Fq%3Devenementen%2Bdieren%26gbv%3D2%26hl%3Dn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nl/imgres?imgurl=http://www.cuijk.com/GRAPHICS/evenementen.jpg&amp;imgrefurl=http://www.cuijk.com/home-1.html&amp;h=591&amp;w=768&amp;sz=57&amp;hl=nl&amp;start=1&amp;usg=__EpI6lfbtgWdOVAo7zTvWoCAr_gQ=&amp;tbnid=K3ruQJAkEhVGCM:&amp;tbnh=109&amp;tbnw=142&amp;prev=/images%3Fq%3Devenementen%26gbv%3D2%26hl%3Dnl%26sa%3D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66"/>
                </a:solidFill>
                <a:latin typeface="Verdana"/>
              </a:rPr>
              <a:t>Animal events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13000"/>
            <a:ext cx="2603520" cy="16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1773360"/>
            <a:ext cx="2651400" cy="17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414972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2276640"/>
            <a:ext cx="2447640" cy="1879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03640" y="4292640"/>
            <a:ext cx="3133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die niet direct het hoofddoel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ienen, maar wel direct een deeldoelstell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oemen we subdoelstelling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1484280"/>
            <a:ext cx="280836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fd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2852640"/>
            <a:ext cx="1800000" cy="10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n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2421000"/>
            <a:ext cx="1728720" cy="1079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292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4005360"/>
            <a:ext cx="2016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77336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609300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3860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19640" y="242100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2133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692360" y="33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56000" y="2923920"/>
            <a:ext cx="576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716360" y="537372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724360" y="4941720"/>
            <a:ext cx="43200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011640" y="285264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236000" y="386064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oma van Sofia moet een geweldige dag hebben want Sofia is gek op haar oma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Er moet een goede band komen want iedereen behalve Sofia dan is houdt van dans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zaal moet er picobello uitzien. (sub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bruidstaart moet van bakker Joop zijn, want dat is de toekomstige buurman van Dirk-Jan en Sofia. (neven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ominee Jansen moet de kerkdienst leiden want onder zijn bezielende leiding van de jongerenclub hebben ze elkaar leren kenn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Op het gemeentehuis zullen de kinderen uit groep 5 met een ereboog klaar staan. Het moet ook een beetje feest voor de kinderen zijn.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300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fddoelstell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De keuze van een evenement is niet all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afhankelijk van de doelstelling (wensen van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pdrachtgever) maar bijvoorbeeld ook van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Financiële middel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Jaargetijd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mstandigheden (bv personele bezetting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Let bij de keuze van een evenement op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oelstelling (promotie kinderboerderij met uitje naar slachthuis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raktische uitvoerbaarheid (ruimte, omgeving en financieel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assend in jaargetijd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erzadig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Uitvoerbaarheid (kan de organisatie het aan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kunnen verdeeld word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aarbij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actief zijn (prestatieloop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passief zijn (bezoekers tentoonstelling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zijn zowel actief als passief (carnavalsoptocht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passieve deelnemers zij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gemakkelijkst te organiser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actieve deelnemers zal j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oed moeten begeleiden juist omdat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nemers bezig zijn. Dit vraagt vaak ook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groter aantal servicegericht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edewerker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1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Vorm groepen van vier tot vijf person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rainstorm in deze groepen over een mogelijk eve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Zoek een mogelijke opdrachtgev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spreek met de opdrachtgever de mogelijkheden en de wens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paal de doelstelling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Op papier uitgewerkt plan waarin de opdrachtgever, de doelstellingen en het evenement beschreven word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organiseren van een evenement kos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aak geld. De opdrachtgever die vaak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heel of gedeeltelijke verplichtingen op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ch neemt zal voordat hij geld beschikbaar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elt eerst een realistische begroting will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type evenement (en dus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oelstellingen) is bepalend of al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geïnvesteerde geld terugverdiend mo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ord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aast de opdrachtgever kan je ook denk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an intreegelden, sponsoring, subsidies enz al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komstenbron voor het evenement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en evenement is een bijeenkomst v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veel” mensen met een gezamenlijk doel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evenement kan georganiseerd worden voor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merciële reden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 activitei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opstellen van de begroting e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waken van het budget zijn belangrijk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aken van een organisator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ou bij het opstellen van de begroting du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kening met een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post onvoorzien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uitgav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roleer met meerdere mensen de financiël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and van zaken. Twee zien meer dan één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2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el voor het evenement een begroting op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denk mogelijkheden om aan extra financiële middelen te kom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spreek de begroting met de opdrachtgever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begroting in Excel gemaakt met 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derbouwing van de verschillende post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ls er meer dan 1 doelstelling is zal m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oeten gaan splitsen in hoofddoelstelling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n nevendoelstelling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maken dat je ergens naar to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kan werken bij het evenement maar ook da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evaluatie gericht i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kunnen verschillend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formuleerd zij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Minimaal 500 bezoekers per dag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op een tentoonstellin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Zoveel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mogelijk inschrijving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gezellig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da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specifiek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meetba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acceptab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realistisc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tijdsgebond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 opdrachtgever zal in de eerste plaats a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eten geven wat het doel va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enement is; en wanneer hij dus tevreden i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700280"/>
            <a:ext cx="74167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pecifi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gaan we precies do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voor een concrete en ondubbelzijdige omschrijving van de activiteit. Dit gaat meestal om een zelfstandig naamwoord en een werkwoord. Bv wij gaan de vuilin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eetba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tbaarheid kan ervoor zorgen dat er een resultaat zichtbaar wordt en maakt het geheel wat overzichtelijker. Bv wij gaan de vier vuilni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ptabel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r draagvlak voor? Draagvlak is belangrijk , want zonde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agvlak kun je wel iets doen maar, beklijft het niet. In on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orbeeld is er een duidelijk draagvlak, want volle vuilnisbakken,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ar heeft niemand iets aan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istisch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 het wat we willen? Het plannen van activiteiten moet gebaseerd zij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 de realiteit. In het voorbeeld gaan we uit van vier overvolle en du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re vuilnisbakken. We moeten dus hulptroepen organiseren: dus al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 collega’s even helpen duw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38000"/>
            <a:ext cx="742788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Tijdsgebond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euwige doelen zijn geduldig maar helpen niet veel bij het oplosse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an problemen. Zeker niet voor vuilnisbakken dus voor 9 uu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genochtend (omdat dan de vuilnisman komt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oms zijn er doelstellingen die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stelling zijn en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evendoelstelling. We noemen ze da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 zijn nodig om he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 te bereik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0:51:26Z</dcterms:created>
  <dc:creator>Systeembeheer</dc:creator>
  <dc:description/>
  <dc:language>en-US</dc:language>
  <cp:lastModifiedBy>Enschede</cp:lastModifiedBy>
  <dcterms:modified xsi:type="dcterms:W3CDTF">2008-11-07T14:28:27Z</dcterms:modified>
  <cp:revision>144</cp:revision>
  <dc:subject/>
  <dc:title>Dia 1</dc:title>
</cp:coreProperties>
</file>