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51E8-DD7F-40C5-82E6-D830B87E60A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edir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e dia – nog niets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152-7D91-42A6-A710-18DB87B8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EDF-CDE5-4909-8CE1-98B1BACD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063-74F2-4646-83FD-6069897A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D0F-069E-4A93-820A-8A7FBD25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52B-2D11-48EB-9341-D8C1D48D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A08-02ED-430E-B7E5-412D904F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828-A557-429F-A85A-F22D1CE3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A6A-ED9D-4811-A486-21253AF3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E1C-593E-4D95-8C0B-2FB7E183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543-76FB-44AF-AF82-7EE823A9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52E-FDCE-47EC-8DB8-A389188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6E7-6EA6-4221-9F6D-86BEF45D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5278-F2D8-4605-BF79-B7E4D3CD3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933120" cy="793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4000" y="1125360"/>
            <a:ext cx="8208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4x4site.nl/images/evenementen.jpg&amp;imgrefurl=http://www.4x4site.nl/evenementen.php&amp;h=417&amp;w=640&amp;sz=69&amp;hl=nl&amp;start=17&amp;usg=__-Mz_G_efgqxaJOb4cFdkiH1-rkY=&amp;tbnid=6s0hj06LIHSkvM:&amp;tbnh=89&amp;tbnw=137&amp;prev=/images%3Fq%3Devenementen%26gbv%3D2%26hl%3Dnl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nl/imgres?imgurl=http://www.andalusier-vereniging.nl/argeweb/downloads/evenementen%2520florian.jpg&amp;imgrefurl=http://www.andalusier-vereniging.nl/index.php%3Fpaginaid%3D7&amp;h=600&amp;w=903&amp;sz=129&amp;hl=nl&amp;start=24&amp;usg=__Ztkrk-_WV8kWMZlY0JeyUIXk9pY=&amp;tbnid=Sqc9WKEPZACz8M:&amp;tbnh=98&amp;tbnw=147&amp;prev=/images%3Fq%3Devenementen%26start%3D20%26gbv%3D2%26ndsp%3D20%26hl%3Dnl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nl/imgres?imgurl=http://www.deplukschuur.nl/res/default/parson_plukdag.jpg&amp;imgrefurl=http://www.deplukschuur.nl/Specialisatie.htm&amp;h=300&amp;w=400&amp;sz=69&amp;hl=nl&amp;start=19&amp;usg=__ch6_Y8a8yxLRLUMfh8k7IEi1gkc=&amp;tbnid=5utegqEfKHkwDM:&amp;tbnh=93&amp;tbnw=124&amp;prev=/images%3Fq%3Devenementen%2Bdieren%26gbv%3D2%26hl%3Dn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nl/imgres?imgurl=http://www.cuijk.com/GRAPHICS/evenementen.jpg&amp;imgrefurl=http://www.cuijk.com/home-1.html&amp;h=591&amp;w=768&amp;sz=57&amp;hl=nl&amp;start=1&amp;usg=__EpI6lfbtgWdOVAo7zTvWoCAr_gQ=&amp;tbnid=K3ruQJAkEhVGCM:&amp;tbnh=109&amp;tbnw=142&amp;prev=/images%3Fq%3Devenementen%26gbv%3D2%26hl%3Dnl%26sa%3D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66"/>
                </a:solidFill>
                <a:latin typeface="Verdana"/>
              </a:rPr>
              <a:t>Animal event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2603520" cy="16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773360"/>
            <a:ext cx="26514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1497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276640"/>
            <a:ext cx="2447640" cy="187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3133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die niet direct het hoofddoel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ienen, maar wel direct een deeldoelstell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emen we subdoelstelling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48428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2852640"/>
            <a:ext cx="180000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n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421000"/>
            <a:ext cx="1728720" cy="10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292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005360"/>
            <a:ext cx="2016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609300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860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19640" y="2421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2133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92360" y="33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292392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16360" y="537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24360" y="4941720"/>
            <a:ext cx="43200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11640" y="285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236000" y="38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oma van Sofia moet een geweldige dag hebben want Sofia is gek op haar oma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Er moet een goede band komen want iedereen behalve Sofia dan is houdt van dans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zaal moet er picobello uitzien. (sub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bruidstaart moet van bakker Joop zijn, want dat is de toekomstige buurman van Dirk-Jan en Sofia. (neven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ominee Jansen moet de kerkdienst leiden want onder zijn bezielende leiding van de jongerenclub hebben ze elkaar leren kenn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Op het gemeentehuis zullen de kinderen uit groep 5 met een ereboog klaar staan. Het moet ook een beetje feest voor de kinderen zijn.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00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doelstel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De keuze van een evenement is niet all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afhankelijk van de doelstelling (wensen van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pdrachtgever) maar bijvoorbeeld ook va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inanciële middel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Jaargetijd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mstandigheden (bv personele bezett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et bij de keuze van een evenement op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oelstelling (promotie kinderboerderij met uitje naar slachthui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aktische uitvoerbaarheid (ruimte, omgeving en financieel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ssend in jaargetij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erzadig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itvoerbaarheid (kan de organisatie het aan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kunnen verdeeld word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arbij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actief zijn (prestatieloop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passief zijn (bezoekers tentoonstelling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zijn zowel actief als passief (carnavalsoptocht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passieve deelnemers zij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gemakkelijkst te organiser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actieve deelnemers zal j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oed moeten begeleiden juist omdat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nemers bezig zijn. Dit vraagt vaak ook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groter aantal servicegerich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edewerker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1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orm groepen van vier tot vijf person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rainstorm in deze groepen over een mogelijk eve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Zoek een mogelijke opdrachtgev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spreek met de opdrachtgever de mogelijkheden en de wens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paal de doelstelling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p papier uitgewerkt plan waarin de opdrachtgever, de doelstellingen en het evenement beschreven word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organiseren van een evenement kos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ak geld. De opdrachtgever die vaak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heel of gedeeltelijke verplichtingen op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ch neemt zal voordat hij geld beschikbaar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lt eerst een realistische begroting will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type evenement (en dus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elstellingen) is bepalend of al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eïnvesteerde geld terugverdiend mo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ast de opdrachtgever kan je ook denk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an intreegelden, sponsoring, subsidies enz al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komstenbron voor het evenement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en evenement is een bijeenkomst v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eel” mensen met een gezamenlijk doel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evenement kan georganiseerd worden voor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erciële reden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 activite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opstellen van de begroting e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waken van het budget zijn belangrijk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ken van een organisator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u bij het opstellen van de begroting du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kening met ee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post onvoorzien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uitgav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oleer met meerdere mensen de financiël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and van zaken. Twee zien meer dan éé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2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l voor het evenement een begroting op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denk mogelijkheden om aan extra financiële middelen te kom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spreek de begroting met de opdrachtgever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begroting in Excel gemaakt met 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derbouwing van de verschillende post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s er meer dan 1 doelstelling is zal m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eten gaan splitsen in hoofddoelstelling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n nevendoelstelling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maken dat je ergens naar to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kan werken bij het evenement maar ook da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evaluatie gericht i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kunnen verschillend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formuleerd zij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Minimaal 500 bezoekers per dag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op een tentoonstell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Zovee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mogelijk inschrijving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gezellig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da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pecifiek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meetba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accept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realistis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tijdsgebond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opdrachtgever zal in de eerste plaats a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eten geven wat het doel va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ement is; en wanneer hij dus tevreden i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700280"/>
            <a:ext cx="7416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ecif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aan we precies do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voor een concrete en ondubbelzijdige omschrijving van de activiteit. Dit gaat meestal om een zelfstandig naamwoord en een werkwoord. Bv wij gaan de vuilin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et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tbaarheid kan ervoor zorgen dat er een resultaat zichtbaar wordt en maakt het geheel wat overzichtelijker. Bv wij gaan de vier vuilni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bel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r draagvlak voor? Draagvlak is belangrijk , want zond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agvlak kun je wel iets doen maar, beklijft het niet. In on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eld is er een duidelijk draagvlak, want volle vuilnisbakken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r heeft niemand iets aa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stisch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het wat we willen? Het plannen van activiteiten moet gebaseerd zij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de realiteit. In het voorbeeld gaan we uit van vier overvolle en du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re vuilnisbakken. We moeten dus hulptroepen organiseren: dus al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 collega’s even helpen duw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74278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ijdsgebond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euwige doelen zijn geduldig maar helpen niet veel bij het oplosse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n problemen. Zeker niet voor vuilnisbakken dus voor 9 uu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genochtend (omdat dan de vuilnisman kom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oms zijn er doelstellingen die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stelling zijn en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evendoelstelling. We noemen ze da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 zijn nodig om h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 te bereik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0:51:26Z</dcterms:created>
  <dc:creator>Systeembeheer</dc:creator>
  <dc:description/>
  <dc:language>en-US</dc:language>
  <cp:lastModifiedBy>Enschede</cp:lastModifiedBy>
  <dcterms:modified xsi:type="dcterms:W3CDTF">2008-11-07T14:28:27Z</dcterms:modified>
  <cp:revision>144</cp:revision>
  <dc:subject/>
  <dc:title>Dia 1</dc:title>
</cp:coreProperties>
</file>