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CB57-486D-45CD-9DEF-AEA0BE1F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BE1-F0AE-42F0-A733-1E111C51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AAE-D289-46A1-8CEF-0C5AEE50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075D-915F-4FDC-8BD0-CF4BCC2B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5EB2-6A5B-4BCA-9972-6A3AFC25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B6AE-7793-4CC8-94B6-9418FB4C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681-EF9A-49C9-B667-F73CD8C4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713B-CD7C-47F6-A95C-610D5FF3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B86-BCE7-4CB5-91CD-07189B83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009D-E0BB-41D1-A1E9-C8C405FF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C6C-C53D-4E0C-A2E0-DFB9F6ED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F8F6-3655-4375-B7E2-64A31B94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D3DA-B9DE-4A6C-B1AB-73A733614E8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ecialisatie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huisd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cent: A.Bert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elzijn van dieren en huisvesting</a:t>
            </a:r>
            <a:br>
              <a:rPr sz="4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unt 2. ver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erenwelzijn krijgt toenemende aandacht vanuit de maatschappij e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tgeving. Een goed dierenwelzijn biedt ook veehouders voordelen: 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agt bij aan een goede productie en aan minder zieke dieren. 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rijk deel van de leefomgeving van melkkoeien wordt bepaald door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l. Bij de bouw en inrichting van stallen is aandacht voor dierenwel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arom zeer belangrij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 de politiek heeft steeds meer invloed op deze ontwikkelingen. (pvd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al leveranciers van diverse bedrijfsartikelen doen onderzoek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kelen Universiteit Wageningen of louisbolk instituut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Afbeelding 3" descr=""/>
          <p:cNvPicPr/>
          <p:nvPr/>
        </p:nvPicPr>
        <p:blipFill>
          <a:blip r:embed="rId1"/>
          <a:stretch/>
        </p:blipFill>
        <p:spPr>
          <a:xfrm>
            <a:off x="3948120" y="2438280"/>
            <a:ext cx="2376360" cy="1362240"/>
          </a:xfrm>
          <a:prstGeom prst="rect">
            <a:avLst/>
          </a:prstGeom>
          <a:ln w="0">
            <a:noFill/>
          </a:ln>
        </p:spPr>
      </p:pic>
      <p:pic>
        <p:nvPicPr>
          <p:cNvPr id="48" name="Afbeelding 4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2667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eel voorkomende gezondheidsproble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timale temper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ijk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ust kijken doe je op twee manie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richt kij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gaat op zoek naar dingen om te zien. Hierb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ijk je of zaken goed gaan én je controle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tuaties die een risico in zich dra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nbevangen kij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vergeet alle excuses en verklaringen,en kij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 alsof je op bezoek bent op een volsl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bekend bedrij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4038480" y="16002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1. Wat zie i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Een kalfje zuigt aan een ander kalf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. Hoe komt d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Het kalfje heeft een zuigbehoeft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bevredigt deze. Meestal heeft zij hierv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één vast maat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3. Wat betekent d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e tepels van het bezogen kalf ku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gekneusd raken en hierdoor vatbaar worden voor infecties en vergroeii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Beste oplos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Zet het zuigende kalf apart, want het blij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tijd zui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2:35:17Z</dcterms:created>
  <dc:creator>bertrama</dc:creator>
  <dc:description/>
  <dc:language>en-US</dc:language>
  <cp:lastModifiedBy>annie</cp:lastModifiedBy>
  <dcterms:modified xsi:type="dcterms:W3CDTF">2009-10-05T18:57:14Z</dcterms:modified>
  <cp:revision>5</cp:revision>
  <dc:subject/>
  <dc:title>Specialisatie  grote huisdieren</dc:title>
</cp:coreProperties>
</file>