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865-6300-47F1-BBB5-DE1D4103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078-DE6F-49D2-9C74-81185457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3D2-BCE2-4513-84C1-0E45A414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3D9-3F66-40FC-B53F-4D06526B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DEE-D49D-4217-BBC2-A2B8A8EC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3E7-1A34-49F3-BEC9-89300ACA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FA2-B904-43C8-9DD2-F7E13783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7AE-69E1-4337-8019-B73B1A60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B5C-12A6-4CA7-9AB5-5FF44C6E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5CD-3272-44A7-9ED4-6D13D314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FDE-B084-4C51-8258-5FCC1EAB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2D6-3720-4792-99FA-5E9A429E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905C-4EC1-4FB2-B967-5079D47906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ecialisati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huisd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cent: A.Bert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elzijn van dieren en huisvesting</a:t>
            </a:r>
            <a:br>
              <a:rPr sz="4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unt 2. ver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erenwelzijn krijgt toenemende aandacht vanuit de maatschappij e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tgeving. Een goed dierenwelzijn biedt ook veehouders voordelen: 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agt bij aan een goede productie en aan minder zieke dieren. 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 deel van de leefomgeving van melkkoeien wordt bepaald door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. Bij de bouw en inrichting van stallen is aandacht voor dierenwel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om zeer belangrij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 de politiek heeft steeds meer invloed op deze ontwikkelingen. (pvd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l leveranciers van diverse bedrijfsartikelen doen onderzoe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kelen Universiteit Wageningen of louisbolk instituut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fbeelding 3" descr=""/>
          <p:cNvPicPr/>
          <p:nvPr/>
        </p:nvPicPr>
        <p:blipFill>
          <a:blip r:embed="rId1"/>
          <a:stretch/>
        </p:blipFill>
        <p:spPr>
          <a:xfrm>
            <a:off x="3948120" y="2438280"/>
            <a:ext cx="2376360" cy="1362240"/>
          </a:xfrm>
          <a:prstGeom prst="rect">
            <a:avLst/>
          </a:prstGeom>
          <a:ln w="0">
            <a:noFill/>
          </a:ln>
        </p:spPr>
      </p:pic>
      <p:pic>
        <p:nvPicPr>
          <p:cNvPr id="48" name="Afbeelding 4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2667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el voorkomende gezondheidsproble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timale temper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ust kijken doe je op twee manie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richt k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op zoek naar dingen om te zien. Hierb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ijk je of zaken goed gaan én je controle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tuaties die een risico in zich dra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nbevangen k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vergeet alle excuses en verklaringen,en kij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 alsof je op bezoek bent op een volsl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bekend bedrij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4038480" y="16002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1. Wat zie i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Een kalfje zuigt aan een ander kalf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. Hoe komt 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Het kalfje heeft een zuigbehoeft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bevredigt deze. Meestal heeft zij hierv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één vast maat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3. Wat betekent 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e tepels van het bezogen kalf ku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gekneusd raken en hierdoor vatbaar worden voor infecties en vergroeii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Beste oplo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Zet het zuigende kalf apart, want het blij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tijd zu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2:35:17Z</dcterms:created>
  <dc:creator>bertrama</dc:creator>
  <dc:description/>
  <dc:language>en-US</dc:language>
  <cp:lastModifiedBy>annie</cp:lastModifiedBy>
  <dcterms:modified xsi:type="dcterms:W3CDTF">2009-10-05T18:57:14Z</dcterms:modified>
  <cp:revision>5</cp:revision>
  <dc:subject/>
  <dc:title>Specialisatie  grote huisdieren</dc:title>
</cp:coreProperties>
</file>