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480-41E9-4B0B-90A6-4B64EFE1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D28-FFCC-4392-A2B8-5B03E5EE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D98-1EFB-4893-9120-EB8FDE71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41B-DDB0-4F38-BB6C-616C1D4D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446-8B6A-4227-B786-5D5BCDDB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242-3274-4054-AE58-E45977FC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E3A-DAE6-465D-AC60-21B447F5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7AB-E846-46D9-9B19-939AF1A1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657-9121-48C2-9DEE-9BD099D3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6BD-7B10-40C5-B8D2-EAB8B6DF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E12-CC6A-4050-944E-27C5DB17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777-369D-4B1F-A888-01409389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1AD6-9E99-4276-8F75-124C734789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ecialisati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huisd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cent: A.Bert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lzijn van dieren en huisvesting</a:t>
            </a:r>
            <a:br>
              <a:rPr sz="4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unt 2. ver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erenwelzijn krijgt toenemende aandacht vanuit de maatschappij e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tgeving. Een goed dierenwelzijn biedt ook veehouders voordelen: 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agt bij aan een goede productie en aan minder zieke dieren.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 deel van de leefomgeving van melkkoeien wordt bepaald door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. Bij de bouw en inrichting van stallen is aandacht voor dierenwel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om zeer belangrij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 de politiek heeft steeds meer invloed op deze ontwikkelingen. (pvd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l leveranciers van diverse bedrijfsartikelen doen onderzoe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kelen Universiteit Wageningen of louisbolk instituu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fbeelding 3" descr=""/>
          <p:cNvPicPr/>
          <p:nvPr/>
        </p:nvPicPr>
        <p:blipFill>
          <a:blip r:embed="rId1"/>
          <a:stretch/>
        </p:blipFill>
        <p:spPr>
          <a:xfrm>
            <a:off x="3948120" y="2438280"/>
            <a:ext cx="2376360" cy="1362240"/>
          </a:xfrm>
          <a:prstGeom prst="rect">
            <a:avLst/>
          </a:prstGeom>
          <a:ln w="0">
            <a:noFill/>
          </a:ln>
        </p:spPr>
      </p:pic>
      <p:pic>
        <p:nvPicPr>
          <p:cNvPr id="48" name="Afbeelding 4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2667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el voorkomende gezondheidsproble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timale temper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ust kijken doe je op twee manie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richt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op zoek naar dingen om te zien. Hierb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ijk je of zaken goed gaan én je controle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tuaties die een risico in zich dra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nbevangen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vergeet alle excuses en verklaringen,en kij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 alsof je op bezoek bent op een vols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bekend bedrij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4038480" y="16002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1. Wat zie i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Een kalfje zuigt aan een ander kalf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. Hoe kom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Het kalfje heeft een zuigbehoeft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vredigt deze. Meestal heeft zij hierv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één vast maat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3. Wat beteken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e tepels van het bezogen kalf ku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ekneusd raken en hierdoor vatbaar worden voor infecties en vergroei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ste oplo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Zet het zuigende kalf apart, want het blij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tijd zu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35:17Z</dcterms:created>
  <dc:creator>bertrama</dc:creator>
  <dc:description/>
  <dc:language>en-US</dc:language>
  <cp:lastModifiedBy>annie</cp:lastModifiedBy>
  <dcterms:modified xsi:type="dcterms:W3CDTF">2009-10-05T18:57:14Z</dcterms:modified>
  <cp:revision>5</cp:revision>
  <dc:subject/>
  <dc:title>Specialisatie  grote huisdieren</dc:title>
</cp:coreProperties>
</file>