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CDF-9FDA-4B50-8612-DD5E72D19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AD0A-519B-46E9-B23C-25586539B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622C-BFB7-41C1-95E3-990B42315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55BD-9705-4619-A482-D0F63BF7E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607-9562-4BAA-A86B-131E8457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B2AE-B374-47D2-9DF8-E41994BD6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82F1-0917-4382-A7A7-4562B6BD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B499-A661-4CBC-9D5D-493126DC6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406F-0F9E-48C3-8EF7-E80C9C67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8D94-21DE-47E5-A074-40F75135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07D9-E575-4732-9E65-F1E226B6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4FF-F19B-4C95-A447-5D364DAB7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BDAB4-0E2B-4330-B123-731407260139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ecialisatie 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te huisd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cent: A.Bert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Welzijn van dieren en huisvesting</a:t>
            </a:r>
            <a:br>
              <a:rPr sz="4000"/>
            </a:b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unt 2. versl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erenwelzijn krijgt toenemende aandacht vanuit de maatschappij en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tgeving. Een goed dierenwelzijn biedt ook veehouders voordelen: h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agt bij aan een goede productie en aan minder zieke dieren. 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elangrijk deel van de leefomgeving van melkkoeien wordt bepaald door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l. Bij de bouw en inrichting van stallen is aandacht voor dierenwelzij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aarom zeer belangrij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ok  de politiek heeft steeds meer invloed op deze ontwikkelingen. (pvd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ooral leveranciers van diverse bedrijfsartikelen doen onderzoek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akelen Universiteit Wageningen of louisbolk instituut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dr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Afbeelding 3" descr=""/>
          <p:cNvPicPr/>
          <p:nvPr/>
        </p:nvPicPr>
        <p:blipFill>
          <a:blip r:embed="rId1"/>
          <a:stretch/>
        </p:blipFill>
        <p:spPr>
          <a:xfrm>
            <a:off x="3948120" y="2438280"/>
            <a:ext cx="2376360" cy="1362240"/>
          </a:xfrm>
          <a:prstGeom prst="rect">
            <a:avLst/>
          </a:prstGeom>
          <a:ln w="0">
            <a:noFill/>
          </a:ln>
        </p:spPr>
      </p:pic>
      <p:pic>
        <p:nvPicPr>
          <p:cNvPr id="48" name="Afbeelding 4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2667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Veel voorkomende gezondheidsproble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timale temper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ie inform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wust kijken doe je op twee manie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Gericht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gaat op zoek naar dingen om te zien. Hierbi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ijk je of zaken goed gaan én je controle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ituaties die een risico in zich dra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Onbevangen kij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vergeet alle excuses en verklaringen,en kij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ond alsof je op bezoek bent op een volsl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bekend bedrij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orbe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4038480" y="16002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1. Wat zie ik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Een kalfje zuigt aan een ander kalf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2. Hoe kom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Het kalfje heeft een zuigbehoefte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vredigt deze. Meestal heeft zij hiervo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één vast maat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3. Wat betekent d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De tepels van het bezogen kalf kun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gekneusd raken en hierdoor vatbaar worden voor infecties en vergroeiin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Beste oploss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Zet het zuigende kalf apart, want het blij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</a:rPr>
              <a:t>altijd zuig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2:35:17Z</dcterms:created>
  <dc:creator>bertrama</dc:creator>
  <dc:description/>
  <dc:language>en-US</dc:language>
  <cp:lastModifiedBy>annie</cp:lastModifiedBy>
  <dcterms:modified xsi:type="dcterms:W3CDTF">2009-10-05T18:57:14Z</dcterms:modified>
  <cp:revision>5</cp:revision>
  <dc:subject/>
  <dc:title>Specialisatie  grote huisdieren</dc:title>
</cp:coreProperties>
</file>