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11.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64325" cy="9925050"/>
</p:presentation>
</file>

<file path=ppt/commentAuthors.xml><?xml version="1.0" encoding="utf-8"?>
<p:cmAuthorLst xmlns:p="http://schemas.openxmlformats.org/presentationml/2006/main">
  <p:cmAuthor id="1" name="Hilgeman" initials="H" lastIdx="4" clrIdx="1"/>
  <p:cmAuthor id="0" name="mcbanning"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0-02-07T13:03:08.828000000" idx="1">
    <p:pos x="10" y="10"/>
    <p:text>introductiefilmpje shetlanders op de kinderboerderij</p:text>
  </p:cm>
</p:cmLst>
</file>

<file path=ppt/comments/comment11.xml><?xml version="1.0" encoding="utf-8"?>
<p:cmLst xmlns:p="http://schemas.openxmlformats.org/presentationml/2006/main">
  <p:cm authorId="1" dt="2009-11-18T21:25:39.672000000" idx="4">
    <p:pos x="10" y="10"/>
    <p:text>Opdracht uitdelen onderdelenkennis paard.
Oefenen van de onderdelen in volgende les ivm bussendagen.</p:text>
  </p:cm>
</p:cmLst>
</file>

<file path=ppt/comments/comment2.xml><?xml version="1.0" encoding="utf-8"?>
<p:cmLst xmlns:p="http://schemas.openxmlformats.org/presentationml/2006/main">
  <p:cm authorId="1" dt="2009-11-18T21:19:50.705000000" idx="1">
    <p:pos x="5489" y="1170"/>
    <p:text>Kuddegedrag navragen bij de lln. Hoe verhoud dit zich tot het natuurlijke gedrag van paarden. Presnetatie domesticatie paard komt in volgende workshop.</p:text>
  </p:cm>
</p:cmLst>
</file>

<file path=ppt/comments/comment5.xml><?xml version="1.0" encoding="utf-8"?>
<p:cmLst xmlns:p="http://schemas.openxmlformats.org/presentationml/2006/main">
  <p:cm authorId="1" dt="2009-11-18T21:22:30.325000000" idx="2">
    <p:pos x="10" y="10"/>
    <p:text>Zeker op de kinderboerderij waar er vaak door verschillende (kleine) mensen gevoerd wordt en er geen eenduidige regels zijn in de omgang.
Extra aandacht voor de veiligheid op een kibo.</p:text>
  </p:cm>
</p:cmLst>
</file>

<file path=ppt/comments/comment6.xml><?xml version="1.0" encoding="utf-8"?>
<p:cmLst xmlns:p="http://schemas.openxmlformats.org/presentationml/2006/main">
  <p:cm authorId="1" dt="2009-11-18T21:24:45.058000000" idx="3">
    <p:pos x="10" y="10"/>
    <p:text>Denk aan de publieke opinie. Voor een paard is corrigeren anders dan voor een hond. Een hond is bijvoorbeeld anatomisch niet gewoon door trappen te worden gecorrigeerd. Een paard corrigeerd wel door trappe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8492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9427680"/>
            <a:ext cx="28875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B4EA-37CC-48AB-BD62-0C6AF2EAD388}"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1040" y="744480"/>
            <a:ext cx="4962240" cy="3722760"/>
          </a:xfrm>
          <a:prstGeom prst="rect">
            <a:avLst/>
          </a:prstGeom>
          <a:ln w="0">
            <a:noFill/>
          </a:ln>
        </p:spPr>
      </p:sp>
      <p:sp>
        <p:nvSpPr>
          <p:cNvPr id="29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81EE-C35F-407B-B8DF-B71C262195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1040" y="744480"/>
            <a:ext cx="4962240" cy="3722760"/>
          </a:xfrm>
          <a:prstGeom prst="rect">
            <a:avLst/>
          </a:prstGeom>
          <a:ln w="0">
            <a:noFill/>
          </a:ln>
        </p:spPr>
      </p:sp>
      <p:sp>
        <p:nvSpPr>
          <p:cNvPr id="31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9"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DA63-7CD1-46F0-8E25-A537323421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51040" y="744480"/>
            <a:ext cx="4962240" cy="3722760"/>
          </a:xfrm>
          <a:prstGeom prst="rect">
            <a:avLst/>
          </a:prstGeom>
          <a:ln w="0">
            <a:noFill/>
          </a:ln>
        </p:spPr>
      </p:sp>
      <p:sp>
        <p:nvSpPr>
          <p:cNvPr id="32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B232-0B3D-4EB6-A31A-60117BA901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1040" y="744480"/>
            <a:ext cx="4962240" cy="3722760"/>
          </a:xfrm>
          <a:prstGeom prst="rect">
            <a:avLst/>
          </a:prstGeom>
          <a:ln w="0">
            <a:noFill/>
          </a:ln>
        </p:spPr>
      </p:sp>
      <p:sp>
        <p:nvSpPr>
          <p:cNvPr id="32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BFAE-132C-4D02-8233-B1A9E48904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1040" y="744480"/>
            <a:ext cx="4962240" cy="3722760"/>
          </a:xfrm>
          <a:prstGeom prst="rect">
            <a:avLst/>
          </a:prstGeom>
          <a:ln w="0">
            <a:noFill/>
          </a:ln>
        </p:spPr>
      </p:sp>
      <p:sp>
        <p:nvSpPr>
          <p:cNvPr id="29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3688-F00D-4026-9D48-8C376238D4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1040" y="744480"/>
            <a:ext cx="4962240" cy="3722760"/>
          </a:xfrm>
          <a:prstGeom prst="rect">
            <a:avLst/>
          </a:prstGeom>
          <a:ln w="0">
            <a:noFill/>
          </a:ln>
        </p:spPr>
      </p:sp>
      <p:sp>
        <p:nvSpPr>
          <p:cNvPr id="297"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8"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04CF-0A1D-49A8-854E-A7D5F47002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1040" y="744480"/>
            <a:ext cx="4962240" cy="3722760"/>
          </a:xfrm>
          <a:prstGeom prst="rect">
            <a:avLst/>
          </a:prstGeom>
          <a:ln w="0">
            <a:noFill/>
          </a:ln>
        </p:spPr>
      </p:sp>
      <p:sp>
        <p:nvSpPr>
          <p:cNvPr id="30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1"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5341-F025-4C28-A564-84895CFFD8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1040" y="744480"/>
            <a:ext cx="4962240" cy="3722760"/>
          </a:xfrm>
          <a:prstGeom prst="rect">
            <a:avLst/>
          </a:prstGeom>
          <a:ln w="0">
            <a:noFill/>
          </a:ln>
        </p:spPr>
      </p:sp>
      <p:sp>
        <p:nvSpPr>
          <p:cNvPr id="30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4"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F25B-980C-4177-814F-6AFDB5564D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1040" y="744480"/>
            <a:ext cx="4962240" cy="3722760"/>
          </a:xfrm>
          <a:prstGeom prst="rect">
            <a:avLst/>
          </a:prstGeom>
          <a:ln w="0">
            <a:noFill/>
          </a:ln>
        </p:spPr>
      </p:sp>
      <p:sp>
        <p:nvSpPr>
          <p:cNvPr id="30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7"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C359-BEFD-4426-A46D-6D40091175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1040" y="744480"/>
            <a:ext cx="4962240" cy="3722760"/>
          </a:xfrm>
          <a:prstGeom prst="rect">
            <a:avLst/>
          </a:prstGeom>
          <a:ln w="0">
            <a:noFill/>
          </a:ln>
        </p:spPr>
      </p:sp>
      <p:sp>
        <p:nvSpPr>
          <p:cNvPr id="30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0"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83AA-343C-4FC0-801D-D8D608715E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1040" y="744480"/>
            <a:ext cx="4962240" cy="3722760"/>
          </a:xfrm>
          <a:prstGeom prst="rect">
            <a:avLst/>
          </a:prstGeom>
          <a:ln w="0">
            <a:noFill/>
          </a:ln>
        </p:spPr>
      </p:sp>
      <p:sp>
        <p:nvSpPr>
          <p:cNvPr id="31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3"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8896-E4A6-420B-8E07-E8E6B1C3D7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1040" y="744480"/>
            <a:ext cx="4962240" cy="3722760"/>
          </a:xfrm>
          <a:prstGeom prst="rect">
            <a:avLst/>
          </a:prstGeom>
          <a:ln w="0">
            <a:noFill/>
          </a:ln>
        </p:spPr>
      </p:sp>
      <p:sp>
        <p:nvSpPr>
          <p:cNvPr id="31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6"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1E10-F24F-4C9D-9BEF-DF162D5895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3FF60-EDEF-46B5-BB24-EAAB51EAE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8EA68-CE68-497B-B0F9-A8B44DA59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E3568-AD2D-4066-B871-539FF533B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C600F-B900-4030-9E1D-78ADBA673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0DCF5-E933-4599-9818-2B324FE9E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B2D3E-41A1-4253-A23B-B6AC5F2A7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88E40-1C24-4CC2-BB74-156FB8039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55C4C-52A4-4B4C-98CC-C586D4BC9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272AC-6F36-4182-BC17-2150EEB7B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A1CD3-BAEE-4769-923A-06673485E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0C894-B233-459A-9583-3F1A34C9A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78AD2-0319-45A8-87D1-0AC81C957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FC3E2-1330-437E-BDFE-A24C0BED4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163CB-61F2-4142-970D-B356B731F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B8798-ACDE-43FF-A99B-52770D0C6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28C5D-1ED7-47C8-BB3A-EBDDAD4B6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06FCD-00D2-443E-8BD4-086B2A9EA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B30BA5-B4A3-450F-9E22-CB13027E2C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C3126-822B-48AF-A16F-74B57573B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1FCD82-4BB4-4DBA-85E1-EF2D9EAB7F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7672F-2F84-4421-9DD0-ABB8F7AAA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49EA24-08B1-4AEE-8B21-E9AA0A76D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49E13-1F60-4DF2-8AC1-ECDEFB37C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D83CDF-93F0-43CC-9BA5-D5FA270C8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7CD00-8851-4AB5-9BF9-D55AB5CFD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9EE0E-616B-4637-A2DA-85CF62362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5EF13-FE95-4FE8-8F01-9451A9F62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6B248-708E-4C7A-A191-4358C6D82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AD7A39-1597-446C-BFFB-3F0726C4F1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E6F633-3517-45D2-9D39-12ED90EDDE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ECDA76-9811-4AC6-8522-553C9F6C87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BD47B-FA09-4851-9737-29D8ABAC1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1CC52-693E-4780-BF63-43ADD14A52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960D-FDA1-4F25-AE6C-F04776E12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7A5FD0-8DD3-4D87-BB35-676CFA771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3F319-8D12-4C39-8663-E550B1C6B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B0FEB-BDD7-4A24-B4F6-1607D1F2B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03679-2398-43B1-9478-DEED8E663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B96BF-7F95-4947-B5DA-1FB684F25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35BC94-4753-4646-B586-4FBABF860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6A223-A2F7-45A7-ABD2-C96ACEC37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00FBEF-91BE-4DDD-8CDC-8F0F2173E0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D8022F-B4C1-4561-94C3-B5089E5505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082892-E611-4240-B275-33CFDC958A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21642-5C4B-459B-971D-6D185CE38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E307D0-6A79-4297-9F86-DCE73B7E9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8B7FBA-B96A-4DE8-9F75-E01760BD4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A7B214-4C5D-48CC-9A92-2F9126308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0DB247-4078-43AB-92F2-D5674E0A7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6751A-BFDE-44A9-808C-B9C3FA600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D92D4-8519-45E1-A514-70B07D552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5E4EE-7E99-40C6-9CFB-F9D35E7B5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0609E-1618-4646-A76C-39A8EF718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30C8C8-EC22-4960-A132-6D95C294D7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EA8034-075D-4264-8275-4567108DCB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BCE92-691F-416B-8A80-D8329B8C2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BAB03A-16D6-4309-9338-3797FC43A0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A008-3013-4474-AACF-82C2C7A74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AA7B-3CD9-4261-A041-2E9B6C9D0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8888-78EB-45C9-B6CC-D6DF515FC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865F-B2A7-422A-89B9-E777AD82CEC9}"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B3D4-C977-43C6-AEE2-8D7BF313F783}"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516C-7C25-4753-9F8A-B23211DD31BE}"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22C9-6DB2-4D53-80D9-C24B50935AE4}"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279E-A945-44D9-A1F4-B702514D5011}"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GZRFR44Z4g&amp;NR=1"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comments" Target="../comments/commen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el 1" descr="">
            <a:hlinkClick r:id="rId1"/>
          </p:cNvPr>
          <p:cNvPicPr/>
          <p:nvPr/>
        </p:nvPicPr>
        <p:blipFill>
          <a:blip r:embed="rId2"/>
          <a:stretch/>
        </p:blipFill>
        <p:spPr>
          <a:xfrm>
            <a:off x="530280" y="1365120"/>
            <a:ext cx="8308800" cy="1901880"/>
          </a:xfrm>
          <a:prstGeom prst="rect">
            <a:avLst/>
          </a:prstGeom>
          <a:ln w="0">
            <a:noFill/>
          </a:ln>
        </p:spPr>
      </p:pic>
      <p:sp>
        <p:nvSpPr>
          <p:cNvPr id="253" name="PlaceHolder 1"/>
          <p:cNvSpPr>
            <a:spLocks noGrp="1"/>
          </p:cNvSpPr>
          <p:nvPr>
            <p:ph type="subTitle"/>
          </p:nvPr>
        </p:nvSpPr>
        <p:spPr>
          <a:xfrm>
            <a:off x="533160" y="3228840"/>
            <a:ext cx="7854840" cy="220032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natomie en fysiologie het begi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Omgang met het paar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lgemene richtlijne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Rassenkennis.</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Domesticatie.</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Basis gezondhei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25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2DCE-4AA7-41DD-A957-755C6984961A}" type="slidenum">
              <a:rPr b="0" lang="nl-NL" sz="1200" spc="-1" strike="noStrike">
                <a:solidFill>
                  <a:srgbClr val="d1eaee"/>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Fysiologie:</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Eénmagig</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een herkauwer</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Kan niet braken</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Nieren hebben een verschillende vo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rote blinde da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Geen galblaas</a:t>
            </a:r>
            <a:endParaRPr b="0" lang="en-US" sz="2600" spc="-1" strike="noStrike">
              <a:solidFill>
                <a:srgbClr val="000000"/>
              </a:solidFill>
              <a:latin typeface="Cambria"/>
            </a:endParaRPr>
          </a:p>
        </p:txBody>
      </p:sp>
      <p:pic>
        <p:nvPicPr>
          <p:cNvPr id="280" name="Picture 4" descr="organen"/>
          <p:cNvPicPr/>
          <p:nvPr/>
        </p:nvPicPr>
        <p:blipFill>
          <a:blip r:embed="rId1"/>
          <a:stretch/>
        </p:blipFill>
        <p:spPr>
          <a:xfrm>
            <a:off x="5003640" y="1052640"/>
            <a:ext cx="3857760" cy="2933640"/>
          </a:xfrm>
          <a:prstGeom prst="rect">
            <a:avLst/>
          </a:prstGeom>
          <a:ln w="0">
            <a:noFill/>
          </a:ln>
        </p:spPr>
      </p:pic>
      <p:sp>
        <p:nvSpPr>
          <p:cNvPr id="281"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02D4-D383-4B1A-B565-987DF2C65D04}"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Exterieu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Het paard is te verdelen in een </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oorhand (hoofd, nek, hals, schouders, voorbenen, borst en schof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Middenhand (rug, lendenen, ribben en buik)</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Achterhand (kruis, staart, heupen en achterben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Opdracht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Signalemen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De bouw van het paard</a:t>
            </a:r>
            <a:endParaRPr b="0" lang="en-US" sz="2600" spc="-1" strike="noStrike">
              <a:solidFill>
                <a:srgbClr val="000000"/>
              </a:solidFill>
              <a:latin typeface="Cambria"/>
            </a:endParaRPr>
          </a:p>
        </p:txBody>
      </p:sp>
      <p:sp>
        <p:nvSpPr>
          <p:cNvPr id="28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1F42-87C4-4CCB-8057-EBFCFBBCA324}"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04617b"/>
                </a:solidFill>
                <a:latin typeface="Calibri"/>
              </a:rPr>
              <a:t>Het paard exterieur</a:t>
            </a:r>
            <a:br>
              <a:rPr sz="4600"/>
            </a:br>
            <a:endParaRPr b="0" lang="en-US" sz="4600" spc="-1" strike="noStrike">
              <a:solidFill>
                <a:srgbClr val="04617b"/>
              </a:solidFill>
              <a:latin typeface="Calibri"/>
            </a:endParaRPr>
          </a:p>
        </p:txBody>
      </p:sp>
      <p:graphicFrame>
        <p:nvGraphicFramePr>
          <p:cNvPr id="286" name="Object 2"/>
          <p:cNvGraphicFramePr/>
          <p:nvPr/>
        </p:nvGraphicFramePr>
        <p:xfrm>
          <a:off x="357120" y="1928880"/>
          <a:ext cx="4143600" cy="4110120"/>
        </p:xfrm>
        <a:graphic>
          <a:graphicData uri="http://schemas.openxmlformats.org/presentationml/2006/ole">
            <p:oleObj progId="Word.Document.12" r:id="rId1" spid="">
              <p:embed/>
              <p:pic>
                <p:nvPicPr>
                  <p:cNvPr id="287" name="Object 2" descr=""/>
                  <p:cNvPicPr/>
                  <p:nvPr/>
                </p:nvPicPr>
                <p:blipFill>
                  <a:blip r:embed="rId2"/>
                  <a:stretch/>
                </p:blipFill>
                <p:spPr>
                  <a:xfrm>
                    <a:off x="357120" y="1928880"/>
                    <a:ext cx="4143600" cy="4110120"/>
                  </a:xfrm>
                  <a:prstGeom prst="rect">
                    <a:avLst/>
                  </a:prstGeom>
                  <a:ln w="0">
                    <a:noFill/>
                  </a:ln>
                </p:spPr>
              </p:pic>
            </p:oleObj>
          </a:graphicData>
        </a:graphic>
      </p:graphicFrame>
      <p:pic>
        <p:nvPicPr>
          <p:cNvPr id="288" name="Picture 4" descr="pswbouwvanhetpaard_360"/>
          <p:cNvPicPr/>
          <p:nvPr/>
        </p:nvPicPr>
        <p:blipFill>
          <a:blip r:embed="rId3"/>
          <a:stretch/>
        </p:blipFill>
        <p:spPr>
          <a:xfrm>
            <a:off x="4714920" y="2000160"/>
            <a:ext cx="4103640" cy="3533760"/>
          </a:xfrm>
          <a:prstGeom prst="rect">
            <a:avLst/>
          </a:prstGeom>
          <a:ln w="0">
            <a:noFill/>
          </a:ln>
        </p:spPr>
      </p:pic>
      <p:sp>
        <p:nvSpPr>
          <p:cNvPr id="289"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8078-78BF-4D26-988F-5E90605DA3DB}"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Omgang met paarden.</a:t>
            </a:r>
            <a:endParaRPr b="0" lang="en-US" sz="5000" spc="-1" strike="noStrike">
              <a:solidFill>
                <a:srgbClr val="04617b"/>
              </a:solidFill>
              <a:latin typeface="Calibri"/>
            </a:endParaRPr>
          </a:p>
        </p:txBody>
      </p:sp>
      <p:sp>
        <p:nvSpPr>
          <p:cNvPr id="256" name=""/>
          <p:cNvSpPr txBox="1"/>
          <p:nvPr/>
        </p:nvSpPr>
        <p:spPr>
          <a:xfrm>
            <a:off x="428400" y="1785960"/>
            <a:ext cx="4043160" cy="39895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Kuddedier.</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kuddedier; is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niet graag alleen en reageert op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ander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oortgenoten wo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corrigeerd door trappen of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t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chrikt </a:t>
            </a:r>
            <a:r>
              <a:rPr b="0" lang="en-US" sz="2000" spc="-1" strike="noStrike">
                <a:solidFill>
                  <a:srgbClr val="000000"/>
                </a:solidFill>
                <a:latin typeface="Cambria"/>
                <a:ea typeface="Arial"/>
              </a:rPr>
              <a:t>één paard da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doen de rest van d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me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Zijn ze bang dan zoeken z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steun bij andere paarden.</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57" name="Picture 5" descr="dracht"/>
          <p:cNvPicPr/>
          <p:nvPr/>
        </p:nvPicPr>
        <p:blipFill>
          <a:blip r:embed="rId1"/>
          <a:stretch/>
        </p:blipFill>
        <p:spPr>
          <a:xfrm>
            <a:off x="4643280" y="1844640"/>
            <a:ext cx="3999240" cy="4105440"/>
          </a:xfrm>
          <a:prstGeom prst="rect">
            <a:avLst/>
          </a:prstGeom>
          <a:ln w="0">
            <a:noFill/>
          </a:ln>
        </p:spPr>
      </p:pic>
      <p:sp>
        <p:nvSpPr>
          <p:cNvPr id="258"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C37D-147E-4368-AF2E-0F0510BCCB9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Vluchtdier</a:t>
            </a:r>
            <a:endParaRPr b="0" lang="en-US" sz="5000" spc="-1" strike="noStrike">
              <a:solidFill>
                <a:srgbClr val="04617b"/>
              </a:solidFill>
              <a:latin typeface="Calibri"/>
            </a:endParaRPr>
          </a:p>
        </p:txBody>
      </p:sp>
      <p:sp>
        <p:nvSpPr>
          <p:cNvPr id="260" name=""/>
          <p:cNvSpPr txBox="1"/>
          <p:nvPr/>
        </p:nvSpPr>
        <p:spPr>
          <a:xfrm>
            <a:off x="356760" y="1785960"/>
            <a:ext cx="4038840" cy="452592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Vluchtdier.</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prooidier en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en roofdier.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Vluchten is hierbij zijn redding. D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kudde biedt bescherming en hulp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het signaleren van aanvallers.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schrik is de natuurlijk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reactie vluchten. Zo heeft het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paard al duizenden jaren</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overleefd op puur instinct.</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61" name="Picture 4" descr="paard-en-veulen"/>
          <p:cNvPicPr/>
          <p:nvPr/>
        </p:nvPicPr>
        <p:blipFill>
          <a:blip r:embed="rId1"/>
          <a:stretch/>
        </p:blipFill>
        <p:spPr>
          <a:xfrm>
            <a:off x="4572000" y="1700280"/>
            <a:ext cx="4572000" cy="3628800"/>
          </a:xfrm>
          <a:prstGeom prst="rect">
            <a:avLst/>
          </a:prstGeom>
          <a:ln w="0">
            <a:noFill/>
          </a:ln>
        </p:spPr>
      </p:pic>
      <p:sp>
        <p:nvSpPr>
          <p:cNvPr id="262"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C3D0-AF76-4FFE-AE05-7A14944F2B91}"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71680" y="10000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mbria"/>
              </a:rPr>
              <a:t>Rangorde.</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Ieder paard kent een eigen plaats in de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kudde. Als ruiter/verzorger moet je hoger i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rangorde staan en blijven. Met geduld,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ertrouwen maar ook met daadkrachtige e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doortastende omgang is hier aan te werken.</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4"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A28F-0664-4D3B-B890-2D7892AB21B4}"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4000" y="1357200"/>
            <a:ext cx="8229600" cy="4880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Corrigeer een paard als deze jouw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leiderschap ter discussie stelt. Denk hierbij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voorbeeld aa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je omver duw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doorlopen als jij stopt</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zijn voet op jouw voet plaats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ten of trappen</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6"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1A2F-69C1-4BA0-9216-240D5A777548}"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85920"/>
            <a:ext cx="8229600" cy="50385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preek het paard luid en boos met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overtuigingskracht toe, geef hem een klap tegen de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chouder of de borst, laat hem achteruit stappen of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zet hem weg en negeer hem.</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Overmatig afreageren van emoties heeft geen zin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en laat zien dat je zelf twijfelt aan je leiderschap.</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1019-691C-4664-9336-3D35A59A17F1}"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fd7c7fb7"/>
          <p:cNvPicPr/>
          <p:nvPr/>
        </p:nvPicPr>
        <p:blipFill>
          <a:blip r:embed="rId1"/>
          <a:stretch/>
        </p:blipFill>
        <p:spPr>
          <a:xfrm>
            <a:off x="1476360" y="1125360"/>
            <a:ext cx="5256360" cy="3948120"/>
          </a:xfrm>
          <a:prstGeom prst="rect">
            <a:avLst/>
          </a:prstGeom>
          <a:ln w="0">
            <a:noFill/>
          </a:ln>
        </p:spPr>
      </p:pic>
      <p:sp>
        <p:nvSpPr>
          <p:cNvPr id="270"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A8E9-E134-4CC8-BAAF-6F532B0E5CC8}"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Communicatie</a:t>
            </a:r>
            <a:endParaRPr b="0" lang="en-US" sz="5000" spc="-1" strike="noStrike">
              <a:solidFill>
                <a:srgbClr val="04617b"/>
              </a:solidFill>
              <a:latin typeface="Calibri"/>
            </a:endParaRPr>
          </a:p>
        </p:txBody>
      </p:sp>
      <p:graphicFrame>
        <p:nvGraphicFramePr>
          <p:cNvPr id="272" name=""/>
          <p:cNvGraphicFramePr/>
          <p:nvPr/>
        </p:nvGraphicFramePr>
        <p:xfrm>
          <a:off x="324000" y="1268280"/>
          <a:ext cx="8424720" cy="5113440"/>
        </p:xfrm>
        <a:graphic>
          <a:graphicData uri="http://schemas.openxmlformats.org/drawingml/2006/table">
            <a:tbl>
              <a:tblPr/>
              <a:tblGrid>
                <a:gridCol w="1404720"/>
                <a:gridCol w="1406520"/>
                <a:gridCol w="1401840"/>
                <a:gridCol w="1403280"/>
                <a:gridCol w="1405080"/>
                <a:gridCol w="1403280"/>
              </a:tblGrid>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i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o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fd-h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eengedo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g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orma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icht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rol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gesperr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r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op,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 naar vor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r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geh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w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n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 been ontlas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n op vier benen, soms schra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heffen, achterhand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 achterhand soms draaie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of snuffe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l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o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op elkaar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stijf op elkaar en 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spann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1F96-9031-4905-BA62-0EB6497B349B}"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5" name="Text Box 4"/>
          <p:cNvSpPr/>
          <p:nvPr/>
        </p:nvSpPr>
        <p:spPr>
          <a:xfrm>
            <a:off x="611280" y="1844640"/>
            <a:ext cx="3200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Comic Sans MS"/>
              </a:rPr>
              <a:t>Anatomie</a:t>
            </a:r>
            <a:r>
              <a:rPr b="0" lang="nl-NL"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Onevenhoevig</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lanteneter</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Gebit; plooikieze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2 uierhelften</a:t>
            </a:r>
            <a:endParaRPr b="0" lang="en-US" sz="2400" spc="-1" strike="noStrike">
              <a:solidFill>
                <a:srgbClr val="000000"/>
              </a:solidFill>
              <a:latin typeface="Arial"/>
            </a:endParaRPr>
          </a:p>
        </p:txBody>
      </p:sp>
      <p:pic>
        <p:nvPicPr>
          <p:cNvPr id="276" name="Picture 5" descr="anatom1"/>
          <p:cNvPicPr/>
          <p:nvPr/>
        </p:nvPicPr>
        <p:blipFill>
          <a:blip r:embed="rId1"/>
          <a:stretch/>
        </p:blipFill>
        <p:spPr>
          <a:xfrm>
            <a:off x="4500720" y="2133720"/>
            <a:ext cx="3743280" cy="2555640"/>
          </a:xfrm>
          <a:prstGeom prst="rect">
            <a:avLst/>
          </a:prstGeom>
          <a:ln w="0">
            <a:noFill/>
          </a:ln>
        </p:spPr>
      </p:pic>
      <p:sp>
        <p:nvSpPr>
          <p:cNvPr id="277"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A045-EC73-49A5-899F-0AF6813B9E40}"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37:26Z</dcterms:created>
  <dc:creator>Hilgeman</dc:creator>
  <dc:description/>
  <dc:language>en-US</dc:language>
  <cp:lastModifiedBy>marianne charlotte banning</cp:lastModifiedBy>
  <dcterms:modified xsi:type="dcterms:W3CDTF">2010-02-21T22:06:26Z</dcterms:modified>
  <cp:revision>26</cp:revision>
  <dc:subject/>
  <dc:title>Basiscontainer paard.</dc:title>
</cp:coreProperties>
</file>