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17D9-E084-4E6D-A405-09D16516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C0E8-C62C-44CE-AC76-C84DAE97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A164-DB75-4909-A69E-B5F2253A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518E-AF8E-4CBA-9F12-F2328E6F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686-4A15-47BB-9D70-442776AE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2F1-C80A-4A97-953C-F651BA5F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75B6-A793-41B3-88F3-FA39EBF7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90A-903B-4E7A-B138-4037D4AE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E39-C51F-40F6-966C-D48B60BD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83A-B656-4486-BA8F-E61C1296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151-544C-49ED-A1AD-C84516C7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BE4F-3F66-4F01-AF8E-1435A708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DE83-2F0D-40BB-83C7-EFB3D58F9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d"/>
            </a:gs>
            <a:gs pos="100000">
              <a:srgbClr val="e4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mbria"/>
              </a:rPr>
              <a:t>Sk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Korte hand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stallatie Sk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80000" y="2708280"/>
            <a:ext cx="1266840" cy="1266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6040" y="5200560"/>
            <a:ext cx="608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OC Aventus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dien de installatie problemen geeft kunt u contact opn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et Raymond Vermeulen. E-mail: r.vermeulen@aventus.n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est webc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7080" y="5516640"/>
            <a:ext cx="1798560" cy="64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9640" y="2349360"/>
            <a:ext cx="719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sch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9640" y="2349360"/>
            <a:ext cx="719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er een “proefgespre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2133720"/>
            <a:ext cx="1655640" cy="35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9640" y="2349360"/>
            <a:ext cx="719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evoegen “ telefoonnumm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628640"/>
            <a:ext cx="79056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evoegen contactper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1700280"/>
            <a:ext cx="1944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3357720"/>
            <a:ext cx="432000" cy="934920"/>
          </a:xfrm>
          <a:prstGeom prst="upArrow">
            <a:avLst>
              <a:gd name="adj1" fmla="val 50000"/>
              <a:gd name="adj2" fmla="val 54104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5800" y="37893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32360" y="5589720"/>
            <a:ext cx="223200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ctpersoon moet accept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5445000"/>
            <a:ext cx="165744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a naar www.skype.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8560" y="258840"/>
            <a:ext cx="165564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ik op “Nu downloade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4292640"/>
            <a:ext cx="2305080" cy="79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chakel de beveiling 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545800">
            <a:off x="3995280" y="404280"/>
            <a:ext cx="433440" cy="1008360"/>
          </a:xfrm>
          <a:prstGeom prst="upArrow">
            <a:avLst>
              <a:gd name="adj1" fmla="val 50000"/>
              <a:gd name="adj2" fmla="val 5816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5734080"/>
            <a:ext cx="5040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t icoon verschijnt op het bureaub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3860640"/>
            <a:ext cx="86508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ik op “Contro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205000"/>
            <a:ext cx="1295640" cy="1655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ik op “Test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2708280"/>
            <a:ext cx="1582920" cy="79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637000"/>
            <a:ext cx="1727280" cy="86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2781360"/>
            <a:ext cx="13669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58920" y="2781360"/>
            <a:ext cx="1512720" cy="20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microf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2:38:22Z</dcterms:created>
  <dc:creator>VERR</dc:creator>
  <dc:description/>
  <dc:language>en-US</dc:language>
  <cp:lastModifiedBy>VERR</cp:lastModifiedBy>
  <dcterms:modified xsi:type="dcterms:W3CDTF">2009-12-11T13:35:01Z</dcterms:modified>
  <cp:revision>6</cp:revision>
  <dc:subject/>
  <dc:title>Dia 1</dc:title>
</cp:coreProperties>
</file>