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C21-ABAF-439B-BCAC-ABFF2648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AEC-8F11-4649-8BAE-B270769E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3130-98B7-4456-BDD1-1F9555CB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E387-03D7-4F20-97D6-115FE7A2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494-0067-4E38-869F-089D7311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229-5E8D-48AA-B8F5-D5099487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FC56-495E-45D0-A1C1-826755D9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ADA-B72A-4F26-BD6F-95C86362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481-F67B-4EE7-9E3E-BF9B8A5B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634E-A83D-4865-AF72-954112E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A11F-789F-410D-8C04-BE69B5D1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E03-F0CF-406C-A40D-65AC48DC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1534-7FCB-4828-9106-321CD3672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cfd"/>
            </a:gs>
            <a:gs pos="100000">
              <a:srgbClr val="e4f3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mbria"/>
              </a:rPr>
              <a:t>Sk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Korte hand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stallatie Sk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1266840" cy="126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16040" y="5200560"/>
            <a:ext cx="60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ROC Aventus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Indien de installatie problemen geeft kunt u contact op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met Raymond Vermeulen. E-mail: r.vermeulen@aventus.n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est web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7080" y="5516640"/>
            <a:ext cx="179856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sch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er een “proefgespre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2133720"/>
            <a:ext cx="1655640" cy="35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2349360"/>
            <a:ext cx="719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“ telefoonnumm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628640"/>
            <a:ext cx="79056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voegen contactper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7280" y="1700280"/>
            <a:ext cx="1944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357720"/>
            <a:ext cx="432000" cy="934920"/>
          </a:xfrm>
          <a:prstGeom prst="upArrow">
            <a:avLst>
              <a:gd name="adj1" fmla="val 50000"/>
              <a:gd name="adj2" fmla="val 5410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5800" y="3789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589720"/>
            <a:ext cx="223200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persoon moet accept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5445000"/>
            <a:ext cx="165744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a naar www.skype.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58840"/>
            <a:ext cx="165564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Nu download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4292640"/>
            <a:ext cx="230508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chakel de beveiling 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545800">
            <a:off x="3995280" y="404280"/>
            <a:ext cx="433440" cy="1008360"/>
          </a:xfrm>
          <a:prstGeom prst="upArrow">
            <a:avLst>
              <a:gd name="adj1" fmla="val 50000"/>
              <a:gd name="adj2" fmla="val 58160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573408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 icoon verschijnt op het bureaub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3860640"/>
            <a:ext cx="86508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Contro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205000"/>
            <a:ext cx="129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ik op “Test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2708280"/>
            <a:ext cx="1582920" cy="79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637000"/>
            <a:ext cx="1727280" cy="86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2781360"/>
            <a:ext cx="1366920" cy="72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781360"/>
            <a:ext cx="1512720" cy="201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5661000"/>
            <a:ext cx="410364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microf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2:38:22Z</dcterms:created>
  <dc:creator>VERR</dc:creator>
  <dc:description/>
  <dc:language>en-US</dc:language>
  <cp:lastModifiedBy>VERR</cp:lastModifiedBy>
  <dcterms:modified xsi:type="dcterms:W3CDTF">2009-12-11T13:35:01Z</dcterms:modified>
  <cp:revision>6</cp:revision>
  <dc:subject/>
  <dc:title>Dia 1</dc:title>
</cp:coreProperties>
</file>