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CEE-8F74-4576-8B99-A3488571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08A-EB58-4188-91D0-09FD5E90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37F-6588-4130-A3B4-C7486790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C01-B5EF-4F50-A00D-3F2E0054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217-00B5-486C-8BD9-1F77EE52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F6E-BD74-43A3-91C4-B67812AA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BE4-3E79-4058-8FF9-F07FC42D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6A1-3483-46E2-8064-3EA16556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158-38F8-4DD2-B4C2-F90CB5C6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0EC-E609-4609-813C-5E8EAEE8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A5F-0180-4150-8EF7-B27B956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AA5-EC2E-4A51-A9E2-94E94D40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F60F-688C-4240-B53C-1623CBE9B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d"/>
            </a:gs>
            <a:gs pos="100000">
              <a:srgbClr val="e4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mbria"/>
              </a:rPr>
              <a:t>Sk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Korte hand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stallatie Sk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1266840" cy="126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6040" y="5200560"/>
            <a:ext cx="60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OC Aventus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 de installatie problemen geeft kunt u contact op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t Raymond Vermeulen. E-mail: r.vermeulen@aventus.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st web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5516640"/>
            <a:ext cx="179856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sch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er een “proefgespre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2133720"/>
            <a:ext cx="1655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“ telefoonnumm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628640"/>
            <a:ext cx="7905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contactper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1944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357720"/>
            <a:ext cx="432000" cy="934920"/>
          </a:xfrm>
          <a:prstGeom prst="upArrow">
            <a:avLst>
              <a:gd name="adj1" fmla="val 50000"/>
              <a:gd name="adj2" fmla="val 5410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5800" y="3789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5589720"/>
            <a:ext cx="2232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persoon moet accept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5445000"/>
            <a:ext cx="165744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a naar www.skype.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58840"/>
            <a:ext cx="1655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Nu download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292640"/>
            <a:ext cx="230508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chakel de beveiling 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45800">
            <a:off x="3995280" y="404280"/>
            <a:ext cx="433440" cy="1008360"/>
          </a:xfrm>
          <a:prstGeom prst="upArrow">
            <a:avLst>
              <a:gd name="adj1" fmla="val 50000"/>
              <a:gd name="adj2" fmla="val 5816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573408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 icoon verschijnt op het bureaub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3860640"/>
            <a:ext cx="86508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Contro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205000"/>
            <a:ext cx="129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Test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708280"/>
            <a:ext cx="158292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637000"/>
            <a:ext cx="17272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2781360"/>
            <a:ext cx="1366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2781360"/>
            <a:ext cx="1512720" cy="20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microf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2:38:22Z</dcterms:created>
  <dc:creator>VERR</dc:creator>
  <dc:description/>
  <dc:language>en-US</dc:language>
  <cp:lastModifiedBy>VERR</cp:lastModifiedBy>
  <dcterms:modified xsi:type="dcterms:W3CDTF">2009-12-11T13:35:01Z</dcterms:modified>
  <cp:revision>6</cp:revision>
  <dc:subject/>
  <dc:title>Dia 1</dc:title>
</cp:coreProperties>
</file>