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DFA-500C-4C07-8D37-ADFC4E8E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079-DC8D-448A-87C6-2CE238A9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369-4AC7-458E-8A8D-95AE7DD9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CA4-E60A-4EBA-A26B-2078F09A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659-1ABF-417D-AFD0-85070EFF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BD5-4209-4CE9-A6DD-D89C8601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4D0-F024-4B98-9E22-58109F44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189-F12A-4DF4-9B34-7CA0D2C7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94B-8A74-44B2-B0C2-6019C7B3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B9F-405E-4373-8F79-C72D9FA2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964-2A02-4EED-9FB7-312BB8D9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627-2679-470F-B327-46CD2AB4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5229-145E-420B-B28D-D82A1BE34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d"/>
            </a:gs>
            <a:gs pos="100000">
              <a:srgbClr val="e4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mbria"/>
              </a:rPr>
              <a:t>Sk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Korte hand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stallatie Sk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80000" y="2708280"/>
            <a:ext cx="1266840" cy="1266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6040" y="5200560"/>
            <a:ext cx="60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OC Aventus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dien de installatie problemen geeft kunt u contact opn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t Raymond Vermeulen. E-mail: r.vermeulen@aventus.n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st web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5516640"/>
            <a:ext cx="1798560" cy="64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sch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er een “proefgespre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2133720"/>
            <a:ext cx="165564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evoegen “ telefoonnumm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628640"/>
            <a:ext cx="7905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evoegen contactper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1700280"/>
            <a:ext cx="1944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3357720"/>
            <a:ext cx="432000" cy="934920"/>
          </a:xfrm>
          <a:prstGeom prst="upArrow">
            <a:avLst>
              <a:gd name="adj1" fmla="val 50000"/>
              <a:gd name="adj2" fmla="val 54104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5800" y="3789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5589720"/>
            <a:ext cx="223200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persoon moet accept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5445000"/>
            <a:ext cx="165744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a naar www.skype.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8560" y="258840"/>
            <a:ext cx="1655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Nu download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4292640"/>
            <a:ext cx="2305080" cy="79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chakel de beveiling 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545800">
            <a:off x="3995280" y="404280"/>
            <a:ext cx="433440" cy="1008360"/>
          </a:xfrm>
          <a:prstGeom prst="upArrow">
            <a:avLst>
              <a:gd name="adj1" fmla="val 50000"/>
              <a:gd name="adj2" fmla="val 5816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573408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t icoon verschijnt op het bureaub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3860640"/>
            <a:ext cx="86508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Contro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205000"/>
            <a:ext cx="1295640" cy="165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Test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2708280"/>
            <a:ext cx="1582920" cy="79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637000"/>
            <a:ext cx="1727280" cy="86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2781360"/>
            <a:ext cx="13669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58920" y="2781360"/>
            <a:ext cx="1512720" cy="20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microf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2:38:22Z</dcterms:created>
  <dc:creator>VERR</dc:creator>
  <dc:description/>
  <dc:language>en-US</dc:language>
  <cp:lastModifiedBy>VERR</cp:lastModifiedBy>
  <dcterms:modified xsi:type="dcterms:W3CDTF">2009-12-11T13:35:01Z</dcterms:modified>
  <cp:revision>6</cp:revision>
  <dc:subject/>
  <dc:title>Dia 1</dc:title>
</cp:coreProperties>
</file>