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717-F5D9-4D16-9C05-61E2FEC2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20A-EBB1-4C9A-8F27-1AD02A33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551-2FC1-4B36-B742-48705F9C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842-33C2-4EA4-A723-4E0E4A5F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EDC-C222-4830-9F39-893277E2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043-1351-4F2B-A575-9C389BC3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AB5-494E-4904-B87C-FED050A3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FF6-651C-4B45-B8D7-1F0BA7D3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9A7-7DEC-42C0-9662-B06B965E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FC2-3E9C-43FB-B57A-11E22257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B80-95EB-4414-BC2C-D1C1C6B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506-4CB9-4876-A8E4-6405FEF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37B3-B494-42FB-A522-FE57CC077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d"/>
            </a:gs>
            <a:gs pos="100000">
              <a:srgbClr val="e4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mbria"/>
              </a:rPr>
              <a:t>Sk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Korte hand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stallatie Sk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1266840" cy="126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6040" y="5200560"/>
            <a:ext cx="60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OC Aventus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 de installatie problemen geeft kunt u contact op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t Raymond Vermeulen. E-mail: r.vermeulen@aventus.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st web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5516640"/>
            <a:ext cx="179856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sch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er een “proefgespre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2133720"/>
            <a:ext cx="1655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“ telefoonnumm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628640"/>
            <a:ext cx="7905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contactper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1944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357720"/>
            <a:ext cx="432000" cy="934920"/>
          </a:xfrm>
          <a:prstGeom prst="upArrow">
            <a:avLst>
              <a:gd name="adj1" fmla="val 50000"/>
              <a:gd name="adj2" fmla="val 5410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5800" y="3789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589720"/>
            <a:ext cx="2232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persoon moet accept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5445000"/>
            <a:ext cx="165744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a naar www.skype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58840"/>
            <a:ext cx="1655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Nu downloa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292640"/>
            <a:ext cx="230508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chakel de beveiling 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45800">
            <a:off x="3995280" y="404280"/>
            <a:ext cx="433440" cy="1008360"/>
          </a:xfrm>
          <a:prstGeom prst="upArrow">
            <a:avLst>
              <a:gd name="adj1" fmla="val 50000"/>
              <a:gd name="adj2" fmla="val 5816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73408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 icoon verschijnt op het bureaub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860640"/>
            <a:ext cx="8650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Contro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205000"/>
            <a:ext cx="129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Test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708280"/>
            <a:ext cx="158292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637000"/>
            <a:ext cx="17272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2781360"/>
            <a:ext cx="1366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781360"/>
            <a:ext cx="1512720" cy="20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microf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38:22Z</dcterms:created>
  <dc:creator>VERR</dc:creator>
  <dc:description/>
  <dc:language>en-US</dc:language>
  <cp:lastModifiedBy>VERR</cp:lastModifiedBy>
  <dcterms:modified xsi:type="dcterms:W3CDTF">2009-12-11T13:35:01Z</dcterms:modified>
  <cp:revision>6</cp:revision>
  <dc:subject/>
  <dc:title>Dia 1</dc:title>
</cp:coreProperties>
</file>