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F6C-4B2A-4ADF-8DA3-4134CC86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40D-274F-4EBA-AD36-3679BA9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D63-0368-430F-8AC9-36CA3036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492-6209-4FC9-A0D7-44359394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781-BA38-4617-96F3-BC3F0F4E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D3E-78AA-43C9-BA42-BDDEF84A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057-323B-439A-BCDE-94239432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600-14FB-40A0-8AA8-C6DDF3B9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6A7-BD8E-4C76-A26D-3DB5A5A2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F45-0C4B-4C4F-A729-7CF55BA1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78E-A318-4225-A2FE-B3E36F55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42D-8E20-4001-B49D-F58761C0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49CF-5F8B-4ECA-891E-A16320F7E6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nl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nl/advanced_search?hl=n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brary.wur.nl/gkn" TargetMode="External"/><Relationship Id="rId2" Type="http://schemas.openxmlformats.org/officeDocument/2006/relationships/hyperlink" Target="http://www.davindi.nl/" TargetMode="External"/><Relationship Id="rId3" Type="http://schemas.openxmlformats.org/officeDocument/2006/relationships/hyperlink" Target="http://www.ontwikkelcentrum.nl/ecc3/mbo/" TargetMode="External"/><Relationship Id="rId4" Type="http://schemas.openxmlformats.org/officeDocument/2006/relationships/hyperlink" Target="http://www.kb.nl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tpagina.nl/" TargetMode="External"/><Relationship Id="rId2" Type="http://schemas.openxmlformats.org/officeDocument/2006/relationships/hyperlink" Target="http://www.startnederland.nl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hyperlink" Target="http://www.zoekprof.nl/" TargetMode="External"/><Relationship Id="rId6" Type="http://schemas.openxmlformats.org/officeDocument/2006/relationships/hyperlink" Target="http://www.library.wur.nl/gkn/" TargetMode="External"/><Relationship Id="rId7" Type="http://schemas.openxmlformats.org/officeDocument/2006/relationships/hyperlink" Target="http://www.davindi.nl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OVxOOH7LG0&amp;feature=player_detailpag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Tips vinden met Goo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aanhalingste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: define:        :voor het vinden van defi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*  voor het vervangen van ieder willekeurig w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oleaans zoeken: and, or, not, near (of +, -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enkelvoud/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synoniemen (bv. diergedrag of etholog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geavanceerd zoeken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/advanced_search?hl=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beperken zoekactie door taal/land selec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op bestandsformaat (pdf,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binnen een site (dome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jk bij [meer] en [nog veel meer] om google b.v. te gebruiken als reken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mbineer verschillende mogelijkheden van google b.v. straatnaam met maps of onderwerp met afbeeldingen of you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4 Overige zoek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library.wur.nl/gk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en in tijdschriften, dossiers en naar websites geselecteerd door de W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davindi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machine van het onderw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C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ontwikkelcentrum.nl/ecc3/mbo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esmateriaal AOC’s beschikbaar via Live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Bibliotheekcatalogi z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atalogus mediatheek 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kb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(Koninklijke bibliotheek), http://zoeken.bibliotheek.nl/  (openbare biblioth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library.wur.nl/WebQuery/greeniportal (digitale bibliotheek voor het groene HB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 Kiezen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het webadres en de extensies. Wat kun je hieruit aflei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wordt de informatie aangebo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de site overzichtelijk inged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er een inhoudspa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er literatuurverwijzingen opgen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site waar een ~ in voorkomt is meestal een persoonlijke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oordeel of de gevonden informatie geschikt voor je is en antwoord geeft op je zoekvr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Kiezen (vervol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lofon (uitgever, redac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ntact inform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gegevens auteur/uitgever verme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ontbreken daarvan kijk op:  www.allwhois.com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whoisfinder.com voor het achterhalen hier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gelijk: www.martinlutherking.org en www.mlkday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5. 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s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6. 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el jezelf de volgende vra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een bevredigend antwoord gekre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is het zoekproces geg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kon anders/b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keus uit de genoemde opdrachten of kies zelf een onderwerp (gerelateerd aan de op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bij elk onderwerp 2 webpagina’s 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iet wikipedi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 boeken en 2   tijdschriftartikelen (stap 3: vi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meld duidelijk de 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arrangeren.wikiwijs.nl/27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ment met achtergrondinformatie bij deze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digin.nl/  Site om je informatievaardigheden te toe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zoeken-en-vinden.n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lp bij het zoeken op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116000" y="2649600"/>
            <a:ext cx="86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Informatievaardighede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finitie informatievaardig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aardigheden is het vermogen om met informatie te werken en heeft alles te maken met het zoeken, vinden, beoordelen en gebruiken van informa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 Big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e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tar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svraag formuleren: wat wil je w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deel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ikbare 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weet je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Zoe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paal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ook trefwoorden die iets met bovenstaande trefwoorden te maken hebben (maak een woords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synoniemen, Engelse benaming, enkel-, 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water"/>
          <p:cNvPicPr/>
          <p:nvPr/>
        </p:nvPicPr>
        <p:blipFill>
          <a:blip r:embed="rId1"/>
          <a:stretch/>
        </p:blipFill>
        <p:spPr>
          <a:xfrm>
            <a:off x="920880" y="2997360"/>
            <a:ext cx="375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 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1 Bronnen bepa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e 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oorden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cycloped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nten/tijd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2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Indexen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startpagina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startnederland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Zoekmachines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oogle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yahoo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zoekprof.nl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Specifieke zoekmachines b.v.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library.wur.nl/gk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davindi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3 Vinden m.b.v. Goo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youtube.com/watch?v=cOVxOOH7LG0&amp;feature=player_detail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 trefwoord of combinatie van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rk je lijst met trefwoorden helemaal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de 1e 10 hits vluchtig en voer zo nodig een nieuwe zoekactie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Sites van het meeste belang staan boven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Dineke Koch</cp:lastModifiedBy>
  <dcterms:modified xsi:type="dcterms:W3CDTF">2011-09-26T09:53:56Z</dcterms:modified>
  <cp:revision>25</cp:revision>
  <dc:subject/>
  <dc:title>PowerPoint-presentatie</dc:title>
</cp:coreProperties>
</file>