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D19-E969-43E7-8C92-69E515F7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A81-5237-48BF-9120-A2341141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57B2-9BD5-42DB-9DDE-AAAF05AC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45B-AD63-4E27-A014-CFB46711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C71-3B2C-4DE2-8F84-3E7A5D60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0CC-5DAD-45DD-AA7D-0DD6673D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770-C50B-45C9-80D1-06ED65AF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0D8-88DC-40B1-9DB8-9922A42E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773-1000-499A-B6A0-83FCD35B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C9C-ECD0-4D90-82FD-23B967BE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916-17A7-43FE-B88A-0CD779CB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8DA-0596-410C-BDC0-49832EC1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39CF-735E-4655-B9D7-473D545727D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nl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nl/advanced_search?hl=n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ibrary.wur.nl/gkn" TargetMode="External"/><Relationship Id="rId2" Type="http://schemas.openxmlformats.org/officeDocument/2006/relationships/hyperlink" Target="http://www.davindi.nl/" TargetMode="External"/><Relationship Id="rId3" Type="http://schemas.openxmlformats.org/officeDocument/2006/relationships/hyperlink" Target="http://www.ontwikkelcentrum.nl/ecc3/mbo/" TargetMode="External"/><Relationship Id="rId4" Type="http://schemas.openxmlformats.org/officeDocument/2006/relationships/hyperlink" Target="http://www.kb.nl/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tartpagina.nl/" TargetMode="External"/><Relationship Id="rId2" Type="http://schemas.openxmlformats.org/officeDocument/2006/relationships/hyperlink" Target="http://www.startnederland.nl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yahoo.com/" TargetMode="External"/><Relationship Id="rId5" Type="http://schemas.openxmlformats.org/officeDocument/2006/relationships/hyperlink" Target="http://www.zoekprof.nl/" TargetMode="External"/><Relationship Id="rId6" Type="http://schemas.openxmlformats.org/officeDocument/2006/relationships/hyperlink" Target="http://www.library.wur.nl/gkn/" TargetMode="External"/><Relationship Id="rId7" Type="http://schemas.openxmlformats.org/officeDocument/2006/relationships/hyperlink" Target="http://www.davindi.nl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OVxOOH7LG0&amp;feature=player_detailpage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Tips vinden met Goog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google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aanhalingste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 op: define:        :voor het vinden van defi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*  voor het vervangen van ieder willekeurig wo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oleaans zoeken: and, or, not, near (of +, -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enkelvoud/meerv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synoniemen (bv. diergedrag of etholog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geavanceerd zoeken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google.nl/advanced_search?hl=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beperken zoekactie door taal/land selec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oeken op bestandsformaat (pdf, 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oeken binnen een site (dome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jk bij [meer] en [nog veel meer] om google b.v. te gebruiken als reken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mbineer verschillende mogelijkheden van google b.v. straatnaam met maps of onderwerp met afbeeldingen of you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4 Overige zoek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Artik+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library.wur.nl/gk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zoeken in tijdschriften, dossiers en naar websites geselecteerd door de W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vindi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davindi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zoekmachine van het onderw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CC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ontwikkelcentrum.nl/ecc3/mbo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esmateriaal AOC’s beschikbaar via Live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Bibliotheekcatalogi zo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atalogus mediatheek A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kb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(Koninklijke bibliotheek), http://zoeken.bibliotheek.nl/  (openbare bibliothe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library.wur.nl/WebQuery/greeniportal (digitale bibliotheek voor het groene HB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4. Kiezen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kijk het webadres en de extensies. Wat kun je hieruit aflei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wordt de informatie aangebo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is de site overzichtelijk ingede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is er een inhoudspag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ijn er literatuurverwijzingen opgen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site waar een ~ in voorkomt is meestal een persoonlijke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oordeel of de gevonden informatie geschikt voor je is en antwoord geeft op je zoekvr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4.Kiezen (vervol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colofon (uitgever, redact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contact inform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ijn gegevens auteur/uitgever verme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ij ontbreken daarvan kijk op:  www.allwhois.com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ww.whoisfinder.com voor het achterhalen hier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gelijk: www.martinlutherking.org en www.mlkday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5. Prese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s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6. Evalu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el jezelf de volgende vra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een bevredigend antwoord gekre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is het zoekproces geg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kon anders/be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keus uit de genoemde opdrachten of kies zelf een onderwerp (gerelateerd aan de oplei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 bij elk onderwerp 2 webpagina’s (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iet wikipedia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2 boeken en 2   tijdschriftartikelen (stap 3: vi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meld duidelijk de 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arrangeren.wikiwijs.nl/274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ngement met achtergrondinformatie bij deze 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digin.nl/  Site om je informatievaardigheden te toe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ww.zoeken-en-vinden.n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lp bij het zoeken op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116000" y="2649600"/>
            <a:ext cx="867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Times New Roman"/>
              </a:rPr>
              <a:t>Informatievaardigheden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finitie informatievaardigh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evaardigheden is het vermogen om met informatie te werken en heeft alles te maken met het zoeken, vinden, beoordelen en gebruiken van informa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tappenplan Big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e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ese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valu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tappen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tar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derzoeksvraag formuleren: wat wil je w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deelv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schikbare 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weet je 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Zoe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paal trefwo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denk ook trefwoorden die iets met bovenstaande trefwoorden te maken hebben (maak een woordsp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denk synoniemen, Engelse benaming, enkel-, meerv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water"/>
          <p:cNvPicPr/>
          <p:nvPr/>
        </p:nvPicPr>
        <p:blipFill>
          <a:blip r:embed="rId1"/>
          <a:stretch/>
        </p:blipFill>
        <p:spPr>
          <a:xfrm>
            <a:off x="920880" y="2997360"/>
            <a:ext cx="3754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 V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1 Bronnen bepa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eve b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oordenb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cyclopedie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ranten/tijd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2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Indexen b.v.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startpagina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startnederland.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Zoekmachines b.v.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google.com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yahoo.com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zoekprof.nl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Specifieke zoekmachines b.v.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rtik+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library.wur.nl/gkn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vindi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://www.davindi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3 Vinden m.b.v. Goo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youtube.com/watch?v=cOVxOOH7LG0&amp;feature=player_detail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 op trefwoord of combinatie van trefwo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rk je lijst met trefwoorden helemaal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kijk de 1e 10 hits vluchtig en voer zo nodig een nieuwe zoekactie 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Sites van het meeste belang staan boven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Dineke Koch</cp:lastModifiedBy>
  <dcterms:modified xsi:type="dcterms:W3CDTF">2011-09-26T09:53:56Z</dcterms:modified>
  <cp:revision>25</cp:revision>
  <dc:subject/>
  <dc:title>PowerPoint-presentatie</dc:title>
</cp:coreProperties>
</file>