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ADF3-2C01-4CEA-BCEB-4FEEED5BE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587A-9172-4CDA-A5AA-41977F89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8301-AD46-44E9-A7D1-2C532529D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EFFD-BE2E-42AA-9FE1-D416FEE0D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07CA-D7F2-4283-A21F-97187CC1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2927-F38D-485A-9CE3-44DEEE39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9249-26F3-4658-AAD8-EC26198E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14BA-7683-481C-B6C0-F5BA1251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0F5F-30CD-4139-9653-CBF3C332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3524-9CFB-4058-8ECF-CB5EB5F9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02F3-EF52-4E63-9E3B-3B7D7350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338A-FA9F-489E-AB9A-E2F8241A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1397-3E20-447D-86F6-300E34192D4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nl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nl/advanced_search?hl=nl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library.wur.nl/gkn" TargetMode="External"/><Relationship Id="rId2" Type="http://schemas.openxmlformats.org/officeDocument/2006/relationships/hyperlink" Target="http://www.davindi.nl/" TargetMode="External"/><Relationship Id="rId3" Type="http://schemas.openxmlformats.org/officeDocument/2006/relationships/hyperlink" Target="http://www.ontwikkelcentrum.nl/ecc3/mbo/" TargetMode="External"/><Relationship Id="rId4" Type="http://schemas.openxmlformats.org/officeDocument/2006/relationships/hyperlink" Target="http://www.kb.nl/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tartpagina.nl/" TargetMode="External"/><Relationship Id="rId2" Type="http://schemas.openxmlformats.org/officeDocument/2006/relationships/hyperlink" Target="http://www.startnederland.nl/" TargetMode="External"/><Relationship Id="rId3" Type="http://schemas.openxmlformats.org/officeDocument/2006/relationships/hyperlink" Target="http://www.google.com/" TargetMode="External"/><Relationship Id="rId4" Type="http://schemas.openxmlformats.org/officeDocument/2006/relationships/hyperlink" Target="http://www.yahoo.com/" TargetMode="External"/><Relationship Id="rId5" Type="http://schemas.openxmlformats.org/officeDocument/2006/relationships/hyperlink" Target="http://www.zoekprof.nl/" TargetMode="External"/><Relationship Id="rId6" Type="http://schemas.openxmlformats.org/officeDocument/2006/relationships/hyperlink" Target="http://www.library.wur.nl/gkn/" TargetMode="External"/><Relationship Id="rId7" Type="http://schemas.openxmlformats.org/officeDocument/2006/relationships/hyperlink" Target="http://www.davindi.nl/" TargetMode="Externa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cOVxOOH7LG0&amp;feature=player_detailpage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Tips vinden met Goog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google.n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bruik aanhalingste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oek op: define:        :voor het vinden van defi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bruik *  voor het vervangen van ieder willekeurig wo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oleaans zoeken: and, or, not, near (of +, -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bruik enkelvoud/meervo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bruik synoniemen (bv. diergedrag of etholog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bruik geavanceerd zoeken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google.nl/advanced_search?hl=n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beperken zoekactie door taal/land select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zoeken op bestandsformaat (pdf, wo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zoeken binnen een site (dome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ijk bij [meer] en [nog veel meer] om google b.v. te gebruiken als reken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ombineer verschillende mogelijkheden van google b.v. straatnaam met maps of onderwerp met afbeeldingen of you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3.4 Overige zoekmachi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  Artik+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library.wur.nl/gkn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zoeken in tijdschriften, dossiers en naar websites geselecteerd door de W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vindi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davindi.n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zoekmachine van het onderwij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CC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ontwikkelcentrum.nl/ecc3/mbo/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esmateriaal AOC’s beschikbaar via Live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  Bibliotheekcatalogi zo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atalogus mediatheek A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kb.n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(Koninklijke bibliotheek), http://zoeken.bibliotheek.nl/  (openbare bibliothe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ttp://library.wur.nl/WebQuery/greeniportal (digitale bibliotheek voor het groene HB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4. Kiezen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kijk het webadres en de extensies. Wat kun je hieruit aflei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wordt de informatie aangebo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is de site overzichtelijk ingede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is er een inhoudspag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zijn er literatuurverwijzingen opgen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n site waar een ~ in voorkomt is meestal een persoonlijke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oordeel of de gevonden informatie geschikt voor je is en antwoord geeft op je zoekvra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4.Kiezen (vervolg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colofon (uitgever, redact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contact inform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zijn gegevens auteur/uitgever verme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ij ontbreken daarvan kijk op:  www.allwhois.com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ww.whoisfinder.com voor het achterhalen hier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rgelijk: www.martinlutherking.org en www.mlkday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5. Present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rsl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i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6. Evalu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el jezelf de volgende vra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een bevredigend antwoord gekre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is het zoekproces gega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kon anders/be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keus uit de genoemde opdrachten of kies zelf een onderwerp (gerelateerd aan de oplei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oek bij elk onderwerp 2 webpagina’s (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niet wikipedia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2 boeken en 2   tijdschriftartikelen (stap 3: vin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rmeld duidelijk de b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arrangeren.wikiwijs.nl/274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ngement met achtergrondinformatie bij deze 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digin.nl/  Site om je informatievaardigheden te toe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ww.zoeken-en-vinden.n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ulp bij het zoeken op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116000" y="2649600"/>
            <a:ext cx="867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Times New Roman"/>
              </a:rPr>
              <a:t>Informatievaardigheden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efinitie informatievaardighe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formatievaardigheden is het vermogen om met informatie te werken en heeft alles te maken met het zoeken, vinden, beoordelen en gebruiken van informat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tappenplan Big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a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o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i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ie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esent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valu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tappen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34900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Star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nderzoeksvraag formuleren: wat wil je we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deelv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schikbare tij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weet je 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2. Zoe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paal trefwo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denk ook trefwoorden die iets met bovenstaande trefwoorden te maken hebben (maak een woordsp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denk synoniemen, Engelse benaming, enkel-, meervo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water"/>
          <p:cNvPicPr/>
          <p:nvPr/>
        </p:nvPicPr>
        <p:blipFill>
          <a:blip r:embed="rId1"/>
          <a:stretch/>
        </p:blipFill>
        <p:spPr>
          <a:xfrm>
            <a:off x="920880" y="2997360"/>
            <a:ext cx="3754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3. Vi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3.1 Bronnen bepa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formatieve bo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oordenbo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ncyclopedieë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ranten/tijdschri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3.2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  Indexen b.v.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startpagina.n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startnederland.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  Zoekmachines b.v.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google.com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yahoo.com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www.zoekprof.nl/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  Specifieke zoekmachines b.v.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rtik+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ww.library.wur.nl/gkn/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vindi </a:t>
            </a: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http://www.davindi.n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3.3 Vinden m.b.v. Goog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youtube.com/watch?v=cOVxOOH7LG0&amp;feature=player_detail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oek op trefwoord of combinatie van trefwo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rk je lijst met trefwoorden helemaal 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kijk de 1e 10 hits vluchtig en voer zo nodig een nieuwe zoekactie 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 Sites van het meeste belang staan boven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28:48Z</dcterms:created>
  <dc:creator>Bedrijfsbureau</dc:creator>
  <dc:description/>
  <dc:language>en-US</dc:language>
  <cp:lastModifiedBy>Dineke Koch</cp:lastModifiedBy>
  <dcterms:modified xsi:type="dcterms:W3CDTF">2011-09-26T09:53:56Z</dcterms:modified>
  <cp:revision>25</cp:revision>
  <dc:subject/>
  <dc:title>PowerPoint-presentatie</dc:title>
</cp:coreProperties>
</file>