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6CB-28F5-4A57-8495-43BBFFA8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9FD-D2D2-4AE5-B84E-FAA26E53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B37-C55B-446A-B8FF-C959A2DC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082-A880-4712-8CC5-D5FECDE8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621-3C23-4EFE-AA77-3776C7E1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CAF-AE30-411A-8318-5C75D47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6FD-6281-4113-8205-3E4E52BF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1A7-01FC-4359-81ED-1586A111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D7F-C008-49A7-8EAC-C0586AB9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DB2-C54B-49B2-9F86-E5C5792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CD8-C66A-442A-9CE6-92A7BAA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BA1-3856-41DC-83F2-CF49BB4D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D414-C4CD-49E6-B5B8-20ECDC78FE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n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nl/advanced_search?hl=n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brary.wur.nl/gkn" TargetMode="External"/><Relationship Id="rId2" Type="http://schemas.openxmlformats.org/officeDocument/2006/relationships/hyperlink" Target="http://www.davindi.nl/" TargetMode="External"/><Relationship Id="rId3" Type="http://schemas.openxmlformats.org/officeDocument/2006/relationships/hyperlink" Target="http://www.ontwikkelcentrum.nl/ecc3/mbo/" TargetMode="External"/><Relationship Id="rId4" Type="http://schemas.openxmlformats.org/officeDocument/2006/relationships/hyperlink" Target="http://www.kb.nl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tpagina.nl/" TargetMode="External"/><Relationship Id="rId2" Type="http://schemas.openxmlformats.org/officeDocument/2006/relationships/hyperlink" Target="http://www.startnederland.nl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zoekprof.nl/" TargetMode="External"/><Relationship Id="rId6" Type="http://schemas.openxmlformats.org/officeDocument/2006/relationships/hyperlink" Target="http://www.library.wur.nl/gkn/" TargetMode="External"/><Relationship Id="rId7" Type="http://schemas.openxmlformats.org/officeDocument/2006/relationships/hyperlink" Target="http://www.davindi.nl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OVxOOH7LG0&amp;feature=player_detailpag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Tips vinden met Goo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aanhalingste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: define:        :voor het vinden van defi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*  voor het vervangen van ieder willekeurig w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oleaans zoeken: and, or, not, near (of +, 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enkelvoud/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synoniemen (bv. diergedrag of etholo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geavanceerd zoeken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/advanced_search?hl=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beperken zoekactie door taal/land selec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op bestandsformaat (pdf,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binnen een site (dom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jk bij [meer] en [nog veel meer] om google b.v. te gebruiken als reken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mbineer verschillende mogelijkheden van google b.v. straatnaam met maps of onderwerp met afbeeldingen of you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4 Overige zoek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library.wur.nl/gk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en in tijdschriften, dossiers en naar websites geselecteerd door de W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davindi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machine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C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ontwikkelcentrum.nl/ecc3/mbo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smateriaal AOC’s beschikbaar via Liv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Bibliotheekcatalogi z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atalogus mediatheek 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kb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(Koninklijke bibliotheek), http://zoeken.bibliotheek.nl/  (openbare biblioth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library.wur.nl/WebQuery/greeniportal (digitale bibliotheek voor het groene H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 Kiezen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het webadres en de extensies. Wat kun je hieruit aflei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wordt de informatie aangebo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de site overzichtelijk inged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er een inhoudspa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er literatuurverwijzingen opgen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site waar een ~ in voorkomt is meestal een persoonlijke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oordeel of de gevonden informatie geschikt voor je is en antwoord geeft op je zoekvr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Kiezen (vervol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lofon (uitgever, redac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ntact inform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gegevens auteur/uitgever verme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ontbreken daarvan kijk op:  www.allwhois.co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whoisfinder.com voor het achterhalen hier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gelijk: www.martinlutherking.org en www.mlkday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5. 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6. 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l jezelf de volgende vra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een bevredigend antwoord gekre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is het zoekproces geg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kon anders/b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keus uit de genoemde opdrachten of kies zelf een onderwerp (gerelateerd aan de op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bij elk onderwerp 2 webpagina’s 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iet wikipedi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 boeken en 2   tijdschriftartikelen (stap 3: vi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meld duidelijk de 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arrangeren.wikiwijs.nl/27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ment met achtergrondinformatie bij dez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digin.nl/  Site om je informatievaardigheden te toe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zoeken-en-vinden.n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lp bij het zoeken op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16000" y="2649600"/>
            <a:ext cx="86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Informatievaardighede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informatievaardig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aardigheden is het vermogen om met informatie te werken en heeft alles te maken met het zoeken, vinden, beoordelen en gebruiken van informa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 Big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e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t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vraag formuleren: wat wil je w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deel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ikbare 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weet je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Zoe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paal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ook trefwoorden die iets met bovenstaande trefwoorden te maken hebben (maak een woords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synoniemen, Engelse benaming, enkel-, 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water"/>
          <p:cNvPicPr/>
          <p:nvPr/>
        </p:nvPicPr>
        <p:blipFill>
          <a:blip r:embed="rId1"/>
          <a:stretch/>
        </p:blipFill>
        <p:spPr>
          <a:xfrm>
            <a:off x="920880" y="2997360"/>
            <a:ext cx="375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 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1 Bronnen bepa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e 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orden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cycloped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nten/tijd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2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Indexen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tartpagina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tartnederland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Zoekmachines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oogle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yahoo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zoekprof.nl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Specifieke zoekmachines b.v.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library.wur.nl/gk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davindi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3 Vinden m.b.v. Goo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youtube.com/watch?v=cOVxOOH7LG0&amp;feature=player_detail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 trefwoord of combinatie van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rk je lijst met trefwoorden helemaal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de 1e 10 hits vluchtig en voer zo nodig een nieuwe zoekactie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Sites van het meeste belang staan boven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Dineke Koch</cp:lastModifiedBy>
  <dcterms:modified xsi:type="dcterms:W3CDTF">2011-09-26T09:53:56Z</dcterms:modified>
  <cp:revision>25</cp:revision>
  <dc:subject/>
  <dc:title>PowerPoint-presentatie</dc:title>
</cp:coreProperties>
</file>