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69E8-D41F-45FC-85F8-09141B9F3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4835-DC50-4E21-B80F-B8EF4423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30A0-CA7F-4A5F-B6C4-E1009B1A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1401-3DF7-492C-8D25-77B25331C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F61D-F61F-4530-9C2C-DA6C75F48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35AD-1265-4EDF-B460-C9577F35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E8FF-050E-42E7-89F6-A6E71CCE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547E-42FF-4A7E-9A93-F299FF7D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48B5-1638-45AF-A885-FE9FC56A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EB17-88AB-4037-B560-B6ABCE75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1C9F-EC08-4604-A0B7-9340EE48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2420-79FF-4C9E-93C9-BE80DD98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155F-4801-4844-89FE-3D4B0215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EA8B-DA06-4563-BDD6-0872B9BF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B40F-B04B-4D0E-827C-EF1EE2D6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E2C0-CC09-4DF7-B3C4-F7DB5B29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5BB5-FE9B-493F-86F6-0C847BC21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5403-BE34-491D-9D21-1F8B26B7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FF1B-C0C9-48D1-AB01-869D12DB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9F9A-F4E0-4F87-A8C8-988A0784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338F-1331-4671-BFAD-BA469F20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4B54-CB1B-4B8C-981D-194DE424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1C9E-AEA1-4073-AC04-AD621F6F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0F47-C216-4942-AFEC-946A2A97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0BF1-2647-423E-822B-D94E3969EF5C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507B-8FBE-402B-A4A4-AA396653F503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meten van een groot terre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 flipV="1">
            <a:off x="3924360" y="1557000"/>
            <a:ext cx="792000" cy="30956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24360" y="1557360"/>
            <a:ext cx="1224000" cy="3589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1916280"/>
            <a:ext cx="1295280" cy="2017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643280" y="3933720"/>
            <a:ext cx="1873440" cy="7192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 flipH="1" flipV="1">
            <a:off x="3924360" y="1557000"/>
            <a:ext cx="792000" cy="3095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24360" y="1557360"/>
            <a:ext cx="1224000" cy="358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1916280"/>
            <a:ext cx="1295280" cy="2017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643280" y="3933720"/>
            <a:ext cx="1873440" cy="719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24360" y="1557360"/>
            <a:ext cx="2519280" cy="2376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723960"/>
            <a:ext cx="3240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en doe je als volg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alle omtreksma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 een diagona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itwerken doe je als volg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op schaal 1: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eerst de ene drieho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daarna de andere drieho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s het niet past: opnieuw me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716360" y="3357360"/>
            <a:ext cx="1008000" cy="122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787640" y="1916280"/>
            <a:ext cx="36036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a nu aan het we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Meet het voormalige maisveld op en teken het uit op papi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5:33:35Z</dcterms:created>
  <dc:creator>default</dc:creator>
  <dc:description/>
  <dc:language>en-US</dc:language>
  <cp:lastModifiedBy>default</cp:lastModifiedBy>
  <dcterms:modified xsi:type="dcterms:W3CDTF">2009-09-15T09:29:16Z</dcterms:modified>
  <cp:revision>4</cp:revision>
  <dc:subject/>
  <dc:title>Inmeten van een groot terrein</dc:title>
</cp:coreProperties>
</file>