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4A8E-E4D8-4F51-91E7-6EAC0157A19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Ø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ED6-97E9-4443-B510-7AEE03E7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DE9-CADF-4E06-9D4B-7FAF43C0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34D-484F-4CBD-88E6-C56B2093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68A-BD70-4E95-AFE7-ED985B48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87F9-6067-4249-9B64-C83B8C37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8F6B-94EB-432B-B182-FFA74D2D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BBAA-61DD-45F8-A1DA-8409D553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DE02-E469-4B3E-9254-2A71C6E6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BCD3-9EB8-49A4-A1CD-92CB56FC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0F1E-4488-40C0-ACEE-F210F3B4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D6E9-4233-463C-8F3A-54313B82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6A8-ADCB-41E3-80ED-4FC7C561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FCC6-FC22-42E2-B37C-04E2EA77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2F0F-F731-498C-A5CD-C3F665DB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EA87-6F0E-4CF1-87A2-98F62428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703C-7AF9-4415-A2CC-1BAFE427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20AD-6246-43DB-A167-98F05EC3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644-05D3-43CC-9C84-D2A0A64B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BEA-DA2E-40F5-81E0-73B7214A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8F6-ED6A-4B65-89D3-149454D1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640-1824-4A89-B1EB-7AAD8B17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84B-D739-4F9D-BE52-5EC6E5A9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2E5-C984-4A38-9CF1-38BB14F8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F68-CD2E-4D11-B083-3B90974C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9082-C29F-42CA-BBC4-40CD1310636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7F0A-4E2A-4013-91CA-1DB54DB93B8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03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K plomb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29600" cy="1981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20480" y="4508640"/>
            <a:ext cx="629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Verdana"/>
              </a:rPr>
              <a:t>http://www.naktuinbouw.nl/nederlands/nederlands.htm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osplantso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erplanten is beter dan afpenn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Jong plantsoen geeft minder uitv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Jong plantsoen =  2 jarig, beuk 3-jarig, naaldhout 3 jarig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Wortelgestel compact met haar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419120"/>
            <a:ext cx="9144000" cy="54388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oorbeelde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39600"/>
            <a:ext cx="8496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waliteitsverlies door v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3311280" cy="3057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076720" y="2579760"/>
            <a:ext cx="369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Afwijkingshoek m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maximaal 30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º zijn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ze plant is onbruikba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ditie van de 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Uitdrog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Uitgedroogde topp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Rimpelige b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Lichtere kleur wortels</a:t>
            </a:r>
            <a:br>
              <a:rPr sz="2800"/>
            </a:b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Afdekken bij vervo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Niet leveren op maandag/vrijda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Direkt opkuil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itwendige kwaliteit Bom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 recht en onbeschadig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hoogte 18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dikte op 1 m boven de gro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stens 50% bezet met 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stens 4 sterke takken van max.  3 jr. ou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optak + 3 goed geplaatste zij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 boom moet verplant zij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rtelgestel van bom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oldoende vertakt, regelmatig gespreid, doorlopende hood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Geen knikken, rondgegroeide of wurg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Geen ziekt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wortelgestel=4 tot 6Xstamomva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luit of container: regelmatig spreidend verdee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raadkorven aanbevol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530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cc"/>
                </a:solidFill>
                <a:latin typeface="Arial"/>
              </a:rPr>
              <a:t>Na het ingazen wordt bij zware kluiten een ijzeren draadkorf er omheen getrokken om de kluit te beschermen.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rtering en maatvoer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m. omtrek op 1 m. Hoo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Tot 20 cm trapsgewijs per 2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: Betula costata 6-8 1 x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Tot 50 cm trapsgewijs per 5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: Acer pseudoplatanus 20-25 3 X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oven 50 cm trapsgewijs per 10 c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. Boom-X 50-6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 is kwalite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wendige kwaliteit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dentiteit (soort- en rasechthei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zondhei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itwendige kwaliteit (vorm en opbou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ologische teel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heems materiaal -&gt; rassenlij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leurco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od betekent: sortering 10-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12-1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lauw betekent: sortering 14-1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el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16-1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od betekent: sortering 18-2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20-2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lauw betekent: sortering 25-3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Boomkwekersjargon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olitair (So) natuurlijke vorm is bij het kweekproces gehandhaaf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oom (B) takken op min. 18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emanteld: dunnen zijtakken over hele stamlen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NAKB gekeurd (N) plombe aanwezi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pil (S) jonge bo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Boomkwekersjargon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veerde spil (GS) jonge boom, regelmatig met dunne zijtakken beze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er (V) recht, doorgaande kop en regelmatig bezet met zij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067280" y="692280"/>
            <a:ext cx="1836720" cy="6165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666720"/>
            <a:ext cx="3554280" cy="6191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156360" y="692280"/>
            <a:ext cx="27050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Pot (P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Pot 12 cm (P 12) </a:t>
            </a: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  12 cm of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tainer (C) meer dan 1 li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tainer 2 liter (C2) inhoud: 2 li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-5 tak (3-5T ): 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 2-tak: min. 2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60-80 lengte vanaf wortelh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80-op lengte vanaf wortelh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716360" y="2133720"/>
            <a:ext cx="505080" cy="5540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0 éénjarige zaail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1 tweejarige zaailing, verspee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a1 tweejarige zaailing afgepe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2 driejarige zaailing als éénjarige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2+1 driejarige zaailing als tweejarige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2279880" cy="3284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351560" y="3573360"/>
            <a:ext cx="1792440" cy="3284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571400" cy="309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2086200" cy="3095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356000" y="189000"/>
            <a:ext cx="1817640" cy="302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516720" y="189000"/>
            <a:ext cx="2224080" cy="3024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0" y="3500280"/>
            <a:ext cx="2228760" cy="3357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2268360" y="3500280"/>
            <a:ext cx="24019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1+1: na elk groei-jaar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0+1: één-jarig beworteld 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0-12: stamomtrek op 1 m hoo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Met kluit (M.K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Ingegaasd (I.G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Draadkorf nr. 2, of 3 of 4 of 5 =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draadkorf 50 of 60 of 70 of 9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lmaat 12-14 omvang van de bol in c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bbele neus (DN) alleen bij Narci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kwaliteit alleen bij rozen, min 3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 kwaliteit alleen bij rozen, min 2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Klik op  het boompje voor meer informati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03480" y="4740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281480" y="3622680"/>
          <a:ext cx="158580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622680"/>
                    <a:ext cx="15858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slag en groe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hankelijk va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wendige kwalite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itwendige kwalite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diti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wendige kwal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Erfelijk bepaa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Herkomst zaad, stek- enthout (de identiteit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Zaden -&gt; NAK-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tekken – enten -&gt; “select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ultuurvarieteiten (CV’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itwendige kwal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Afhankelijk van teelt- en vermeerderingswijz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ijv. één-jarig geënt kan veel groter zijn dan twee-jarig 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Vermeerdingswijz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omer- of winter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nten (op een ondersta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culeren (op een ondersta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aai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eltwijz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Zaaien of ste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Afpenn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erplant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Etoiler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eltwijz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ten die ruim worden opgekweekt vragen meer grond en zijn duurd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ten die weinig ruimte krijgen worden wel lang maar niet di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j veel gewassen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ngte/dikteverhoud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imum len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dent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In Nederland toezicht door de NAKtuinbouw d.m.v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tandaardkeuring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Europese richtlijn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Nederlandse wetgev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ertificering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Fytosanitaire inspect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Plantenziektekundige dien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43:03Z</dcterms:created>
  <dc:creator>Peter</dc:creator>
  <dc:description/>
  <dc:language>en-US</dc:language>
  <cp:lastModifiedBy>default</cp:lastModifiedBy>
  <dcterms:modified xsi:type="dcterms:W3CDTF">2008-01-30T07:22:18Z</dcterms:modified>
  <cp:revision>10</cp:revision>
  <dc:subject/>
  <dc:title>Slide 1</dc:title>
</cp:coreProperties>
</file>