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C6B9-F590-4EB8-AF0A-5318B1F3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5F93-DBDB-4EAB-A71B-E09A56FF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761B-68CA-4C94-8672-C6E2AF2B8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1D27-8438-484C-92B4-AEC62167C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1038-AEBC-4CE0-86B9-F64A0315D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07BD-3476-453C-B35D-338D6F8E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FC58-0273-4F62-A0F4-B5C98D4F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A7F4-6681-4CD5-A1C1-3D0174E3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5FA8-46B1-4178-886C-30A484F7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1531-7C98-4A27-8CBD-5B3B567B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B030-FFF0-44DD-A861-699A2BE9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7656-3EA6-444D-A657-488C5BD8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03FD-737C-4260-8DC3-86618C54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9FB3-E490-4DC8-B71A-B99C2469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767D-5EE8-414B-9B19-35F15393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7920-07FA-4B06-8894-76912854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E721-5353-46A1-8A08-3A6AF869C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EE87-B056-406B-AB70-9FB85DD1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604F-1B62-459A-9127-4406E5AF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8BAD-EFAB-437B-A3C0-82728B8C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AA95-E48E-4793-9140-2BBBB578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B546-FBAB-40C7-896B-683E572B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E9DE-AD83-4918-B4AF-40B0B648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9360-A8BD-46B7-B1F7-05F0044C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9F51-09C5-4475-ADA7-EFED4F8BB885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C2DD-FFF8-4BAB-99A2-E5B1EE5B95FD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Onderzoek van de bodem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at kun je onderzoek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bouw van het 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Grondsoor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aangewaa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aangespo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em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rivier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zee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vel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 die door wind zijn neergeleg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dek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dui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zandkorrels zijn afgeronde kiezelsteen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schuurpapier, je voelt de korrels duidelij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 weinig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 die door het water zijn afgez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ivier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rrels zijn scher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grof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 weinig of geen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leemhoudende 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em is een zeer fijne zandkorr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heeft eigenschappen als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houdt veel vocht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roogt op in harde bon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fijn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Kleigronde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r fijn verweerd gesteentemateria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elt tussen de vingers in vochtige toestand aan als een smeermid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udt veel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l plantenvoeden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Zavel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rrelgrootte ligt tussen zand en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oede vocht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rettig te bewerken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een smeermiddel met wat fijn zand er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tijd van organ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aagveen (wordt onder water gevorm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veen (wordt boven de waterspiegel gevormd) is bijna verdw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1:09:10Z</dcterms:created>
  <dc:creator>Peter</dc:creator>
  <dc:description/>
  <dc:language>en-US</dc:language>
  <cp:lastModifiedBy>Peter</cp:lastModifiedBy>
  <dcterms:modified xsi:type="dcterms:W3CDTF">2008-11-20T16:57:56Z</dcterms:modified>
  <cp:revision>5</cp:revision>
  <dc:subject/>
  <dc:title>Werkvoorbereiding</dc:title>
</cp:coreProperties>
</file>