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31606-2995-4D65-BCD1-DCC62807612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Ø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B988-7F60-40A5-8398-FEBDF21B8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F478-415C-4FEE-86D0-BE4CFC1D5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26B8-EA83-4CA8-8EA5-E895CCB40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ED95-3556-40C7-817D-67FEEF376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CD306-F393-4662-8950-4320F5E1F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2E045-C890-4E21-BEE9-95DB2F2BA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4A4D3-E314-4DC5-B6DF-B5724A170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F67BC-6E6C-42B5-B051-3928376DC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3FFA1-F79A-418A-9A81-E5777BC98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52350-B774-44E6-84EB-567EEC5FE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96443-B580-4024-8FC2-974B8720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A4AB-068A-481E-9C1A-A9D78450D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764A9-5AFC-4AA3-B911-A324E230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EC19A-5E7B-4CC7-A187-E4317A51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61280-36D9-4FD1-B9E1-6ED9A1ACE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FDE9D-A108-430D-9BDA-8929BD25D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F2550-059E-41D3-A0E2-BC71B81C6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F112-31BF-45FF-BF93-332D5E40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2DDC-26B8-4CB6-A128-23A412124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279F-E80F-427C-A6DC-528585AB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99B4-2BA9-410E-ABA6-923A46339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87EB-FA7A-4A03-96CC-53816B85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74EA-B219-497D-B07D-621FD4F4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9B67-5AD8-4284-BF1E-79745650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78731-0222-4247-9217-AD7392EFCFE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8224C-1947-41C2-89D0-C6E6D7389AF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038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NAK plomb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8229600" cy="19810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320480" y="4508640"/>
            <a:ext cx="629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Verdana"/>
              </a:rPr>
              <a:t>http://www.naktuinbouw.nl/nederlands/nederlands.htm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osplantsoe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Verplanten is beter dan afpenn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Jong plantsoen geeft minder uitva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Jong plantsoen =  2 jarig, beuk 3-jarig, naaldhout 3 jarig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Wortelgestel compact met haarwortel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1419120"/>
            <a:ext cx="9144000" cy="54388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Voorbeelden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24000" y="39600"/>
            <a:ext cx="8496000" cy="677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Kwaliteitsverlies door verplante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4360" y="2492280"/>
            <a:ext cx="3311280" cy="30574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076720" y="2579760"/>
            <a:ext cx="369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Verdana"/>
              </a:rPr>
              <a:t>Afwijkingshoek ma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Verdana"/>
              </a:rPr>
              <a:t>maximaal 30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º zijn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eze plant is onbruikbaa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ditie van de plante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Uitdroging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Verdana"/>
              </a:rPr>
              <a:t>Uitgedroogde topp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Verdana"/>
              </a:rPr>
              <a:t>Rimpelige bas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Verdana"/>
              </a:rPr>
              <a:t>Lichtere kleur wortels</a:t>
            </a:r>
            <a:br>
              <a:rPr sz="2800"/>
            </a:br>
            <a:r>
              <a:rPr b="0" lang="nl-NL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Verdana"/>
              </a:rPr>
              <a:t>Afdekken bij vervoe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Verdana"/>
              </a:rPr>
              <a:t>Niet leveren op maandag/vrijda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Verdana"/>
              </a:rPr>
              <a:t>Direkt opkuil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Uitwendige kwaliteit Bome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tam recht en onbeschadig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tamhoogte 180 c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tamdikte op 1 m boven de gron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instens 50% bezet met takk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instens 4 sterke takken van max.  3 jr. ou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Koptak + 3 goed geplaatste zijtakk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e boom moet verplant zij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ortelgestel van bome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Voldoende vertakt, regelmatig gespreid, doorlopende hoodwortel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Geen knikken, rondgegroeide of wurgwortel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Geen ziekt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Ø wortelgestel=4 tot 6Xstamomvang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Kluit of container: regelmatig spreidend verdeel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raadkorven aanbevol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6624720" cy="496728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530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cc"/>
                </a:solidFill>
                <a:latin typeface="Arial"/>
              </a:rPr>
              <a:t>Na het ingazen wordt bij zware kluiten een ijzeren draadkorf er omheen getrokken om de kluit te beschermen.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ortering en maatvoer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cm. omtrek op 1 m. Hoogt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Tot 20 cm trapsgewijs per 2 c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Vb: Betula costata 6-8 1 x verplan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Tot 50 cm trapsgewijs per 5 c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Vb: Acer pseudoplatanus 20-25 3 X verplan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Boven 50 cm trapsgewijs per 10 cm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Vb. Boom-X 50-60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at is kwaliteit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nwendige kwaliteit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dentiteit (soort- en rasechtheid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Gezondhei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Uitwendige kwaliteit (vorm en opbouw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iologische teel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nheems materiaal -&gt; rassenlijs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Kleurco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ood betekent: sortering 10-12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it betekent: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ortering 12-14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lauw betekent: sortering 14-16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eel betekent: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ortering 16-18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ood betekent: sortering 18-20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it betekent: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ortering 20-25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lauw betekent: sortering 25-30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Boomkwekersjargon 1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Solitair (So) natuurlijke vorm is bij het kweekproces gehandhaaf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Boom (B) takken op min. 180 c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Bemanteld: dunnen zijtakken over hele stamlengt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NAKB gekeurd (N) plombe aanwezig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Spil (S) jonge boo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Boomkwekersjargon 2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eveerde spil (GS) jonge boom, regelmatig met dunne zijtakken beze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Veer (V) recht, doorgaande kop en regelmatig bezet met zijtakk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067280" y="692280"/>
            <a:ext cx="1836720" cy="61657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250920" y="666720"/>
            <a:ext cx="3554280" cy="61912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6156360" y="692280"/>
            <a:ext cx="270504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anduidingen 1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Pot (P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Pot 12 cm (P 12) </a:t>
            </a: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  12 cm of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Ø c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ontainer (C) meer dan 1 lite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ontainer 2 liter (C2) inhoud: 2 lite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3-5 tak (3-5T ):  gesteltakk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f 2-tak: min. 2 gesteltakk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60-80 lengte vanaf wortelhal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80-op lengte vanaf wortelhal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4716360" y="2133720"/>
            <a:ext cx="505080" cy="55404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anduidingen 2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1+0 éénjarige zaailing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1+1 tweejarige zaailing, verspeen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1a1 tweejarige zaailing afgepen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1+2 driejarige zaailing als éénjarige verplan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2+1 driejarige zaailing als tweejarige verplan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003640" y="3573360"/>
            <a:ext cx="2279880" cy="32846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7351560" y="3573360"/>
            <a:ext cx="1792440" cy="3284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1571400" cy="30956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2050920" y="189000"/>
            <a:ext cx="2086200" cy="30956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4356000" y="189000"/>
            <a:ext cx="1817640" cy="30240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6"/>
          <a:stretch/>
        </p:blipFill>
        <p:spPr>
          <a:xfrm>
            <a:off x="6516720" y="189000"/>
            <a:ext cx="2224080" cy="30240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0" y="3500280"/>
            <a:ext cx="2228760" cy="33577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8"/>
          <a:stretch/>
        </p:blipFill>
        <p:spPr>
          <a:xfrm>
            <a:off x="2268360" y="3500280"/>
            <a:ext cx="240192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anduidingen 3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1+1+1: na elk groei-jaar verplan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0+1: één-jarig beworteld stek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10-12: stamomtrek op 1 m hoogt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Met kluit (M.K.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Ingegaasd (I.G.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Draadkorf nr. 2, of 3 of 4 of 5 =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Ø draadkorf 50 of 60 of 70 of 90 c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anduidingen 4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olmaat 12-14 omvang van de bol in cm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ubbele neus (DN) alleen bij Narci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 kwaliteit alleen bij rozen, min 3 gesteltakk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 kwaliteit alleen bij rozen, min 2 gesteltakk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Klik op  het boompje voor meer informatie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03480" y="4740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281480" y="3622680"/>
          <a:ext cx="1585800" cy="132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1480" y="3622680"/>
                    <a:ext cx="1585800" cy="13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anslag en groei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fhankelijk van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nwendige kwalitei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Uitwendige kwalitei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onditi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4000" y="2565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INDE PRESENTATI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nwendige kwalitei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Erfelijk bepaal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Herkomst zaad, stek- enthout (de identiteit)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Zaden -&gt; NAK-B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Stekken – enten -&gt; “select”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Cultuurvarieteiten (CV’s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Uitwendige kwalitei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Afhankelijk van teelt- en vermeerderingswijz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Bijv. één-jarig geënt kan veel groter zijn dan twee-jarig stek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Vermeerdingswijz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2636640"/>
            <a:ext cx="8229600" cy="34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Zomer- of winterstek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Enten (op een onderstam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Oculeren (op een onderstam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Zaai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eeltwijze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Zaaien of stekk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Afpenn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Verplant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Etoiler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eeltwijz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lanten die ruim worden opgekweekt vragen meer grond en zijn duurde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lanten die weinig ruimte krijgen worden wel lang maar niet dik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ij veel gewassen: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lengte/dikteverhouding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inimum lengt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dentitei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In Nederland toezicht door de NAKtuinbouw d.m.v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Standaardkeuring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Verdana"/>
              </a:rPr>
              <a:t>Europese richtlijne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Verdana"/>
              </a:rPr>
              <a:t>Nederlandse wetgeving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Certificering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Fytosanitaire inspecti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Verdana"/>
              </a:rPr>
              <a:t>Plantenziektekundige diens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4T19:43:03Z</dcterms:created>
  <dc:creator>Peter</dc:creator>
  <dc:description/>
  <dc:language>en-US</dc:language>
  <cp:lastModifiedBy>default</cp:lastModifiedBy>
  <dcterms:modified xsi:type="dcterms:W3CDTF">2008-01-30T07:22:18Z</dcterms:modified>
  <cp:revision>10</cp:revision>
  <dc:subject/>
  <dc:title>Slide 1</dc:title>
</cp:coreProperties>
</file>